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42B-ECA4-4F65-BE2B-557C5AE2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B03-7C63-4853-ACB9-B607C39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E70-D6A3-41BC-A159-CDB9B16D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99B-3F68-48F6-809B-93C14D7F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4C3-5FB9-430F-BE9F-4E83F870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E01-17BA-4326-BF96-1ED59AD6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EB0-C378-4F13-A36C-24D2300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69E-036E-4EF2-9AD3-EC3233C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8C4-4B51-40CD-9049-D6389D99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70F-E60B-45BB-B360-5B10F4C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922-2893-41A4-B0F8-5AD9EFFB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E8A-C034-41AA-B01D-87BA654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D65-F4FA-4F2C-BF35-90ECC098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1439640" cy="13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0" y="1557360"/>
            <a:ext cx="177624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59640" y="1700280"/>
            <a:ext cx="1806480" cy="144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6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1906560" cy="117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08360" y="2276640"/>
            <a:ext cx="1833480" cy="146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443640" y="1844640"/>
            <a:ext cx="2192400" cy="188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5128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738440" cy="187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1712880" cy="236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492360" y="191628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6400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4734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5928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803600" cy="154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020000" y="1916280"/>
            <a:ext cx="1668240" cy="140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492360" y="2421000"/>
            <a:ext cx="2421000" cy="1025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19640" y="4406760"/>
            <a:ext cx="208728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419640" y="4540320"/>
            <a:ext cx="208728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1083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44067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659280" y="454032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1871640" cy="1446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2133720"/>
            <a:ext cx="2382840" cy="1846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732720" y="2421000"/>
            <a:ext cx="1904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440208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1512720" cy="180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780000" y="2060640"/>
            <a:ext cx="1612800" cy="173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2340000" cy="1380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92360" y="440208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4400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1-20T08:21:58Z</dcterms:modified>
  <cp:revision>30</cp:revision>
  <dc:subject/>
  <dc:title>Diapositive 1</dc:title>
</cp:coreProperties>
</file>