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8.wmf" ContentType="image/x-wmf"/>
  <Override PartName="/ppt/media/image11.jpeg" ContentType="image/jpeg"/>
  <Override PartName="/ppt/media/image10.wmf" ContentType="image/x-wmf"/>
  <Override PartName="/ppt/media/image6.png" ContentType="image/png"/>
  <Override PartName="/ppt/media/image14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3.wmf" ContentType="image/x-wmf"/>
  <Override PartName="/ppt/media/image22.wmf" ContentType="image/x-wmf"/>
  <Override PartName="/ppt/media/debut.wav" ContentType="audio/x-wav"/>
  <Override PartName="/ppt/media/image9.wmf" ContentType="image/x-wmf"/>
  <Override PartName="/ppt/media/image2.wmf" ContentType="image/x-wmf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3872-5B62-42CD-9F14-52EC37333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DCDB-DC48-4336-8E41-C0860EF3C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447A-9007-4D45-ACAC-69B9255CA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B918-7665-4ECB-B8BE-2682B71AF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8308-F434-4A6C-9897-22F7B7E2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7241-1751-49E3-8115-AF60C758E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3F43-2F08-4C29-B716-467743A35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B109-331E-4D52-9D29-F054F0F84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DB6C-D6D7-4E71-A63D-F59A59AD2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12F4-27E2-499F-9EAA-73382D93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2E41-4DF0-4684-9549-76604978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9649-7929-4B55-A956-7B268FD8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FFB54-8EA4-43D8-BEA8-2F79271C13B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debut.wav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42920" y="291960"/>
            <a:ext cx="3529080" cy="3137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076720" y="1628640"/>
            <a:ext cx="165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m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ebu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042920" y="549360"/>
            <a:ext cx="4259160" cy="568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m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042920" y="765000"/>
            <a:ext cx="417672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m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101680" y="1663560"/>
            <a:ext cx="4102200" cy="4429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547640" y="476280"/>
            <a:ext cx="48960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m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476440" y="1693800"/>
            <a:ext cx="4189320" cy="34686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042920" y="765000"/>
            <a:ext cx="691380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m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90600" y="762120"/>
            <a:ext cx="4759560" cy="53308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1692360" y="189000"/>
            <a:ext cx="62643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m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5120" y="1138320"/>
            <a:ext cx="8210520" cy="4578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24000" y="476280"/>
            <a:ext cx="820872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m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112760" y="1722600"/>
            <a:ext cx="6915240" cy="34099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324000" y="476280"/>
            <a:ext cx="820872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m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624040" y="1712880"/>
            <a:ext cx="3892680" cy="34322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2050920" y="476280"/>
            <a:ext cx="48261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m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484360" y="1341360"/>
            <a:ext cx="4175280" cy="4175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042920" y="765000"/>
            <a:ext cx="691380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m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616040" y="1459080"/>
            <a:ext cx="5908680" cy="39398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042920" y="765000"/>
            <a:ext cx="691380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m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476360" y="966960"/>
            <a:ext cx="6191280" cy="49212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324000" y="476280"/>
            <a:ext cx="820872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m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159000" y="1469880"/>
            <a:ext cx="2826000" cy="3916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547640" y="476280"/>
            <a:ext cx="48960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m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340000" y="1197000"/>
            <a:ext cx="4464000" cy="4464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24000" y="476280"/>
            <a:ext cx="820872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4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m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843280" y="476280"/>
            <a:ext cx="2746440" cy="57592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979640" y="476280"/>
            <a:ext cx="410508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6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m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68360" y="2085840"/>
            <a:ext cx="8105760" cy="1968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042920" y="765000"/>
            <a:ext cx="691380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42920" y="714240"/>
            <a:ext cx="7058160" cy="54295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m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042920" y="476280"/>
            <a:ext cx="676908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m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584440" y="1693800"/>
            <a:ext cx="3975120" cy="3468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835280" y="476280"/>
            <a:ext cx="489564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m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484360" y="765000"/>
            <a:ext cx="2876760" cy="5328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547640" y="476280"/>
            <a:ext cx="48960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m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279520" y="1720800"/>
            <a:ext cx="4583160" cy="34164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042920" y="765000"/>
            <a:ext cx="691380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m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279520" y="2006640"/>
            <a:ext cx="4583160" cy="28432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050920" y="333360"/>
            <a:ext cx="48960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m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826920" y="1773360"/>
            <a:ext cx="6337440" cy="41432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042920" y="765000"/>
            <a:ext cx="691380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20:32:02Z</dcterms:created>
  <dc:creator>ev</dc:creator>
  <dc:description/>
  <dc:language>en-US</dc:language>
  <cp:lastModifiedBy>ecole</cp:lastModifiedBy>
  <dcterms:modified xsi:type="dcterms:W3CDTF">2009-10-07T13:22:41Z</dcterms:modified>
  <cp:revision>32</cp:revision>
  <dc:subject/>
  <dc:title>Diapositive 1</dc:title>
</cp:coreProperties>
</file>