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5701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63696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5701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63696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709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4.wmf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wmf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7.wmf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" descr=""/>
          <p:cNvPicPr/>
          <p:nvPr/>
        </p:nvPicPr>
        <p:blipFill>
          <a:blip r:embed="rId1"/>
          <a:stretch/>
        </p:blipFill>
        <p:spPr>
          <a:xfrm>
            <a:off x="7053120" y="247680"/>
            <a:ext cx="1176480" cy="1058760"/>
          </a:xfrm>
          <a:prstGeom prst="rect">
            <a:avLst/>
          </a:prstGeom>
          <a:ln w="0">
            <a:noFill/>
          </a:ln>
        </p:spPr>
      </p:pic>
      <p:sp>
        <p:nvSpPr>
          <p:cNvPr id="39" name=""/>
          <p:cNvSpPr/>
          <p:nvPr/>
        </p:nvSpPr>
        <p:spPr>
          <a:xfrm>
            <a:off x="8290080" y="193680"/>
            <a:ext cx="1304640" cy="11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[e]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>
            <a:off x="1212840" y="4710240"/>
            <a:ext cx="1177920" cy="2849400"/>
          </a:xfrm>
          <a:prstGeom prst="blockArc">
            <a:avLst>
              <a:gd name="adj1" fmla="val 10453573"/>
              <a:gd name="adj2" fmla="val 346427"/>
              <a:gd name="adj3" fmla="val 8625"/>
            </a:avLst>
          </a:prstGeom>
          <a:solidFill>
            <a:srgbClr val="333333"/>
          </a:solidFill>
          <a:ln w="936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303640" y="4710240"/>
            <a:ext cx="1177920" cy="2849400"/>
          </a:xfrm>
          <a:prstGeom prst="blockArc">
            <a:avLst>
              <a:gd name="adj1" fmla="val 10453573"/>
              <a:gd name="adj2" fmla="val 346427"/>
              <a:gd name="adj3" fmla="val 8625"/>
            </a:avLst>
          </a:prstGeom>
          <a:solidFill>
            <a:srgbClr val="333333"/>
          </a:solidFill>
          <a:ln w="936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68360" y="4356000"/>
            <a:ext cx="800280" cy="8002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0" y="7164360"/>
            <a:ext cx="5977080" cy="2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62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taper sur la syllabe pour faire apparaître la bou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31640" y="179280"/>
            <a:ext cx="4332600" cy="3468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7053120" y="247680"/>
            <a:ext cx="1176480" cy="10587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8290080" y="193680"/>
            <a:ext cx="1304640" cy="11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[e]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212840" y="4710240"/>
            <a:ext cx="1177920" cy="2849400"/>
          </a:xfrm>
          <a:prstGeom prst="blockArc">
            <a:avLst>
              <a:gd name="adj1" fmla="val 10453573"/>
              <a:gd name="adj2" fmla="val 346427"/>
              <a:gd name="adj3" fmla="val 8625"/>
            </a:avLst>
          </a:prstGeom>
          <a:solidFill>
            <a:srgbClr val="333333"/>
          </a:solidFill>
          <a:ln w="936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303640" y="4710240"/>
            <a:ext cx="1177920" cy="2849400"/>
          </a:xfrm>
          <a:prstGeom prst="blockArc">
            <a:avLst>
              <a:gd name="adj1" fmla="val 10453573"/>
              <a:gd name="adj2" fmla="val 346427"/>
              <a:gd name="adj3" fmla="val 8625"/>
            </a:avLst>
          </a:prstGeom>
          <a:solidFill>
            <a:srgbClr val="333333"/>
          </a:solidFill>
          <a:ln w="936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94080" y="4710240"/>
            <a:ext cx="1177920" cy="2849400"/>
          </a:xfrm>
          <a:prstGeom prst="blockArc">
            <a:avLst>
              <a:gd name="adj1" fmla="val 10453573"/>
              <a:gd name="adj2" fmla="val 346427"/>
              <a:gd name="adj3" fmla="val 8625"/>
            </a:avLst>
          </a:prstGeom>
          <a:solidFill>
            <a:srgbClr val="333333"/>
          </a:solidFill>
          <a:ln w="936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1368360" y="4356000"/>
            <a:ext cx="800280" cy="8002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0" y="7164360"/>
            <a:ext cx="5977080" cy="2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62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taper sur la syllabe pour faire apparaître la bou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792000" y="466560"/>
            <a:ext cx="3686400" cy="34671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3600360" y="4356000"/>
            <a:ext cx="800280" cy="800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7053120" y="247680"/>
            <a:ext cx="1176480" cy="10587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8290080" y="193680"/>
            <a:ext cx="1304640" cy="11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[e]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212840" y="4710240"/>
            <a:ext cx="1177920" cy="2849400"/>
          </a:xfrm>
          <a:prstGeom prst="blockArc">
            <a:avLst>
              <a:gd name="adj1" fmla="val 10453573"/>
              <a:gd name="adj2" fmla="val 346427"/>
              <a:gd name="adj3" fmla="val 8625"/>
            </a:avLst>
          </a:prstGeom>
          <a:solidFill>
            <a:srgbClr val="333333"/>
          </a:solidFill>
          <a:ln w="936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1368360" y="4356000"/>
            <a:ext cx="800280" cy="8002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0" y="7164360"/>
            <a:ext cx="5977080" cy="2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62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taper sur la syllabe pour faire apparaître la bou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1152360" y="179280"/>
            <a:ext cx="2560680" cy="3529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7053120" y="247680"/>
            <a:ext cx="1176480" cy="105876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8290080" y="193680"/>
            <a:ext cx="1304640" cy="11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[e]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0" y="7164360"/>
            <a:ext cx="5977080" cy="2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62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taper sur la syllabe pour faire apparaître la bou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1359000" y="923760"/>
            <a:ext cx="3105000" cy="26672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1212840" y="4710240"/>
            <a:ext cx="1177920" cy="2849400"/>
          </a:xfrm>
          <a:prstGeom prst="blockArc">
            <a:avLst>
              <a:gd name="adj1" fmla="val 10453573"/>
              <a:gd name="adj2" fmla="val 346427"/>
              <a:gd name="adj3" fmla="val 8625"/>
            </a:avLst>
          </a:prstGeom>
          <a:solidFill>
            <a:srgbClr val="333333"/>
          </a:solidFill>
          <a:ln w="936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303640" y="4710240"/>
            <a:ext cx="1177920" cy="2849400"/>
          </a:xfrm>
          <a:prstGeom prst="blockArc">
            <a:avLst>
              <a:gd name="adj1" fmla="val 10453573"/>
              <a:gd name="adj2" fmla="val 346427"/>
              <a:gd name="adj3" fmla="val 8625"/>
            </a:avLst>
          </a:prstGeom>
          <a:solidFill>
            <a:srgbClr val="333333"/>
          </a:solidFill>
          <a:ln w="936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394080" y="4710240"/>
            <a:ext cx="1177920" cy="2849400"/>
          </a:xfrm>
          <a:prstGeom prst="blockArc">
            <a:avLst>
              <a:gd name="adj1" fmla="val 10453573"/>
              <a:gd name="adj2" fmla="val 346427"/>
              <a:gd name="adj3" fmla="val 8625"/>
            </a:avLst>
          </a:prstGeom>
          <a:solidFill>
            <a:srgbClr val="333333"/>
          </a:solidFill>
          <a:ln w="936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1368360" y="4356000"/>
            <a:ext cx="800280" cy="8002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4"/>
          <a:stretch/>
        </p:blipFill>
        <p:spPr>
          <a:xfrm>
            <a:off x="3600360" y="4356000"/>
            <a:ext cx="800280" cy="800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7053120" y="247680"/>
            <a:ext cx="1176480" cy="105876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8290080" y="193680"/>
            <a:ext cx="1304640" cy="11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[e]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212840" y="4710240"/>
            <a:ext cx="1177920" cy="2849400"/>
          </a:xfrm>
          <a:prstGeom prst="blockArc">
            <a:avLst>
              <a:gd name="adj1" fmla="val 10453573"/>
              <a:gd name="adj2" fmla="val 346427"/>
              <a:gd name="adj3" fmla="val 8625"/>
            </a:avLst>
          </a:prstGeom>
          <a:solidFill>
            <a:srgbClr val="333333"/>
          </a:solidFill>
          <a:ln w="936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303640" y="4710240"/>
            <a:ext cx="1177920" cy="2849400"/>
          </a:xfrm>
          <a:prstGeom prst="blockArc">
            <a:avLst>
              <a:gd name="adj1" fmla="val 10453573"/>
              <a:gd name="adj2" fmla="val 346427"/>
              <a:gd name="adj3" fmla="val 8625"/>
            </a:avLst>
          </a:prstGeom>
          <a:solidFill>
            <a:srgbClr val="333333"/>
          </a:solidFill>
          <a:ln w="936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394080" y="4710240"/>
            <a:ext cx="1177920" cy="2849400"/>
          </a:xfrm>
          <a:prstGeom prst="blockArc">
            <a:avLst>
              <a:gd name="adj1" fmla="val 10453573"/>
              <a:gd name="adj2" fmla="val 346427"/>
              <a:gd name="adj3" fmla="val 8625"/>
            </a:avLst>
          </a:prstGeom>
          <a:solidFill>
            <a:srgbClr val="333333"/>
          </a:solidFill>
          <a:ln w="936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4710240"/>
            <a:ext cx="1177920" cy="2849400"/>
          </a:xfrm>
          <a:prstGeom prst="blockArc">
            <a:avLst>
              <a:gd name="adj1" fmla="val 10453573"/>
              <a:gd name="adj2" fmla="val 346427"/>
              <a:gd name="adj3" fmla="val 8625"/>
            </a:avLst>
          </a:prstGeom>
          <a:solidFill>
            <a:srgbClr val="333333"/>
          </a:solidFill>
          <a:ln w="936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2519280" y="4284720"/>
            <a:ext cx="800280" cy="79992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0" y="7164360"/>
            <a:ext cx="5977080" cy="2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62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taper sur la syllabe pour faire apparaître la bou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719280" y="395280"/>
            <a:ext cx="3224160" cy="34686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4"/>
          <a:stretch/>
        </p:blipFill>
        <p:spPr>
          <a:xfrm>
            <a:off x="4680000" y="4284720"/>
            <a:ext cx="799920" cy="799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cole</cp:lastModifiedBy>
  <dcterms:modified xsi:type="dcterms:W3CDTF">2009-10-25T11:28:45Z</dcterms:modified>
  <cp:revision>6</cp:revision>
  <dc:subject/>
  <dc:title>Diapositive 1</dc:title>
</cp:coreProperties>
</file>