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6769080" y="25092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8064360" y="193680"/>
            <a:ext cx="1871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679320" y="708120"/>
            <a:ext cx="6107400" cy="354312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2728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235160" y="4444920"/>
            <a:ext cx="741240" cy="7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92360" y="4392720"/>
            <a:ext cx="741240" cy="741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769080" y="25092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064360" y="193680"/>
            <a:ext cx="1871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03280" y="684360"/>
            <a:ext cx="4583160" cy="29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05000" y="504720"/>
            <a:ext cx="3163680" cy="3940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75080" y="4410000"/>
            <a:ext cx="741240" cy="74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769080" y="25092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064360" y="193680"/>
            <a:ext cx="1871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69840" y="524988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92480" y="524988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05000" y="4956120"/>
            <a:ext cx="741240" cy="741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769080" y="25092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064360" y="193680"/>
            <a:ext cx="1871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31640" y="611280"/>
            <a:ext cx="4583160" cy="26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798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769080" y="25092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064360" y="193680"/>
            <a:ext cx="1871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9600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92000" y="324000"/>
            <a:ext cx="2681280" cy="3468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184720" y="4284720"/>
            <a:ext cx="741240" cy="74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69840" y="524988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92480" y="524988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05000" y="4956120"/>
            <a:ext cx="741240" cy="74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69080" y="25092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064360" y="193680"/>
            <a:ext cx="1871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19280" y="611280"/>
            <a:ext cx="3100320" cy="34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798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87640" y="4284720"/>
            <a:ext cx="741600" cy="741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769080" y="25092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064360" y="193680"/>
            <a:ext cx="1871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9600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871640" y="395280"/>
            <a:ext cx="2386080" cy="37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2728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35160" y="4444920"/>
            <a:ext cx="741240" cy="741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769080" y="25092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064360" y="193680"/>
            <a:ext cx="1871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76360" y="539640"/>
            <a:ext cx="4600440" cy="319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0000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2640" y="473724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27280" y="473724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62440" y="4444920"/>
            <a:ext cx="741240" cy="741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69080" y="25092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064360" y="193680"/>
            <a:ext cx="1871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76360" y="250920"/>
            <a:ext cx="340200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63640" y="537228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87720" y="5372280"/>
            <a:ext cx="137628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5372280"/>
            <a:ext cx="1376640" cy="2822400"/>
          </a:xfrm>
          <a:prstGeom prst="blockArc">
            <a:avLst>
              <a:gd name="adj1" fmla="val 10639306"/>
              <a:gd name="adj2" fmla="val 160694"/>
              <a:gd name="adj3" fmla="val 6333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00240" y="5079960"/>
            <a:ext cx="741240" cy="741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69080" y="250920"/>
            <a:ext cx="1176480" cy="1058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064360" y="193680"/>
            <a:ext cx="1871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19280" y="611280"/>
            <a:ext cx="357336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20:49:44Z</dcterms:created>
  <dc:creator/>
  <dc:description/>
  <dc:language>en-US</dc:language>
  <cp:lastModifiedBy>ecole</cp:lastModifiedBy>
  <dcterms:modified xsi:type="dcterms:W3CDTF">2009-11-01T15:08:56Z</dcterms:modified>
  <cp:revision>27</cp:revision>
  <dc:subject/>
  <dc:title>Diapositive 1</dc:title>
</cp:coreProperties>
</file>