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erreur.WAV" ContentType="audio/x-wav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audio" Target="../media/erreu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252440" y="1297080"/>
            <a:ext cx="6961320" cy="50353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746360" y="100008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75080" y="741240"/>
            <a:ext cx="2581200" cy="599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763640" y="106848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7680" y="1568520"/>
            <a:ext cx="4303440" cy="437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38400" y="93024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7080" y="1639800"/>
            <a:ext cx="5592960" cy="4233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182680" y="8809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32040" y="1482840"/>
            <a:ext cx="8084880" cy="4851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28880" y="96516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3600" y="857160"/>
            <a:ext cx="3087720" cy="5845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06400" y="1111320"/>
            <a:ext cx="537084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05080" y="500040"/>
            <a:ext cx="4700520" cy="662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33520" y="101772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0160" y="776160"/>
            <a:ext cx="5211720" cy="5662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27200" y="115884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3800" y="2328840"/>
            <a:ext cx="5016600" cy="303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86080" y="89532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93680" y="793800"/>
            <a:ext cx="4921200" cy="574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95440" y="9349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16320" y="831960"/>
            <a:ext cx="3698640" cy="595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89120" y="11635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4840" y="1908000"/>
            <a:ext cx="5707080" cy="389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4520" y="106056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16320" y="804960"/>
            <a:ext cx="4182840" cy="577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03360" y="78912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98800" y="1638360"/>
            <a:ext cx="4162320" cy="437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344680" y="1008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1370160"/>
            <a:ext cx="4803480" cy="503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46360" y="100008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76480" y="1393920"/>
            <a:ext cx="5970600" cy="4832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2520" y="83664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2046240"/>
            <a:ext cx="7667640" cy="344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541520" y="1136520"/>
            <a:ext cx="5494320" cy="561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22520" y="1360440"/>
            <a:ext cx="4238640" cy="479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63640" y="1068480"/>
            <a:ext cx="5494320" cy="56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55680" y="1401840"/>
            <a:ext cx="5811840" cy="481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03560" y="7603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14600" y="1241280"/>
            <a:ext cx="2986200" cy="511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g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814400" y="98892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</cp:lastModifiedBy>
  <dcterms:modified xsi:type="dcterms:W3CDTF">2008-04-14T19:02:30Z</dcterms:modified>
  <cp:revision>1</cp:revision>
  <dc:subject/>
  <dc:title>Diapositive 1</dc:title>
</cp:coreProperties>
</file>