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0.wmf" ContentType="image/x-wmf"/>
  <Override PartName="/ppt/media/image9.jpeg" ContentType="image/jpeg"/>
  <Override PartName="/ppt/media/image23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5E5-6542-41FE-9F83-4B6579D3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0D72-49C4-415B-8E44-C9F5F27C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1E40-442B-4E8C-BD2B-90D78871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D2C-0681-4517-9CC6-DAB918EC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53E-BEE1-4D2B-B606-7C0596C6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3DF-6C19-44E3-9DC3-D21DBBEC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25EB-C731-424E-84D7-8CE1813A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424-DE8A-4707-A1B7-BDF3BF1A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4DB-AD1C-484D-9DE8-1667C91E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5E3-35B7-420D-8D27-94CFD640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72C-4730-4FDB-A9D2-78E9014C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2F2-3651-4F10-8753-884543F7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1D61-EF09-4D63-A0A9-58A4D4646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8421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790640" y="546120"/>
            <a:ext cx="5559480" cy="5762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258920" y="773280"/>
            <a:ext cx="6622920" cy="5308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11280" y="590400"/>
            <a:ext cx="7918200" cy="5673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327400" y="401760"/>
            <a:ext cx="4489200" cy="6051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47640" y="635040"/>
            <a:ext cx="6048720" cy="5584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54280" y="473040"/>
            <a:ext cx="5632200" cy="5908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313000" y="473040"/>
            <a:ext cx="4514760" cy="5908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41480" y="1630440"/>
            <a:ext cx="4610160" cy="417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47640" y="958680"/>
            <a:ext cx="6048720" cy="4940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835280" y="915840"/>
            <a:ext cx="5470560" cy="5023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8040" y="1049400"/>
            <a:ext cx="7924680" cy="4755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963720"/>
            <a:ext cx="8204040" cy="4930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619280" y="820800"/>
            <a:ext cx="5905440" cy="5216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6051600" cy="4991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852480"/>
            <a:ext cx="5543280" cy="5316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7057800" cy="5251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71640" y="1204920"/>
            <a:ext cx="7200720" cy="4448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5616360" cy="543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58920" y="692280"/>
            <a:ext cx="4025880" cy="56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r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4360" y="1197000"/>
            <a:ext cx="5473440" cy="540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v</cp:lastModifiedBy>
  <dcterms:modified xsi:type="dcterms:W3CDTF">2007-10-18T15:51:48Z</dcterms:modified>
  <cp:revision>26</cp:revision>
  <dc:subject/>
  <dc:title>Diapositive 1</dc:title>
</cp:coreProperties>
</file>