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1BC-9939-4D24-BC43-43776602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8E4-E39A-4C43-9FA4-DE741FC7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AE9-3440-4756-B803-E088E3F0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43-57A7-4A68-B201-FAE93ADB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728-3042-4338-90D6-688840A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DBE-F67A-46D5-B8F5-8FBA950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E49-390F-48A9-B983-88ABF85C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8BD-FE7D-41C4-BB70-E2C4986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F37-3B39-4E9D-AC18-60C97B73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97F-7089-4D36-9B72-8141962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E34-6706-4E92-8A93-BB904E9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32A-A2C6-42C8-B78D-477C27CB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117-B838-4FE6-865F-12E67A77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1728720" cy="171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64000" y="2205000"/>
            <a:ext cx="2016000" cy="1611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732720" y="1773360"/>
            <a:ext cx="15872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19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92000" y="465300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1871640" cy="1633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1618920" cy="13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72360" y="1844640"/>
            <a:ext cx="2160360" cy="19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1672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973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8000" y="4932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4653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000" y="4788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08360" y="2060640"/>
            <a:ext cx="1441440" cy="19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093080" y="1844640"/>
            <a:ext cx="120168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4772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8000" y="4905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473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473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2160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76720" y="1844640"/>
            <a:ext cx="2160360" cy="1527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020000" y="1557360"/>
            <a:ext cx="1419120" cy="19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4329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4329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4329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1733400" cy="23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771640" y="2133720"/>
            <a:ext cx="2808360" cy="1238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429264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591080"/>
            <a:ext cx="208728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76720" y="4726080"/>
            <a:ext cx="208728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429264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448000" cy="1959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093080" y="1989000"/>
            <a:ext cx="1368360" cy="128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556160"/>
            <a:ext cx="208728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4000" y="4689360"/>
            <a:ext cx="208728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57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4257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0-20T07:34:53Z</dcterms:modified>
  <cp:revision>29</cp:revision>
  <dc:subject/>
  <dc:title>Diapositive 1</dc:title>
</cp:coreProperties>
</file>