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erreur.WAV" ContentType="audio/x-wav"/>
  <Override PartName="/ppt/media/image20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erreu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erreur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532240" y="914400"/>
            <a:ext cx="4671720" cy="5086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798560" y="96372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33600" y="1685880"/>
            <a:ext cx="6124680" cy="440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47800" y="12477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23920" y="1846440"/>
            <a:ext cx="4040280" cy="4039920"/>
          </a:xfrm>
          <a:prstGeom prst="ellipse">
            <a:avLst/>
          </a:prstGeom>
          <a:noFill/>
          <a:ln w="10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59000" y="106056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5720" y="2081160"/>
            <a:ext cx="6454800" cy="3898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3800" y="11494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68520" y="960480"/>
            <a:ext cx="4657680" cy="5389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47800" y="12477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81120" y="1162080"/>
            <a:ext cx="4660920" cy="502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28720" y="101772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63760" y="2160720"/>
            <a:ext cx="7007040" cy="399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693800" y="11494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16160" y="1604880"/>
            <a:ext cx="5691240" cy="405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65320" y="105408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5240" y="676440"/>
            <a:ext cx="4520880" cy="57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535040" y="114624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9920" y="1671480"/>
            <a:ext cx="5850000" cy="425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11200" y="107640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610000" y="674640"/>
            <a:ext cx="3698640" cy="595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864960" y="816300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67000" y="809316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35760" y="9761400"/>
            <a:ext cx="4040280" cy="4040280"/>
          </a:xfrm>
          <a:prstGeom prst="ellipse">
            <a:avLst/>
          </a:prstGeom>
          <a:noFill/>
          <a:ln w="10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70840" y="8977320"/>
            <a:ext cx="5370480" cy="561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59000" y="106056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1187280"/>
            <a:ext cx="7456680" cy="5245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82404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22520" y="912960"/>
            <a:ext cx="5337000" cy="577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46360" y="84600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62320" y="1100160"/>
            <a:ext cx="3687840" cy="577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081160" y="100008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7720" y="1724040"/>
            <a:ext cx="6960960" cy="428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484360" y="128916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6600" y="2398680"/>
            <a:ext cx="8280360" cy="328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46360" y="136044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71640" y="1515960"/>
            <a:ext cx="6838920" cy="4992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05000" y="11304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68640" y="1217520"/>
            <a:ext cx="5029200" cy="506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81160" y="100008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76640" y="1581120"/>
            <a:ext cx="4659120" cy="454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46360" y="124776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55160" y="176040"/>
            <a:ext cx="1535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in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92120" y="1609560"/>
            <a:ext cx="6299280" cy="474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205000" y="11304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</cp:lastModifiedBy>
  <dcterms:modified xsi:type="dcterms:W3CDTF">2008-04-21T16:18:31Z</dcterms:modified>
  <cp:revision>1</cp:revision>
  <dc:subject/>
  <dc:title>Diapositive 1</dc:title>
</cp:coreProperties>
</file>