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6.wmf" ContentType="image/x-wmf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473040" y="96840"/>
            <a:ext cx="5543640" cy="735480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j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493560" y="115884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 fill="hold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j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336760" y="1162080"/>
            <a:ext cx="3908520" cy="464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905120" y="96372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39920" y="1795320"/>
            <a:ext cx="5122800" cy="4291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j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30400" y="96372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j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60360" y="2116080"/>
            <a:ext cx="5803920" cy="3827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00120" y="56664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j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88960" y="2041560"/>
            <a:ext cx="6195960" cy="3886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500120" y="56664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j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79480" y="1833480"/>
            <a:ext cx="4510080" cy="4427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182600" y="117468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6440" y="950760"/>
            <a:ext cx="7651800" cy="5770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j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954000" y="89208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j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801880" y="2075040"/>
            <a:ext cx="4521240" cy="3470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500120" y="56664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j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60640" y="2328840"/>
            <a:ext cx="5711760" cy="3192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082960" y="90972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22400" y="793800"/>
            <a:ext cx="5862600" cy="5749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j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289160" y="83988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j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52480" y="793800"/>
            <a:ext cx="5124600" cy="5732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500120" y="56844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87520" y="1517760"/>
            <a:ext cx="5985000" cy="4638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j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655640" y="88272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65200" y="1373040"/>
            <a:ext cx="7940520" cy="5241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j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641600" y="119232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dur="indefinite" fill="hold">
                      <p:stCondLst>
                        <p:cond delay="indefinite"/>
                      </p:stCondLst>
                      <p:childTnLst>
                        <p:par>
                          <p:cTn id="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dur="indefinite" fill="hold">
                      <p:stCondLst>
                        <p:cond delay="indefinite"/>
                      </p:stCondLst>
                      <p:childTnLst>
                        <p:par>
                          <p:cTn id="2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8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dur="indefinite" fill="hold">
                      <p:stCondLst>
                        <p:cond delay="indefinite"/>
                      </p:stCondLst>
                      <p:childTnLst>
                        <p:par>
                          <p:cTn id="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30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7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7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j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7960" y="1816200"/>
            <a:ext cx="6016680" cy="4057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55640" y="88272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j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646360" y="317520"/>
            <a:ext cx="3889440" cy="6531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595520" y="67788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69840" y="1622520"/>
            <a:ext cx="8748720" cy="444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j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728720" y="122400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j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76640" y="1714680"/>
            <a:ext cx="5467320" cy="3863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044800" y="93672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87680" y="1411200"/>
            <a:ext cx="4821120" cy="4675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j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05120" y="96372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j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52440" y="828720"/>
            <a:ext cx="5327640" cy="5627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905120" y="96372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74920" y="863640"/>
            <a:ext cx="5472000" cy="5238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j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500120" y="56664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