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1640" y="395280"/>
            <a:ext cx="4583160" cy="332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92360" y="45007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0360" y="324000"/>
            <a:ext cx="3457440" cy="243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87640" y="4427640"/>
            <a:ext cx="74160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0360" y="324000"/>
            <a:ext cx="3095640" cy="2727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87640" y="4427640"/>
            <a:ext cx="74160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1640" y="324000"/>
            <a:ext cx="2521080" cy="208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2360" y="450072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887640" y="4500720"/>
            <a:ext cx="74160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19280" y="466560"/>
            <a:ext cx="207792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92360" y="450072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4000" y="45007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7280" y="539640"/>
            <a:ext cx="4583160" cy="130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887640" y="442764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2436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7640" y="324000"/>
            <a:ext cx="3003480" cy="3244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92360" y="45007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</cp:lastModifiedBy>
  <dcterms:modified xsi:type="dcterms:W3CDTF">2008-12-22T21:22:28Z</dcterms:modified>
  <cp:revision>5</cp:revision>
  <dc:subject/>
  <dc:title>Diapositive 1</dc:title>
</cp:coreProperties>
</file>