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5.wmf" ContentType="image/x-wmf"/>
  <Override PartName="/ppt/media/image4.wmf" ContentType="image/x-wmf"/>
  <Override PartName="/ppt/media/image2.wmf" ContentType="image/x-wmf"/>
  <Override PartName="/ppt/media/image23.jpeg" ContentType="image/jpe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debut.wav" ContentType="audio/x-wav"/>
  <Override PartName="/ppt/media/image22.wmf" ContentType="image/x-wmf"/>
  <Override PartName="/ppt/media/image10.jpeg" ContentType="image/jpeg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ebut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.pn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1149480" y="322200"/>
            <a:ext cx="75438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eb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431640" y="1298520"/>
            <a:ext cx="2448000" cy="169092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527280" y="1736640"/>
            <a:ext cx="1944720" cy="1416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985080" y="1305000"/>
            <a:ext cx="2016000" cy="1784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76720" y="465444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176360" y="4788000"/>
            <a:ext cx="2087640" cy="936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08000" y="4356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12000" y="465300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911640" y="4788000"/>
            <a:ext cx="2087640" cy="936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7280" y="1835280"/>
            <a:ext cx="1924200" cy="1677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384720" y="1692360"/>
            <a:ext cx="2006280" cy="1687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985080" y="1619280"/>
            <a:ext cx="1573200" cy="1800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77080" y="4437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08360" y="473544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708000" y="4869000"/>
            <a:ext cx="2087640" cy="936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436572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47640" y="179280"/>
            <a:ext cx="2003400" cy="3364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672000" y="1187280"/>
            <a:ext cx="2454120" cy="2454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7416720" y="1258920"/>
            <a:ext cx="1974960" cy="2135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77080" y="4437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08360" y="473544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708000" y="4869000"/>
            <a:ext cx="2087640" cy="936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436572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7280" y="2266920"/>
            <a:ext cx="2451240" cy="1330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032360" y="1979640"/>
            <a:ext cx="2081160" cy="1592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128000" y="1476360"/>
            <a:ext cx="2127240" cy="2071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51280" y="436572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04000" y="473400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803640" y="4869000"/>
            <a:ext cx="2087640" cy="936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7600" y="4437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31640" y="1908000"/>
            <a:ext cx="1843200" cy="1308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960720" y="1692360"/>
            <a:ext cx="1909800" cy="1606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912000" y="1835280"/>
            <a:ext cx="2900160" cy="1301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51280" y="436572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7640" y="464328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7280" y="4778280"/>
            <a:ext cx="2087640" cy="936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01080" y="4788000"/>
            <a:ext cx="208728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201080" y="4923000"/>
            <a:ext cx="2087280" cy="936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16000" y="1908000"/>
            <a:ext cx="2243160" cy="1578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103640" y="1763640"/>
            <a:ext cx="2189160" cy="1913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912000" y="2266920"/>
            <a:ext cx="2728800" cy="1266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51280" y="436572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04000" y="473400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803640" y="4869000"/>
            <a:ext cx="2087640" cy="936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00" y="4437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87280" y="1763640"/>
            <a:ext cx="2009880" cy="1895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816360" y="1908000"/>
            <a:ext cx="2467080" cy="1771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7561440" y="1619280"/>
            <a:ext cx="2095200" cy="2095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8360" y="450864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03640" y="450072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04000" y="450072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cole</cp:lastModifiedBy>
  <dcterms:modified xsi:type="dcterms:W3CDTF">2009-11-02T10:49:57Z</dcterms:modified>
  <cp:revision>3</cp:revision>
  <dc:subject/>
  <dc:title>Diapositive 1</dc:title>
</cp:coreProperties>
</file>