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8.wmf" ContentType="image/x-wmf"/>
  <Override PartName="/ppt/media/image15.png" ContentType="image/png"/>
  <Override PartName="/ppt/media/image14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5C5-0267-4A91-B6FA-0EF0E3F9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4D8-4747-4D77-8E3F-D521F36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F71-720E-4140-8EF2-F3E8CDB0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7B3-7D83-4344-899B-FF04932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CAA-2B65-49FA-A090-27D19303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4CF-602C-4873-98AF-D16B3973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A21-737F-46B4-B4A9-30C7C62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69E-9AC9-4E66-A875-06377338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18B-AE06-42B4-B07D-DF919338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979-9EF6-4B36-BBCE-6191F30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915-4192-4F9C-B5CD-65D72FD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201-0250-496E-B541-9D1693C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FB2B-8D03-410C-9BBB-73A81D11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5472360" cy="368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32000" y="1801800"/>
            <a:ext cx="5065560" cy="4514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42920" y="2082960"/>
            <a:ext cx="5689800" cy="3543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19280" y="1557360"/>
            <a:ext cx="5832360" cy="467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5754600" cy="460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4359600" cy="538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3513240" cy="4613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40000" y="981000"/>
            <a:ext cx="2998800" cy="500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7072200" cy="471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3819600" cy="4538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5353200" cy="425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5832720" cy="4633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908000" y="1628640"/>
            <a:ext cx="4594320" cy="462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6107040" cy="380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368360" cy="922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59640" y="1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u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16028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35240" y="1422360"/>
            <a:ext cx="4672080" cy="401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4-05T16:34:50Z</dcterms:modified>
  <cp:revision>22</cp:revision>
  <dc:subject/>
  <dc:title>Diapositive 1</dc:title>
</cp:coreProperties>
</file>