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é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679320" y="708120"/>
            <a:ext cx="6107400" cy="354312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900000" y="4737240"/>
            <a:ext cx="137664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22640" y="4737240"/>
            <a:ext cx="137628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27280" y="4737240"/>
            <a:ext cx="137664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235160" y="4444920"/>
            <a:ext cx="741240" cy="7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é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98600" y="422280"/>
            <a:ext cx="6379920" cy="4267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63640" y="5372280"/>
            <a:ext cx="137628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87720" y="5372280"/>
            <a:ext cx="137628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92360" y="5372280"/>
            <a:ext cx="137664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200240" y="5079960"/>
            <a:ext cx="741240" cy="74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é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36600" y="355680"/>
            <a:ext cx="6554880" cy="4530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82720" y="5126040"/>
            <a:ext cx="137628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05000" y="5126040"/>
            <a:ext cx="137628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10000" y="5126040"/>
            <a:ext cx="137628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181160" y="4797360"/>
            <a:ext cx="741240" cy="741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2557440" y="4815000"/>
            <a:ext cx="741240" cy="74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é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60520" y="782640"/>
            <a:ext cx="6164280" cy="19191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00000" y="4737240"/>
            <a:ext cx="137664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22640" y="4737240"/>
            <a:ext cx="137628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235160" y="4444920"/>
            <a:ext cx="741240" cy="741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2592360" y="4392720"/>
            <a:ext cx="741240" cy="74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é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23760" y="409680"/>
            <a:ext cx="2881440" cy="3841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00000" y="4737240"/>
            <a:ext cx="137664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22640" y="4737240"/>
            <a:ext cx="137628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27280" y="4737240"/>
            <a:ext cx="137664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235160" y="4444920"/>
            <a:ext cx="741240" cy="7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05000" y="504720"/>
            <a:ext cx="3163680" cy="394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é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4737240"/>
            <a:ext cx="137664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22640" y="4737240"/>
            <a:ext cx="137628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575080" y="4410000"/>
            <a:ext cx="741240" cy="7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55720" y="612720"/>
            <a:ext cx="4788000" cy="4027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é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69840" y="5249880"/>
            <a:ext cx="137664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92480" y="5249880"/>
            <a:ext cx="137628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305000" y="4956120"/>
            <a:ext cx="741240" cy="74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é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09760" y="312840"/>
            <a:ext cx="2284560" cy="4378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4737240"/>
            <a:ext cx="137664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22640" y="4737240"/>
            <a:ext cx="137628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27280" y="4737240"/>
            <a:ext cx="137664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235160" y="4444920"/>
            <a:ext cx="741240" cy="7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é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023840" y="522360"/>
            <a:ext cx="4583160" cy="3328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00000" y="4737240"/>
            <a:ext cx="137664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235160" y="4444920"/>
            <a:ext cx="741240" cy="7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é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270080" y="358920"/>
            <a:ext cx="3362400" cy="4049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00000" y="4737240"/>
            <a:ext cx="137664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22640" y="4737240"/>
            <a:ext cx="137628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79840" y="4737240"/>
            <a:ext cx="137628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35160" y="4444920"/>
            <a:ext cx="741240" cy="7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é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42840" y="433440"/>
            <a:ext cx="3194280" cy="3470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00000" y="4737240"/>
            <a:ext cx="137664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22640" y="4737240"/>
            <a:ext cx="137628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27280" y="4737240"/>
            <a:ext cx="137664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235160" y="4444920"/>
            <a:ext cx="741240" cy="7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é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58960" y="247680"/>
            <a:ext cx="6310080" cy="4160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00000" y="4737240"/>
            <a:ext cx="137664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2640" y="4737240"/>
            <a:ext cx="137628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27280" y="4737240"/>
            <a:ext cx="137664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862440" y="4444920"/>
            <a:ext cx="741240" cy="7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é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69840" y="374760"/>
            <a:ext cx="3703680" cy="4052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00000" y="4737240"/>
            <a:ext cx="137664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22640" y="4737240"/>
            <a:ext cx="137628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27280" y="4737240"/>
            <a:ext cx="137664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540160" y="4410000"/>
            <a:ext cx="741240" cy="7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3T20:49:44Z</dcterms:created>
  <dc:creator/>
  <dc:description/>
  <dc:language>en-US</dc:language>
  <cp:lastModifiedBy>ecole</cp:lastModifiedBy>
  <dcterms:modified xsi:type="dcterms:W3CDTF">2009-10-27T09:50:48Z</dcterms:modified>
  <cp:revision>24</cp:revision>
  <dc:subject/>
  <dc:title>Diapositive 1</dc:title>
</cp:coreProperties>
</file>