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7AF-A53D-4A79-B1AB-DC6E1E53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E15-93D1-48E2-9500-08F8DD8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B17-CC70-4CE5-B45D-713C072D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34F-831C-45F7-859E-3416F95A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547-DF3F-4D86-A136-F874AA1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85C-017D-4D30-A714-9CCD99CC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4DD-4AD0-45AC-9302-EFB60A59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D93-38AD-4701-8950-EF05EA6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7FA-42CD-416E-A09D-641EB476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4B3-5DDB-4225-943F-FF4F922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841-1344-43A0-8DE4-6F0B36D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901-4F36-4CC2-AEC9-5D455FE9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52A-490A-4606-B86B-1EE0DA48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4133880" cy="619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1398600"/>
            <a:ext cx="8207280" cy="4619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1704960"/>
            <a:ext cx="6769080" cy="478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4206960" cy="576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76500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4448160" cy="590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77724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5073480" cy="507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6049800" cy="484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674720"/>
            <a:ext cx="6696000" cy="4530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584280"/>
            <a:ext cx="6048720" cy="568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5400720" cy="535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6408720" cy="462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46160" y="1596960"/>
            <a:ext cx="5613480" cy="4438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1693800"/>
            <a:ext cx="5842080" cy="466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71640" y="1197000"/>
            <a:ext cx="4032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6121440" cy="5342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4384800" cy="551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6483240" cy="579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057800" cy="5140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73400" y="330120"/>
            <a:ext cx="4597200" cy="6194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10-12T16:22:15Z</dcterms:modified>
  <cp:revision>25</cp:revision>
  <dc:subject/>
  <dc:title>Diapositive 1</dc:title>
</cp:coreProperties>
</file>