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9C5-678E-4CE1-88E7-59EEC09D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CEC-22E0-45DD-96C3-F21EDB6A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4C9-DFF4-4E2E-82A3-1A41D652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4A3-D2AA-4958-9545-D7A0B5ED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ABD-9F0D-4141-AE7C-F0A48BFD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06C-7A24-475A-A0FF-C855A56D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C07-A3C1-4586-9D03-702F6051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248-0E31-4822-A8B6-0E3F947E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017-0C5F-4F65-9BCC-9E238BCF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941-1BC6-48B1-8FEF-C915D78A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A8C-929D-4262-9288-4A72671E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942-6CA7-4B1A-B3DB-88474008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EC3B-A393-48FA-B943-C1408679D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5832720" cy="5119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58920" y="1714680"/>
            <a:ext cx="5591160" cy="4205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79640" y="1573200"/>
            <a:ext cx="4464000" cy="4422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1693800"/>
            <a:ext cx="5931000" cy="4551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32000" y="1693800"/>
            <a:ext cx="5383080" cy="435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47640" y="549360"/>
            <a:ext cx="3956400" cy="597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1187280"/>
            <a:ext cx="7058160" cy="4773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58920" y="1598760"/>
            <a:ext cx="6696000" cy="4252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6840720" cy="3743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12880" y="1341360"/>
            <a:ext cx="4537080" cy="468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78080" y="1197000"/>
            <a:ext cx="4070160" cy="5111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619280" y="1052640"/>
            <a:ext cx="411336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omic Sans MS"/>
              </a:rPr>
              <a:t>11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4968720" cy="496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7777080" cy="478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47640" y="1341360"/>
            <a:ext cx="4214880" cy="457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19280" y="907920"/>
            <a:ext cx="5400720" cy="5168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16000" y="770040"/>
            <a:ext cx="6408720" cy="550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35240" y="28440"/>
            <a:ext cx="4672080" cy="6801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2473200"/>
            <a:ext cx="8136000" cy="1892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95640" y="1670040"/>
            <a:ext cx="5113080" cy="3784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03-30T16:20:45Z</dcterms:modified>
  <cp:revision>19</cp:revision>
  <dc:subject/>
  <dc:title>Diapositive 1</dc:title>
</cp:coreProperties>
</file>