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EA0-17E0-4521-8107-86940820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9AD-5485-474B-9D26-683AC274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7D5-4E55-4D76-BBF4-FDF8BDB6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439-C0AA-4E9E-A42D-A838CE3B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FA0-E5B3-4C34-96C6-49C7767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D1F-E06A-45E7-AC7B-D2605833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54F-5DFA-4D0E-A866-333A7B06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7FC-4DB9-4495-B4E7-C74AF66F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676-1FA6-4D19-A9B2-D5AAF418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E22-91ED-4F96-B1D7-179A4F08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058-7CB5-4244-8754-67A9D96B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A10-EFFC-4CF5-850D-5BBAD113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A41D-AB4A-427F-A279-07F5E082C17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967280" cy="346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461808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4616280"/>
            <a:ext cx="172872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608720" cy="4048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87280" y="1803240"/>
            <a:ext cx="5720040" cy="3980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302440" cy="3995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4616280"/>
            <a:ext cx="172872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400720" cy="3032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447192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2920" y="447192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47192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447372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2546280"/>
            <a:ext cx="7848360" cy="1779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4616280"/>
            <a:ext cx="172872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2986200" cy="4687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608360" cy="202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461808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4616280"/>
            <a:ext cx="172872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0400" y="1892160"/>
            <a:ext cx="7963200" cy="3073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6920" y="1338120"/>
            <a:ext cx="6409080" cy="4942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3692520" cy="4390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00720" y="3500280"/>
            <a:ext cx="172872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3500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24000" y="1779480"/>
            <a:ext cx="5543640" cy="373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4341600" cy="3468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4616280"/>
            <a:ext cx="172872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5183280" cy="3016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55640" y="447192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2920" y="447192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447192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447372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243240" cy="3313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9640" y="461808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4616280"/>
            <a:ext cx="172872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4672080" cy="3828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9640" y="461808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4616280"/>
            <a:ext cx="172872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4583160" cy="2119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4616280"/>
            <a:ext cx="172872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3662280" cy="3288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3073320" cy="338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461808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16280"/>
            <a:ext cx="172872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630520" y="1700280"/>
            <a:ext cx="3665520" cy="3673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5040360" cy="356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4616280"/>
            <a:ext cx="172872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311560" y="1693800"/>
            <a:ext cx="4519440" cy="3468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751280" cy="3510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538440" cy="3745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68360" y="4616280"/>
            <a:ext cx="172908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4616280"/>
            <a:ext cx="1728720" cy="172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76720" cy="3341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55640" y="447192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2920" y="447192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11640" y="447192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4473720"/>
            <a:ext cx="1728720" cy="1728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03-22T19:49:12Z</dcterms:modified>
  <cp:revision>21</cp:revision>
  <dc:subject/>
  <dc:title>Diapositive 1</dc:title>
</cp:coreProperties>
</file>