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9.png" ContentType="image/png"/>
  <Override PartName="/ppt/media/image11.wmf" ContentType="image/x-wmf"/>
  <Override PartName="/ppt/media/image17.jpeg" ContentType="image/jpeg"/>
  <Override PartName="/ppt/media/image7.png" ContentType="image/png"/>
  <Override PartName="/ppt/media/image1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media/image1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4816-2CCC-4B38-B67B-1840FB35D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E8FD-4F8E-40BA-978A-BFBF6938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8477-8776-4061-A27F-0612AC83E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0986-7B34-4D6B-9816-8CE1469A3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B5E7-E347-43A4-9959-95A193C7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F8D5-8BBB-4D86-A55F-7FCCE86D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6DD9-FC15-4AC5-8554-1313F398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1B49-E643-4FD7-962F-2B5B53FE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1659-4A40-4D5C-ABE1-6A9A9A44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AF00-6CC6-447F-A559-08095A84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8EBE-7E99-4EC0-BA5D-4B458AFC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113E-C453-4564-9BD9-50597C43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EFDF-6E08-481D-91AF-8E9E27E5F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42920" y="291960"/>
            <a:ext cx="684216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l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473120" y="357120"/>
            <a:ext cx="6194520" cy="6140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71640" y="198360"/>
            <a:ext cx="6696000" cy="6429600"/>
          </a:xfrm>
          <a:custGeom>
            <a:avLst/>
            <a:gdLst/>
            <a:ahLst/>
            <a:rect l="l" t="t" r="r" b="b"/>
            <a:pathLst>
              <a:path w="2608" h="4050">
                <a:moveTo>
                  <a:pt x="1072" y="13"/>
                </a:moveTo>
                <a:cubicBezTo>
                  <a:pt x="854" y="284"/>
                  <a:pt x="632" y="552"/>
                  <a:pt x="419" y="827"/>
                </a:cubicBezTo>
                <a:cubicBezTo>
                  <a:pt x="409" y="840"/>
                  <a:pt x="401" y="901"/>
                  <a:pt x="396" y="919"/>
                </a:cubicBezTo>
                <a:cubicBezTo>
                  <a:pt x="365" y="1023"/>
                  <a:pt x="345" y="1147"/>
                  <a:pt x="296" y="1242"/>
                </a:cubicBezTo>
                <a:cubicBezTo>
                  <a:pt x="282" y="1319"/>
                  <a:pt x="270" y="1402"/>
                  <a:pt x="235" y="1472"/>
                </a:cubicBezTo>
                <a:cubicBezTo>
                  <a:pt x="216" y="1561"/>
                  <a:pt x="199" y="1656"/>
                  <a:pt x="166" y="1741"/>
                </a:cubicBezTo>
                <a:cubicBezTo>
                  <a:pt x="154" y="1832"/>
                  <a:pt x="140" y="1940"/>
                  <a:pt x="104" y="2025"/>
                </a:cubicBezTo>
                <a:cubicBezTo>
                  <a:pt x="82" y="2147"/>
                  <a:pt x="68" y="2277"/>
                  <a:pt x="27" y="2394"/>
                </a:cubicBezTo>
                <a:cubicBezTo>
                  <a:pt x="10" y="2503"/>
                  <a:pt x="15" y="2614"/>
                  <a:pt x="4" y="2724"/>
                </a:cubicBezTo>
                <a:cubicBezTo>
                  <a:pt x="9" y="2941"/>
                  <a:pt x="0" y="3298"/>
                  <a:pt x="143" y="3492"/>
                </a:cubicBezTo>
                <a:cubicBezTo>
                  <a:pt x="171" y="3530"/>
                  <a:pt x="185" y="3573"/>
                  <a:pt x="219" y="3607"/>
                </a:cubicBezTo>
                <a:cubicBezTo>
                  <a:pt x="232" y="3646"/>
                  <a:pt x="267" y="3660"/>
                  <a:pt x="281" y="3700"/>
                </a:cubicBezTo>
                <a:cubicBezTo>
                  <a:pt x="299" y="3752"/>
                  <a:pt x="384" y="3836"/>
                  <a:pt x="434" y="3861"/>
                </a:cubicBezTo>
                <a:cubicBezTo>
                  <a:pt x="473" y="3880"/>
                  <a:pt x="513" y="3907"/>
                  <a:pt x="550" y="3930"/>
                </a:cubicBezTo>
                <a:cubicBezTo>
                  <a:pt x="559" y="3936"/>
                  <a:pt x="627" y="3959"/>
                  <a:pt x="634" y="3961"/>
                </a:cubicBezTo>
                <a:cubicBezTo>
                  <a:pt x="740" y="3998"/>
                  <a:pt x="853" y="4014"/>
                  <a:pt x="964" y="4022"/>
                </a:cubicBezTo>
                <a:cubicBezTo>
                  <a:pt x="1072" y="4050"/>
                  <a:pt x="1132" y="4035"/>
                  <a:pt x="1264" y="4030"/>
                </a:cubicBezTo>
                <a:cubicBezTo>
                  <a:pt x="1397" y="3996"/>
                  <a:pt x="1381" y="4013"/>
                  <a:pt x="1617" y="4007"/>
                </a:cubicBezTo>
                <a:cubicBezTo>
                  <a:pt x="1625" y="4004"/>
                  <a:pt x="1632" y="4001"/>
                  <a:pt x="1640" y="3999"/>
                </a:cubicBezTo>
                <a:cubicBezTo>
                  <a:pt x="1655" y="3995"/>
                  <a:pt x="1671" y="3996"/>
                  <a:pt x="1686" y="3991"/>
                </a:cubicBezTo>
                <a:cubicBezTo>
                  <a:pt x="1695" y="3988"/>
                  <a:pt x="1700" y="3979"/>
                  <a:pt x="1709" y="3976"/>
                </a:cubicBezTo>
                <a:cubicBezTo>
                  <a:pt x="1721" y="3971"/>
                  <a:pt x="1735" y="3971"/>
                  <a:pt x="1748" y="3968"/>
                </a:cubicBezTo>
                <a:cubicBezTo>
                  <a:pt x="1819" y="3924"/>
                  <a:pt x="1892" y="3909"/>
                  <a:pt x="1963" y="3869"/>
                </a:cubicBezTo>
                <a:cubicBezTo>
                  <a:pt x="2011" y="3842"/>
                  <a:pt x="2047" y="3799"/>
                  <a:pt x="2093" y="3769"/>
                </a:cubicBezTo>
                <a:cubicBezTo>
                  <a:pt x="2117" y="3734"/>
                  <a:pt x="2156" y="3706"/>
                  <a:pt x="2186" y="3677"/>
                </a:cubicBezTo>
                <a:cubicBezTo>
                  <a:pt x="2201" y="3663"/>
                  <a:pt x="2226" y="3610"/>
                  <a:pt x="2239" y="3592"/>
                </a:cubicBezTo>
                <a:cubicBezTo>
                  <a:pt x="2269" y="3550"/>
                  <a:pt x="2294" y="3506"/>
                  <a:pt x="2331" y="3469"/>
                </a:cubicBezTo>
                <a:cubicBezTo>
                  <a:pt x="2344" y="3405"/>
                  <a:pt x="2393" y="3360"/>
                  <a:pt x="2416" y="3300"/>
                </a:cubicBezTo>
                <a:cubicBezTo>
                  <a:pt x="2425" y="3249"/>
                  <a:pt x="2446" y="3200"/>
                  <a:pt x="2470" y="3154"/>
                </a:cubicBezTo>
                <a:cubicBezTo>
                  <a:pt x="2491" y="3068"/>
                  <a:pt x="2519" y="2985"/>
                  <a:pt x="2546" y="2901"/>
                </a:cubicBezTo>
                <a:cubicBezTo>
                  <a:pt x="2564" y="2761"/>
                  <a:pt x="2568" y="2616"/>
                  <a:pt x="2600" y="2479"/>
                </a:cubicBezTo>
                <a:cubicBezTo>
                  <a:pt x="2603" y="2451"/>
                  <a:pt x="2608" y="2422"/>
                  <a:pt x="2608" y="2394"/>
                </a:cubicBezTo>
                <a:cubicBezTo>
                  <a:pt x="2608" y="2046"/>
                  <a:pt x="2607" y="1698"/>
                  <a:pt x="2600" y="1350"/>
                </a:cubicBezTo>
                <a:cubicBezTo>
                  <a:pt x="2599" y="1310"/>
                  <a:pt x="2521" y="1132"/>
                  <a:pt x="2500" y="1111"/>
                </a:cubicBezTo>
                <a:cubicBezTo>
                  <a:pt x="2491" y="1062"/>
                  <a:pt x="2467" y="1025"/>
                  <a:pt x="2431" y="989"/>
                </a:cubicBezTo>
                <a:cubicBezTo>
                  <a:pt x="2410" y="935"/>
                  <a:pt x="2372" y="900"/>
                  <a:pt x="2339" y="850"/>
                </a:cubicBezTo>
                <a:cubicBezTo>
                  <a:pt x="2272" y="750"/>
                  <a:pt x="2192" y="650"/>
                  <a:pt x="2109" y="566"/>
                </a:cubicBezTo>
                <a:cubicBezTo>
                  <a:pt x="2063" y="519"/>
                  <a:pt x="2109" y="551"/>
                  <a:pt x="2063" y="497"/>
                </a:cubicBezTo>
                <a:cubicBezTo>
                  <a:pt x="2044" y="475"/>
                  <a:pt x="2019" y="459"/>
                  <a:pt x="2001" y="436"/>
                </a:cubicBezTo>
                <a:cubicBezTo>
                  <a:pt x="1959" y="382"/>
                  <a:pt x="1916" y="331"/>
                  <a:pt x="1878" y="274"/>
                </a:cubicBezTo>
                <a:cubicBezTo>
                  <a:pt x="1863" y="252"/>
                  <a:pt x="1843" y="233"/>
                  <a:pt x="1825" y="213"/>
                </a:cubicBezTo>
                <a:cubicBezTo>
                  <a:pt x="1813" y="199"/>
                  <a:pt x="1786" y="175"/>
                  <a:pt x="1786" y="175"/>
                </a:cubicBezTo>
                <a:cubicBezTo>
                  <a:pt x="1770" y="128"/>
                  <a:pt x="1790" y="171"/>
                  <a:pt x="1755" y="136"/>
                </a:cubicBezTo>
                <a:cubicBezTo>
                  <a:pt x="1695" y="76"/>
                  <a:pt x="1793" y="153"/>
                  <a:pt x="1717" y="90"/>
                </a:cubicBezTo>
                <a:cubicBezTo>
                  <a:pt x="1608" y="0"/>
                  <a:pt x="1431" y="13"/>
                  <a:pt x="1302" y="13"/>
                </a:cubicBezTo>
              </a:path>
            </a:pathLst>
          </a:custGeom>
          <a:noFill/>
          <a:ln w="127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l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68400" y="793800"/>
            <a:ext cx="7203960" cy="5267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79280" y="198360"/>
            <a:ext cx="8064720" cy="6429600"/>
          </a:xfrm>
          <a:custGeom>
            <a:avLst/>
            <a:gdLst/>
            <a:ahLst/>
            <a:rect l="l" t="t" r="r" b="b"/>
            <a:pathLst>
              <a:path w="2608" h="4050">
                <a:moveTo>
                  <a:pt x="1072" y="13"/>
                </a:moveTo>
                <a:cubicBezTo>
                  <a:pt x="854" y="284"/>
                  <a:pt x="632" y="552"/>
                  <a:pt x="419" y="827"/>
                </a:cubicBezTo>
                <a:cubicBezTo>
                  <a:pt x="409" y="840"/>
                  <a:pt x="401" y="901"/>
                  <a:pt x="396" y="919"/>
                </a:cubicBezTo>
                <a:cubicBezTo>
                  <a:pt x="365" y="1023"/>
                  <a:pt x="345" y="1147"/>
                  <a:pt x="296" y="1242"/>
                </a:cubicBezTo>
                <a:cubicBezTo>
                  <a:pt x="282" y="1319"/>
                  <a:pt x="270" y="1402"/>
                  <a:pt x="235" y="1472"/>
                </a:cubicBezTo>
                <a:cubicBezTo>
                  <a:pt x="216" y="1561"/>
                  <a:pt x="199" y="1656"/>
                  <a:pt x="166" y="1741"/>
                </a:cubicBezTo>
                <a:cubicBezTo>
                  <a:pt x="154" y="1832"/>
                  <a:pt x="140" y="1940"/>
                  <a:pt x="104" y="2025"/>
                </a:cubicBezTo>
                <a:cubicBezTo>
                  <a:pt x="82" y="2147"/>
                  <a:pt x="68" y="2277"/>
                  <a:pt x="27" y="2394"/>
                </a:cubicBezTo>
                <a:cubicBezTo>
                  <a:pt x="10" y="2503"/>
                  <a:pt x="15" y="2614"/>
                  <a:pt x="4" y="2724"/>
                </a:cubicBezTo>
                <a:cubicBezTo>
                  <a:pt x="9" y="2941"/>
                  <a:pt x="0" y="3298"/>
                  <a:pt x="143" y="3492"/>
                </a:cubicBezTo>
                <a:cubicBezTo>
                  <a:pt x="171" y="3530"/>
                  <a:pt x="185" y="3573"/>
                  <a:pt x="219" y="3607"/>
                </a:cubicBezTo>
                <a:cubicBezTo>
                  <a:pt x="232" y="3646"/>
                  <a:pt x="267" y="3660"/>
                  <a:pt x="281" y="3700"/>
                </a:cubicBezTo>
                <a:cubicBezTo>
                  <a:pt x="299" y="3752"/>
                  <a:pt x="384" y="3836"/>
                  <a:pt x="434" y="3861"/>
                </a:cubicBezTo>
                <a:cubicBezTo>
                  <a:pt x="473" y="3880"/>
                  <a:pt x="513" y="3907"/>
                  <a:pt x="550" y="3930"/>
                </a:cubicBezTo>
                <a:cubicBezTo>
                  <a:pt x="559" y="3936"/>
                  <a:pt x="627" y="3959"/>
                  <a:pt x="634" y="3961"/>
                </a:cubicBezTo>
                <a:cubicBezTo>
                  <a:pt x="740" y="3998"/>
                  <a:pt x="853" y="4014"/>
                  <a:pt x="964" y="4022"/>
                </a:cubicBezTo>
                <a:cubicBezTo>
                  <a:pt x="1072" y="4050"/>
                  <a:pt x="1132" y="4035"/>
                  <a:pt x="1264" y="4030"/>
                </a:cubicBezTo>
                <a:cubicBezTo>
                  <a:pt x="1397" y="3996"/>
                  <a:pt x="1381" y="4013"/>
                  <a:pt x="1617" y="4007"/>
                </a:cubicBezTo>
                <a:cubicBezTo>
                  <a:pt x="1625" y="4004"/>
                  <a:pt x="1632" y="4001"/>
                  <a:pt x="1640" y="3999"/>
                </a:cubicBezTo>
                <a:cubicBezTo>
                  <a:pt x="1655" y="3995"/>
                  <a:pt x="1671" y="3996"/>
                  <a:pt x="1686" y="3991"/>
                </a:cubicBezTo>
                <a:cubicBezTo>
                  <a:pt x="1695" y="3988"/>
                  <a:pt x="1700" y="3979"/>
                  <a:pt x="1709" y="3976"/>
                </a:cubicBezTo>
                <a:cubicBezTo>
                  <a:pt x="1721" y="3971"/>
                  <a:pt x="1735" y="3971"/>
                  <a:pt x="1748" y="3968"/>
                </a:cubicBezTo>
                <a:cubicBezTo>
                  <a:pt x="1819" y="3924"/>
                  <a:pt x="1892" y="3909"/>
                  <a:pt x="1963" y="3869"/>
                </a:cubicBezTo>
                <a:cubicBezTo>
                  <a:pt x="2011" y="3842"/>
                  <a:pt x="2047" y="3799"/>
                  <a:pt x="2093" y="3769"/>
                </a:cubicBezTo>
                <a:cubicBezTo>
                  <a:pt x="2117" y="3734"/>
                  <a:pt x="2156" y="3706"/>
                  <a:pt x="2186" y="3677"/>
                </a:cubicBezTo>
                <a:cubicBezTo>
                  <a:pt x="2201" y="3663"/>
                  <a:pt x="2226" y="3610"/>
                  <a:pt x="2239" y="3592"/>
                </a:cubicBezTo>
                <a:cubicBezTo>
                  <a:pt x="2269" y="3550"/>
                  <a:pt x="2294" y="3506"/>
                  <a:pt x="2331" y="3469"/>
                </a:cubicBezTo>
                <a:cubicBezTo>
                  <a:pt x="2344" y="3405"/>
                  <a:pt x="2393" y="3360"/>
                  <a:pt x="2416" y="3300"/>
                </a:cubicBezTo>
                <a:cubicBezTo>
                  <a:pt x="2425" y="3249"/>
                  <a:pt x="2446" y="3200"/>
                  <a:pt x="2470" y="3154"/>
                </a:cubicBezTo>
                <a:cubicBezTo>
                  <a:pt x="2491" y="3068"/>
                  <a:pt x="2519" y="2985"/>
                  <a:pt x="2546" y="2901"/>
                </a:cubicBezTo>
                <a:cubicBezTo>
                  <a:pt x="2564" y="2761"/>
                  <a:pt x="2568" y="2616"/>
                  <a:pt x="2600" y="2479"/>
                </a:cubicBezTo>
                <a:cubicBezTo>
                  <a:pt x="2603" y="2451"/>
                  <a:pt x="2608" y="2422"/>
                  <a:pt x="2608" y="2394"/>
                </a:cubicBezTo>
                <a:cubicBezTo>
                  <a:pt x="2608" y="2046"/>
                  <a:pt x="2607" y="1698"/>
                  <a:pt x="2600" y="1350"/>
                </a:cubicBezTo>
                <a:cubicBezTo>
                  <a:pt x="2599" y="1310"/>
                  <a:pt x="2521" y="1132"/>
                  <a:pt x="2500" y="1111"/>
                </a:cubicBezTo>
                <a:cubicBezTo>
                  <a:pt x="2491" y="1062"/>
                  <a:pt x="2467" y="1025"/>
                  <a:pt x="2431" y="989"/>
                </a:cubicBezTo>
                <a:cubicBezTo>
                  <a:pt x="2410" y="935"/>
                  <a:pt x="2372" y="900"/>
                  <a:pt x="2339" y="850"/>
                </a:cubicBezTo>
                <a:cubicBezTo>
                  <a:pt x="2272" y="750"/>
                  <a:pt x="2192" y="650"/>
                  <a:pt x="2109" y="566"/>
                </a:cubicBezTo>
                <a:cubicBezTo>
                  <a:pt x="2063" y="519"/>
                  <a:pt x="2109" y="551"/>
                  <a:pt x="2063" y="497"/>
                </a:cubicBezTo>
                <a:cubicBezTo>
                  <a:pt x="2044" y="475"/>
                  <a:pt x="2019" y="459"/>
                  <a:pt x="2001" y="436"/>
                </a:cubicBezTo>
                <a:cubicBezTo>
                  <a:pt x="1959" y="382"/>
                  <a:pt x="1916" y="331"/>
                  <a:pt x="1878" y="274"/>
                </a:cubicBezTo>
                <a:cubicBezTo>
                  <a:pt x="1863" y="252"/>
                  <a:pt x="1843" y="233"/>
                  <a:pt x="1825" y="213"/>
                </a:cubicBezTo>
                <a:cubicBezTo>
                  <a:pt x="1813" y="199"/>
                  <a:pt x="1786" y="175"/>
                  <a:pt x="1786" y="175"/>
                </a:cubicBezTo>
                <a:cubicBezTo>
                  <a:pt x="1770" y="128"/>
                  <a:pt x="1790" y="171"/>
                  <a:pt x="1755" y="136"/>
                </a:cubicBezTo>
                <a:cubicBezTo>
                  <a:pt x="1695" y="76"/>
                  <a:pt x="1793" y="153"/>
                  <a:pt x="1717" y="90"/>
                </a:cubicBezTo>
                <a:cubicBezTo>
                  <a:pt x="1608" y="0"/>
                  <a:pt x="1431" y="13"/>
                  <a:pt x="1302" y="13"/>
                </a:cubicBezTo>
              </a:path>
            </a:pathLst>
          </a:custGeom>
          <a:noFill/>
          <a:ln w="127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l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03280" y="1133640"/>
            <a:ext cx="6985080" cy="5060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365120" y="682560"/>
            <a:ext cx="4575240" cy="4791240"/>
          </a:xfrm>
          <a:custGeom>
            <a:avLst/>
            <a:gdLst/>
            <a:ahLst/>
            <a:rect l="l" t="t" r="r" b="b"/>
            <a:pathLst>
              <a:path w="3756" h="3018">
                <a:moveTo>
                  <a:pt x="0" y="0"/>
                </a:moveTo>
                <a:cubicBezTo>
                  <a:pt x="18" y="17"/>
                  <a:pt x="33" y="32"/>
                  <a:pt x="54" y="46"/>
                </a:cubicBezTo>
                <a:cubicBezTo>
                  <a:pt x="83" y="107"/>
                  <a:pt x="135" y="149"/>
                  <a:pt x="177" y="200"/>
                </a:cubicBezTo>
                <a:cubicBezTo>
                  <a:pt x="198" y="225"/>
                  <a:pt x="217" y="252"/>
                  <a:pt x="238" y="277"/>
                </a:cubicBezTo>
                <a:cubicBezTo>
                  <a:pt x="258" y="302"/>
                  <a:pt x="292" y="323"/>
                  <a:pt x="315" y="346"/>
                </a:cubicBezTo>
                <a:cubicBezTo>
                  <a:pt x="343" y="375"/>
                  <a:pt x="388" y="394"/>
                  <a:pt x="415" y="422"/>
                </a:cubicBezTo>
                <a:cubicBezTo>
                  <a:pt x="439" y="448"/>
                  <a:pt x="470" y="472"/>
                  <a:pt x="499" y="492"/>
                </a:cubicBezTo>
                <a:cubicBezTo>
                  <a:pt x="523" y="527"/>
                  <a:pt x="574" y="562"/>
                  <a:pt x="615" y="576"/>
                </a:cubicBezTo>
                <a:cubicBezTo>
                  <a:pt x="660" y="611"/>
                  <a:pt x="705" y="645"/>
                  <a:pt x="753" y="676"/>
                </a:cubicBezTo>
                <a:cubicBezTo>
                  <a:pt x="777" y="692"/>
                  <a:pt x="788" y="724"/>
                  <a:pt x="814" y="737"/>
                </a:cubicBezTo>
                <a:cubicBezTo>
                  <a:pt x="824" y="742"/>
                  <a:pt x="835" y="748"/>
                  <a:pt x="845" y="753"/>
                </a:cubicBezTo>
                <a:cubicBezTo>
                  <a:pt x="910" y="838"/>
                  <a:pt x="804" y="705"/>
                  <a:pt x="929" y="830"/>
                </a:cubicBezTo>
                <a:cubicBezTo>
                  <a:pt x="1017" y="918"/>
                  <a:pt x="1130" y="983"/>
                  <a:pt x="1229" y="1060"/>
                </a:cubicBezTo>
                <a:cubicBezTo>
                  <a:pt x="1259" y="1083"/>
                  <a:pt x="1293" y="1105"/>
                  <a:pt x="1321" y="1129"/>
                </a:cubicBezTo>
                <a:cubicBezTo>
                  <a:pt x="1356" y="1159"/>
                  <a:pt x="1384" y="1194"/>
                  <a:pt x="1429" y="1206"/>
                </a:cubicBezTo>
                <a:cubicBezTo>
                  <a:pt x="1461" y="1249"/>
                  <a:pt x="1502" y="1279"/>
                  <a:pt x="1552" y="1298"/>
                </a:cubicBezTo>
                <a:cubicBezTo>
                  <a:pt x="1601" y="1347"/>
                  <a:pt x="1670" y="1373"/>
                  <a:pt x="1720" y="1421"/>
                </a:cubicBezTo>
                <a:cubicBezTo>
                  <a:pt x="1773" y="1472"/>
                  <a:pt x="1839" y="1507"/>
                  <a:pt x="1897" y="1551"/>
                </a:cubicBezTo>
                <a:cubicBezTo>
                  <a:pt x="1906" y="1558"/>
                  <a:pt x="1911" y="1568"/>
                  <a:pt x="1920" y="1574"/>
                </a:cubicBezTo>
                <a:cubicBezTo>
                  <a:pt x="1934" y="1584"/>
                  <a:pt x="1952" y="1588"/>
                  <a:pt x="1966" y="1598"/>
                </a:cubicBezTo>
                <a:cubicBezTo>
                  <a:pt x="2003" y="1624"/>
                  <a:pt x="2034" y="1665"/>
                  <a:pt x="2066" y="1697"/>
                </a:cubicBezTo>
                <a:cubicBezTo>
                  <a:pt x="2097" y="1728"/>
                  <a:pt x="2138" y="1757"/>
                  <a:pt x="2174" y="1782"/>
                </a:cubicBezTo>
                <a:cubicBezTo>
                  <a:pt x="2199" y="1820"/>
                  <a:pt x="2181" y="1800"/>
                  <a:pt x="2235" y="1836"/>
                </a:cubicBezTo>
                <a:cubicBezTo>
                  <a:pt x="2293" y="1875"/>
                  <a:pt x="2347" y="1925"/>
                  <a:pt x="2404" y="1966"/>
                </a:cubicBezTo>
                <a:cubicBezTo>
                  <a:pt x="2511" y="2045"/>
                  <a:pt x="2626" y="2113"/>
                  <a:pt x="2734" y="2189"/>
                </a:cubicBezTo>
                <a:cubicBezTo>
                  <a:pt x="2794" y="2231"/>
                  <a:pt x="2836" y="2300"/>
                  <a:pt x="2896" y="2342"/>
                </a:cubicBezTo>
                <a:cubicBezTo>
                  <a:pt x="2944" y="2375"/>
                  <a:pt x="2996" y="2406"/>
                  <a:pt x="3041" y="2442"/>
                </a:cubicBezTo>
                <a:cubicBezTo>
                  <a:pt x="3078" y="2472"/>
                  <a:pt x="3111" y="2503"/>
                  <a:pt x="3157" y="2519"/>
                </a:cubicBezTo>
                <a:cubicBezTo>
                  <a:pt x="3197" y="2559"/>
                  <a:pt x="3247" y="2588"/>
                  <a:pt x="3295" y="2619"/>
                </a:cubicBezTo>
                <a:cubicBezTo>
                  <a:pt x="3316" y="2633"/>
                  <a:pt x="3364" y="2650"/>
                  <a:pt x="3364" y="2650"/>
                </a:cubicBezTo>
                <a:cubicBezTo>
                  <a:pt x="3374" y="2658"/>
                  <a:pt x="3384" y="2667"/>
                  <a:pt x="3395" y="2673"/>
                </a:cubicBezTo>
                <a:cubicBezTo>
                  <a:pt x="3402" y="2677"/>
                  <a:pt x="3412" y="2675"/>
                  <a:pt x="3418" y="2680"/>
                </a:cubicBezTo>
                <a:cubicBezTo>
                  <a:pt x="3448" y="2702"/>
                  <a:pt x="3475" y="2739"/>
                  <a:pt x="3502" y="2765"/>
                </a:cubicBezTo>
                <a:cubicBezTo>
                  <a:pt x="3530" y="2792"/>
                  <a:pt x="3563" y="2811"/>
                  <a:pt x="3587" y="2842"/>
                </a:cubicBezTo>
                <a:cubicBezTo>
                  <a:pt x="3617" y="2881"/>
                  <a:pt x="3675" y="2952"/>
                  <a:pt x="3717" y="2980"/>
                </a:cubicBezTo>
                <a:cubicBezTo>
                  <a:pt x="3722" y="2988"/>
                  <a:pt x="3726" y="2996"/>
                  <a:pt x="3733" y="3003"/>
                </a:cubicBezTo>
                <a:cubicBezTo>
                  <a:pt x="3740" y="3009"/>
                  <a:pt x="3756" y="3018"/>
                  <a:pt x="3756" y="3018"/>
                </a:cubicBez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62000" y="438120"/>
            <a:ext cx="3670560" cy="5486400"/>
          </a:xfrm>
          <a:custGeom>
            <a:avLst/>
            <a:gdLst/>
            <a:ahLst/>
            <a:rect l="l" t="t" r="r" b="b"/>
            <a:pathLst>
              <a:path w="2312" h="3456">
                <a:moveTo>
                  <a:pt x="2312" y="0"/>
                </a:moveTo>
                <a:cubicBezTo>
                  <a:pt x="2294" y="71"/>
                  <a:pt x="2256" y="134"/>
                  <a:pt x="2228" y="200"/>
                </a:cubicBezTo>
                <a:cubicBezTo>
                  <a:pt x="2129" y="432"/>
                  <a:pt x="2000" y="641"/>
                  <a:pt x="1844" y="838"/>
                </a:cubicBezTo>
                <a:cubicBezTo>
                  <a:pt x="1835" y="849"/>
                  <a:pt x="1836" y="865"/>
                  <a:pt x="1828" y="876"/>
                </a:cubicBezTo>
                <a:cubicBezTo>
                  <a:pt x="1807" y="908"/>
                  <a:pt x="1782" y="937"/>
                  <a:pt x="1759" y="968"/>
                </a:cubicBezTo>
                <a:cubicBezTo>
                  <a:pt x="1643" y="1123"/>
                  <a:pt x="1529" y="1278"/>
                  <a:pt x="1429" y="1444"/>
                </a:cubicBezTo>
                <a:cubicBezTo>
                  <a:pt x="1386" y="1516"/>
                  <a:pt x="1323" y="1576"/>
                  <a:pt x="1275" y="1644"/>
                </a:cubicBezTo>
                <a:cubicBezTo>
                  <a:pt x="1254" y="1674"/>
                  <a:pt x="1230" y="1703"/>
                  <a:pt x="1214" y="1736"/>
                </a:cubicBezTo>
                <a:cubicBezTo>
                  <a:pt x="1209" y="1746"/>
                  <a:pt x="1206" y="1758"/>
                  <a:pt x="1199" y="1767"/>
                </a:cubicBezTo>
                <a:cubicBezTo>
                  <a:pt x="1172" y="1806"/>
                  <a:pt x="1180" y="1773"/>
                  <a:pt x="1160" y="1813"/>
                </a:cubicBezTo>
                <a:cubicBezTo>
                  <a:pt x="1122" y="1888"/>
                  <a:pt x="1166" y="1820"/>
                  <a:pt x="1129" y="1874"/>
                </a:cubicBezTo>
                <a:cubicBezTo>
                  <a:pt x="1115" y="1919"/>
                  <a:pt x="1079" y="1948"/>
                  <a:pt x="1060" y="1990"/>
                </a:cubicBezTo>
                <a:cubicBezTo>
                  <a:pt x="1053" y="2005"/>
                  <a:pt x="1052" y="2022"/>
                  <a:pt x="1045" y="2036"/>
                </a:cubicBezTo>
                <a:cubicBezTo>
                  <a:pt x="1022" y="2082"/>
                  <a:pt x="999" y="2093"/>
                  <a:pt x="968" y="2136"/>
                </a:cubicBezTo>
                <a:cubicBezTo>
                  <a:pt x="919" y="2204"/>
                  <a:pt x="873" y="2279"/>
                  <a:pt x="830" y="2351"/>
                </a:cubicBezTo>
                <a:cubicBezTo>
                  <a:pt x="818" y="2371"/>
                  <a:pt x="798" y="2385"/>
                  <a:pt x="784" y="2404"/>
                </a:cubicBezTo>
                <a:cubicBezTo>
                  <a:pt x="702" y="2520"/>
                  <a:pt x="728" y="2471"/>
                  <a:pt x="684" y="2581"/>
                </a:cubicBezTo>
                <a:cubicBezTo>
                  <a:pt x="674" y="2606"/>
                  <a:pt x="646" y="2620"/>
                  <a:pt x="630" y="2642"/>
                </a:cubicBezTo>
                <a:cubicBezTo>
                  <a:pt x="581" y="2707"/>
                  <a:pt x="540" y="2781"/>
                  <a:pt x="484" y="2842"/>
                </a:cubicBezTo>
                <a:cubicBezTo>
                  <a:pt x="452" y="2877"/>
                  <a:pt x="413" y="2905"/>
                  <a:pt x="384" y="2942"/>
                </a:cubicBezTo>
                <a:cubicBezTo>
                  <a:pt x="343" y="2994"/>
                  <a:pt x="307" y="3043"/>
                  <a:pt x="262" y="3088"/>
                </a:cubicBezTo>
                <a:cubicBezTo>
                  <a:pt x="223" y="3127"/>
                  <a:pt x="200" y="3180"/>
                  <a:pt x="162" y="3218"/>
                </a:cubicBezTo>
                <a:cubicBezTo>
                  <a:pt x="150" y="3253"/>
                  <a:pt x="121" y="3273"/>
                  <a:pt x="100" y="3303"/>
                </a:cubicBezTo>
                <a:cubicBezTo>
                  <a:pt x="91" y="3333"/>
                  <a:pt x="59" y="3398"/>
                  <a:pt x="39" y="3418"/>
                </a:cubicBezTo>
                <a:cubicBezTo>
                  <a:pt x="26" y="3431"/>
                  <a:pt x="0" y="3456"/>
                  <a:pt x="0" y="3456"/>
                </a:cubicBez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l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22200" y="1515960"/>
            <a:ext cx="6626160" cy="4803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50920" y="981000"/>
            <a:ext cx="7921440" cy="5256360"/>
          </a:xfrm>
          <a:custGeom>
            <a:avLst/>
            <a:gdLst/>
            <a:ahLst/>
            <a:rect l="l" t="t" r="r" b="b"/>
            <a:pathLst>
              <a:path w="2608" h="4050">
                <a:moveTo>
                  <a:pt x="1072" y="13"/>
                </a:moveTo>
                <a:cubicBezTo>
                  <a:pt x="854" y="284"/>
                  <a:pt x="632" y="552"/>
                  <a:pt x="419" y="827"/>
                </a:cubicBezTo>
                <a:cubicBezTo>
                  <a:pt x="409" y="840"/>
                  <a:pt x="401" y="901"/>
                  <a:pt x="396" y="919"/>
                </a:cubicBezTo>
                <a:cubicBezTo>
                  <a:pt x="365" y="1023"/>
                  <a:pt x="345" y="1147"/>
                  <a:pt x="296" y="1242"/>
                </a:cubicBezTo>
                <a:cubicBezTo>
                  <a:pt x="282" y="1319"/>
                  <a:pt x="270" y="1402"/>
                  <a:pt x="235" y="1472"/>
                </a:cubicBezTo>
                <a:cubicBezTo>
                  <a:pt x="216" y="1561"/>
                  <a:pt x="199" y="1656"/>
                  <a:pt x="166" y="1741"/>
                </a:cubicBezTo>
                <a:cubicBezTo>
                  <a:pt x="154" y="1832"/>
                  <a:pt x="140" y="1940"/>
                  <a:pt x="104" y="2025"/>
                </a:cubicBezTo>
                <a:cubicBezTo>
                  <a:pt x="82" y="2147"/>
                  <a:pt x="68" y="2277"/>
                  <a:pt x="27" y="2394"/>
                </a:cubicBezTo>
                <a:cubicBezTo>
                  <a:pt x="10" y="2503"/>
                  <a:pt x="15" y="2614"/>
                  <a:pt x="4" y="2724"/>
                </a:cubicBezTo>
                <a:cubicBezTo>
                  <a:pt x="9" y="2941"/>
                  <a:pt x="0" y="3298"/>
                  <a:pt x="143" y="3492"/>
                </a:cubicBezTo>
                <a:cubicBezTo>
                  <a:pt x="171" y="3530"/>
                  <a:pt x="185" y="3573"/>
                  <a:pt x="219" y="3607"/>
                </a:cubicBezTo>
                <a:cubicBezTo>
                  <a:pt x="232" y="3646"/>
                  <a:pt x="267" y="3660"/>
                  <a:pt x="281" y="3700"/>
                </a:cubicBezTo>
                <a:cubicBezTo>
                  <a:pt x="299" y="3752"/>
                  <a:pt x="384" y="3836"/>
                  <a:pt x="434" y="3861"/>
                </a:cubicBezTo>
                <a:cubicBezTo>
                  <a:pt x="473" y="3880"/>
                  <a:pt x="513" y="3907"/>
                  <a:pt x="550" y="3930"/>
                </a:cubicBezTo>
                <a:cubicBezTo>
                  <a:pt x="559" y="3936"/>
                  <a:pt x="627" y="3959"/>
                  <a:pt x="634" y="3961"/>
                </a:cubicBezTo>
                <a:cubicBezTo>
                  <a:pt x="740" y="3998"/>
                  <a:pt x="853" y="4014"/>
                  <a:pt x="964" y="4022"/>
                </a:cubicBezTo>
                <a:cubicBezTo>
                  <a:pt x="1072" y="4050"/>
                  <a:pt x="1132" y="4035"/>
                  <a:pt x="1264" y="4030"/>
                </a:cubicBezTo>
                <a:cubicBezTo>
                  <a:pt x="1397" y="3996"/>
                  <a:pt x="1381" y="4013"/>
                  <a:pt x="1617" y="4007"/>
                </a:cubicBezTo>
                <a:cubicBezTo>
                  <a:pt x="1625" y="4004"/>
                  <a:pt x="1632" y="4001"/>
                  <a:pt x="1640" y="3999"/>
                </a:cubicBezTo>
                <a:cubicBezTo>
                  <a:pt x="1655" y="3995"/>
                  <a:pt x="1671" y="3996"/>
                  <a:pt x="1686" y="3991"/>
                </a:cubicBezTo>
                <a:cubicBezTo>
                  <a:pt x="1695" y="3988"/>
                  <a:pt x="1700" y="3979"/>
                  <a:pt x="1709" y="3976"/>
                </a:cubicBezTo>
                <a:cubicBezTo>
                  <a:pt x="1721" y="3971"/>
                  <a:pt x="1735" y="3971"/>
                  <a:pt x="1748" y="3968"/>
                </a:cubicBezTo>
                <a:cubicBezTo>
                  <a:pt x="1819" y="3924"/>
                  <a:pt x="1892" y="3909"/>
                  <a:pt x="1963" y="3869"/>
                </a:cubicBezTo>
                <a:cubicBezTo>
                  <a:pt x="2011" y="3842"/>
                  <a:pt x="2047" y="3799"/>
                  <a:pt x="2093" y="3769"/>
                </a:cubicBezTo>
                <a:cubicBezTo>
                  <a:pt x="2117" y="3734"/>
                  <a:pt x="2156" y="3706"/>
                  <a:pt x="2186" y="3677"/>
                </a:cubicBezTo>
                <a:cubicBezTo>
                  <a:pt x="2201" y="3663"/>
                  <a:pt x="2226" y="3610"/>
                  <a:pt x="2239" y="3592"/>
                </a:cubicBezTo>
                <a:cubicBezTo>
                  <a:pt x="2269" y="3550"/>
                  <a:pt x="2294" y="3506"/>
                  <a:pt x="2331" y="3469"/>
                </a:cubicBezTo>
                <a:cubicBezTo>
                  <a:pt x="2344" y="3405"/>
                  <a:pt x="2393" y="3360"/>
                  <a:pt x="2416" y="3300"/>
                </a:cubicBezTo>
                <a:cubicBezTo>
                  <a:pt x="2425" y="3249"/>
                  <a:pt x="2446" y="3200"/>
                  <a:pt x="2470" y="3154"/>
                </a:cubicBezTo>
                <a:cubicBezTo>
                  <a:pt x="2491" y="3068"/>
                  <a:pt x="2519" y="2985"/>
                  <a:pt x="2546" y="2901"/>
                </a:cubicBezTo>
                <a:cubicBezTo>
                  <a:pt x="2564" y="2761"/>
                  <a:pt x="2568" y="2616"/>
                  <a:pt x="2600" y="2479"/>
                </a:cubicBezTo>
                <a:cubicBezTo>
                  <a:pt x="2603" y="2451"/>
                  <a:pt x="2608" y="2422"/>
                  <a:pt x="2608" y="2394"/>
                </a:cubicBezTo>
                <a:cubicBezTo>
                  <a:pt x="2608" y="2046"/>
                  <a:pt x="2607" y="1698"/>
                  <a:pt x="2600" y="1350"/>
                </a:cubicBezTo>
                <a:cubicBezTo>
                  <a:pt x="2599" y="1310"/>
                  <a:pt x="2521" y="1132"/>
                  <a:pt x="2500" y="1111"/>
                </a:cubicBezTo>
                <a:cubicBezTo>
                  <a:pt x="2491" y="1062"/>
                  <a:pt x="2467" y="1025"/>
                  <a:pt x="2431" y="989"/>
                </a:cubicBezTo>
                <a:cubicBezTo>
                  <a:pt x="2410" y="935"/>
                  <a:pt x="2372" y="900"/>
                  <a:pt x="2339" y="850"/>
                </a:cubicBezTo>
                <a:cubicBezTo>
                  <a:pt x="2272" y="750"/>
                  <a:pt x="2192" y="650"/>
                  <a:pt x="2109" y="566"/>
                </a:cubicBezTo>
                <a:cubicBezTo>
                  <a:pt x="2063" y="519"/>
                  <a:pt x="2109" y="551"/>
                  <a:pt x="2063" y="497"/>
                </a:cubicBezTo>
                <a:cubicBezTo>
                  <a:pt x="2044" y="475"/>
                  <a:pt x="2019" y="459"/>
                  <a:pt x="2001" y="436"/>
                </a:cubicBezTo>
                <a:cubicBezTo>
                  <a:pt x="1959" y="382"/>
                  <a:pt x="1916" y="331"/>
                  <a:pt x="1878" y="274"/>
                </a:cubicBezTo>
                <a:cubicBezTo>
                  <a:pt x="1863" y="252"/>
                  <a:pt x="1843" y="233"/>
                  <a:pt x="1825" y="213"/>
                </a:cubicBezTo>
                <a:cubicBezTo>
                  <a:pt x="1813" y="199"/>
                  <a:pt x="1786" y="175"/>
                  <a:pt x="1786" y="175"/>
                </a:cubicBezTo>
                <a:cubicBezTo>
                  <a:pt x="1770" y="128"/>
                  <a:pt x="1790" y="171"/>
                  <a:pt x="1755" y="136"/>
                </a:cubicBezTo>
                <a:cubicBezTo>
                  <a:pt x="1695" y="76"/>
                  <a:pt x="1793" y="153"/>
                  <a:pt x="1717" y="90"/>
                </a:cubicBezTo>
                <a:cubicBezTo>
                  <a:pt x="1608" y="0"/>
                  <a:pt x="1431" y="13"/>
                  <a:pt x="1302" y="13"/>
                </a:cubicBezTo>
              </a:path>
            </a:pathLst>
          </a:custGeom>
          <a:noFill/>
          <a:ln w="127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l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400040" y="1384200"/>
            <a:ext cx="6340680" cy="4086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365120" y="682560"/>
            <a:ext cx="4575240" cy="4791240"/>
          </a:xfrm>
          <a:custGeom>
            <a:avLst/>
            <a:gdLst/>
            <a:ahLst/>
            <a:rect l="l" t="t" r="r" b="b"/>
            <a:pathLst>
              <a:path w="3756" h="3018">
                <a:moveTo>
                  <a:pt x="0" y="0"/>
                </a:moveTo>
                <a:cubicBezTo>
                  <a:pt x="18" y="17"/>
                  <a:pt x="33" y="32"/>
                  <a:pt x="54" y="46"/>
                </a:cubicBezTo>
                <a:cubicBezTo>
                  <a:pt x="83" y="107"/>
                  <a:pt x="135" y="149"/>
                  <a:pt x="177" y="200"/>
                </a:cubicBezTo>
                <a:cubicBezTo>
                  <a:pt x="198" y="225"/>
                  <a:pt x="217" y="252"/>
                  <a:pt x="238" y="277"/>
                </a:cubicBezTo>
                <a:cubicBezTo>
                  <a:pt x="258" y="302"/>
                  <a:pt x="292" y="323"/>
                  <a:pt x="315" y="346"/>
                </a:cubicBezTo>
                <a:cubicBezTo>
                  <a:pt x="343" y="375"/>
                  <a:pt x="388" y="394"/>
                  <a:pt x="415" y="422"/>
                </a:cubicBezTo>
                <a:cubicBezTo>
                  <a:pt x="439" y="448"/>
                  <a:pt x="470" y="472"/>
                  <a:pt x="499" y="492"/>
                </a:cubicBezTo>
                <a:cubicBezTo>
                  <a:pt x="523" y="527"/>
                  <a:pt x="574" y="562"/>
                  <a:pt x="615" y="576"/>
                </a:cubicBezTo>
                <a:cubicBezTo>
                  <a:pt x="660" y="611"/>
                  <a:pt x="705" y="645"/>
                  <a:pt x="753" y="676"/>
                </a:cubicBezTo>
                <a:cubicBezTo>
                  <a:pt x="777" y="692"/>
                  <a:pt x="788" y="724"/>
                  <a:pt x="814" y="737"/>
                </a:cubicBezTo>
                <a:cubicBezTo>
                  <a:pt x="824" y="742"/>
                  <a:pt x="835" y="748"/>
                  <a:pt x="845" y="753"/>
                </a:cubicBezTo>
                <a:cubicBezTo>
                  <a:pt x="910" y="838"/>
                  <a:pt x="804" y="705"/>
                  <a:pt x="929" y="830"/>
                </a:cubicBezTo>
                <a:cubicBezTo>
                  <a:pt x="1017" y="918"/>
                  <a:pt x="1130" y="983"/>
                  <a:pt x="1229" y="1060"/>
                </a:cubicBezTo>
                <a:cubicBezTo>
                  <a:pt x="1259" y="1083"/>
                  <a:pt x="1293" y="1105"/>
                  <a:pt x="1321" y="1129"/>
                </a:cubicBezTo>
                <a:cubicBezTo>
                  <a:pt x="1356" y="1159"/>
                  <a:pt x="1384" y="1194"/>
                  <a:pt x="1429" y="1206"/>
                </a:cubicBezTo>
                <a:cubicBezTo>
                  <a:pt x="1461" y="1249"/>
                  <a:pt x="1502" y="1279"/>
                  <a:pt x="1552" y="1298"/>
                </a:cubicBezTo>
                <a:cubicBezTo>
                  <a:pt x="1601" y="1347"/>
                  <a:pt x="1670" y="1373"/>
                  <a:pt x="1720" y="1421"/>
                </a:cubicBezTo>
                <a:cubicBezTo>
                  <a:pt x="1773" y="1472"/>
                  <a:pt x="1839" y="1507"/>
                  <a:pt x="1897" y="1551"/>
                </a:cubicBezTo>
                <a:cubicBezTo>
                  <a:pt x="1906" y="1558"/>
                  <a:pt x="1911" y="1568"/>
                  <a:pt x="1920" y="1574"/>
                </a:cubicBezTo>
                <a:cubicBezTo>
                  <a:pt x="1934" y="1584"/>
                  <a:pt x="1952" y="1588"/>
                  <a:pt x="1966" y="1598"/>
                </a:cubicBezTo>
                <a:cubicBezTo>
                  <a:pt x="2003" y="1624"/>
                  <a:pt x="2034" y="1665"/>
                  <a:pt x="2066" y="1697"/>
                </a:cubicBezTo>
                <a:cubicBezTo>
                  <a:pt x="2097" y="1728"/>
                  <a:pt x="2138" y="1757"/>
                  <a:pt x="2174" y="1782"/>
                </a:cubicBezTo>
                <a:cubicBezTo>
                  <a:pt x="2199" y="1820"/>
                  <a:pt x="2181" y="1800"/>
                  <a:pt x="2235" y="1836"/>
                </a:cubicBezTo>
                <a:cubicBezTo>
                  <a:pt x="2293" y="1875"/>
                  <a:pt x="2347" y="1925"/>
                  <a:pt x="2404" y="1966"/>
                </a:cubicBezTo>
                <a:cubicBezTo>
                  <a:pt x="2511" y="2045"/>
                  <a:pt x="2626" y="2113"/>
                  <a:pt x="2734" y="2189"/>
                </a:cubicBezTo>
                <a:cubicBezTo>
                  <a:pt x="2794" y="2231"/>
                  <a:pt x="2836" y="2300"/>
                  <a:pt x="2896" y="2342"/>
                </a:cubicBezTo>
                <a:cubicBezTo>
                  <a:pt x="2944" y="2375"/>
                  <a:pt x="2996" y="2406"/>
                  <a:pt x="3041" y="2442"/>
                </a:cubicBezTo>
                <a:cubicBezTo>
                  <a:pt x="3078" y="2472"/>
                  <a:pt x="3111" y="2503"/>
                  <a:pt x="3157" y="2519"/>
                </a:cubicBezTo>
                <a:cubicBezTo>
                  <a:pt x="3197" y="2559"/>
                  <a:pt x="3247" y="2588"/>
                  <a:pt x="3295" y="2619"/>
                </a:cubicBezTo>
                <a:cubicBezTo>
                  <a:pt x="3316" y="2633"/>
                  <a:pt x="3364" y="2650"/>
                  <a:pt x="3364" y="2650"/>
                </a:cubicBezTo>
                <a:cubicBezTo>
                  <a:pt x="3374" y="2658"/>
                  <a:pt x="3384" y="2667"/>
                  <a:pt x="3395" y="2673"/>
                </a:cubicBezTo>
                <a:cubicBezTo>
                  <a:pt x="3402" y="2677"/>
                  <a:pt x="3412" y="2675"/>
                  <a:pt x="3418" y="2680"/>
                </a:cubicBezTo>
                <a:cubicBezTo>
                  <a:pt x="3448" y="2702"/>
                  <a:pt x="3475" y="2739"/>
                  <a:pt x="3502" y="2765"/>
                </a:cubicBezTo>
                <a:cubicBezTo>
                  <a:pt x="3530" y="2792"/>
                  <a:pt x="3563" y="2811"/>
                  <a:pt x="3587" y="2842"/>
                </a:cubicBezTo>
                <a:cubicBezTo>
                  <a:pt x="3617" y="2881"/>
                  <a:pt x="3675" y="2952"/>
                  <a:pt x="3717" y="2980"/>
                </a:cubicBezTo>
                <a:cubicBezTo>
                  <a:pt x="3722" y="2988"/>
                  <a:pt x="3726" y="2996"/>
                  <a:pt x="3733" y="3003"/>
                </a:cubicBezTo>
                <a:cubicBezTo>
                  <a:pt x="3740" y="3009"/>
                  <a:pt x="3756" y="3018"/>
                  <a:pt x="3756" y="3018"/>
                </a:cubicBez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62000" y="438120"/>
            <a:ext cx="3670560" cy="5486400"/>
          </a:xfrm>
          <a:custGeom>
            <a:avLst/>
            <a:gdLst/>
            <a:ahLst/>
            <a:rect l="l" t="t" r="r" b="b"/>
            <a:pathLst>
              <a:path w="2312" h="3456">
                <a:moveTo>
                  <a:pt x="2312" y="0"/>
                </a:moveTo>
                <a:cubicBezTo>
                  <a:pt x="2294" y="71"/>
                  <a:pt x="2256" y="134"/>
                  <a:pt x="2228" y="200"/>
                </a:cubicBezTo>
                <a:cubicBezTo>
                  <a:pt x="2129" y="432"/>
                  <a:pt x="2000" y="641"/>
                  <a:pt x="1844" y="838"/>
                </a:cubicBezTo>
                <a:cubicBezTo>
                  <a:pt x="1835" y="849"/>
                  <a:pt x="1836" y="865"/>
                  <a:pt x="1828" y="876"/>
                </a:cubicBezTo>
                <a:cubicBezTo>
                  <a:pt x="1807" y="908"/>
                  <a:pt x="1782" y="937"/>
                  <a:pt x="1759" y="968"/>
                </a:cubicBezTo>
                <a:cubicBezTo>
                  <a:pt x="1643" y="1123"/>
                  <a:pt x="1529" y="1278"/>
                  <a:pt x="1429" y="1444"/>
                </a:cubicBezTo>
                <a:cubicBezTo>
                  <a:pt x="1386" y="1516"/>
                  <a:pt x="1323" y="1576"/>
                  <a:pt x="1275" y="1644"/>
                </a:cubicBezTo>
                <a:cubicBezTo>
                  <a:pt x="1254" y="1674"/>
                  <a:pt x="1230" y="1703"/>
                  <a:pt x="1214" y="1736"/>
                </a:cubicBezTo>
                <a:cubicBezTo>
                  <a:pt x="1209" y="1746"/>
                  <a:pt x="1206" y="1758"/>
                  <a:pt x="1199" y="1767"/>
                </a:cubicBezTo>
                <a:cubicBezTo>
                  <a:pt x="1172" y="1806"/>
                  <a:pt x="1180" y="1773"/>
                  <a:pt x="1160" y="1813"/>
                </a:cubicBezTo>
                <a:cubicBezTo>
                  <a:pt x="1122" y="1888"/>
                  <a:pt x="1166" y="1820"/>
                  <a:pt x="1129" y="1874"/>
                </a:cubicBezTo>
                <a:cubicBezTo>
                  <a:pt x="1115" y="1919"/>
                  <a:pt x="1079" y="1948"/>
                  <a:pt x="1060" y="1990"/>
                </a:cubicBezTo>
                <a:cubicBezTo>
                  <a:pt x="1053" y="2005"/>
                  <a:pt x="1052" y="2022"/>
                  <a:pt x="1045" y="2036"/>
                </a:cubicBezTo>
                <a:cubicBezTo>
                  <a:pt x="1022" y="2082"/>
                  <a:pt x="999" y="2093"/>
                  <a:pt x="968" y="2136"/>
                </a:cubicBezTo>
                <a:cubicBezTo>
                  <a:pt x="919" y="2204"/>
                  <a:pt x="873" y="2279"/>
                  <a:pt x="830" y="2351"/>
                </a:cubicBezTo>
                <a:cubicBezTo>
                  <a:pt x="818" y="2371"/>
                  <a:pt x="798" y="2385"/>
                  <a:pt x="784" y="2404"/>
                </a:cubicBezTo>
                <a:cubicBezTo>
                  <a:pt x="702" y="2520"/>
                  <a:pt x="728" y="2471"/>
                  <a:pt x="684" y="2581"/>
                </a:cubicBezTo>
                <a:cubicBezTo>
                  <a:pt x="674" y="2606"/>
                  <a:pt x="646" y="2620"/>
                  <a:pt x="630" y="2642"/>
                </a:cubicBezTo>
                <a:cubicBezTo>
                  <a:pt x="581" y="2707"/>
                  <a:pt x="540" y="2781"/>
                  <a:pt x="484" y="2842"/>
                </a:cubicBezTo>
                <a:cubicBezTo>
                  <a:pt x="452" y="2877"/>
                  <a:pt x="413" y="2905"/>
                  <a:pt x="384" y="2942"/>
                </a:cubicBezTo>
                <a:cubicBezTo>
                  <a:pt x="343" y="2994"/>
                  <a:pt x="307" y="3043"/>
                  <a:pt x="262" y="3088"/>
                </a:cubicBezTo>
                <a:cubicBezTo>
                  <a:pt x="223" y="3127"/>
                  <a:pt x="200" y="3180"/>
                  <a:pt x="162" y="3218"/>
                </a:cubicBezTo>
                <a:cubicBezTo>
                  <a:pt x="150" y="3253"/>
                  <a:pt x="121" y="3273"/>
                  <a:pt x="100" y="3303"/>
                </a:cubicBezTo>
                <a:cubicBezTo>
                  <a:pt x="91" y="3333"/>
                  <a:pt x="59" y="3398"/>
                  <a:pt x="39" y="3418"/>
                </a:cubicBezTo>
                <a:cubicBezTo>
                  <a:pt x="26" y="3431"/>
                  <a:pt x="0" y="3456"/>
                  <a:pt x="0" y="3456"/>
                </a:cubicBez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l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47680" y="1866960"/>
            <a:ext cx="8645400" cy="3124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08000" y="981000"/>
            <a:ext cx="8640720" cy="5112000"/>
          </a:xfrm>
          <a:custGeom>
            <a:avLst/>
            <a:gdLst/>
            <a:ahLst/>
            <a:rect l="l" t="t" r="r" b="b"/>
            <a:pathLst>
              <a:path w="2608" h="4050">
                <a:moveTo>
                  <a:pt x="1072" y="13"/>
                </a:moveTo>
                <a:cubicBezTo>
                  <a:pt x="854" y="284"/>
                  <a:pt x="632" y="552"/>
                  <a:pt x="419" y="827"/>
                </a:cubicBezTo>
                <a:cubicBezTo>
                  <a:pt x="409" y="840"/>
                  <a:pt x="401" y="901"/>
                  <a:pt x="396" y="919"/>
                </a:cubicBezTo>
                <a:cubicBezTo>
                  <a:pt x="365" y="1023"/>
                  <a:pt x="345" y="1147"/>
                  <a:pt x="296" y="1242"/>
                </a:cubicBezTo>
                <a:cubicBezTo>
                  <a:pt x="282" y="1319"/>
                  <a:pt x="270" y="1402"/>
                  <a:pt x="235" y="1472"/>
                </a:cubicBezTo>
                <a:cubicBezTo>
                  <a:pt x="216" y="1561"/>
                  <a:pt x="199" y="1656"/>
                  <a:pt x="166" y="1741"/>
                </a:cubicBezTo>
                <a:cubicBezTo>
                  <a:pt x="154" y="1832"/>
                  <a:pt x="140" y="1940"/>
                  <a:pt x="104" y="2025"/>
                </a:cubicBezTo>
                <a:cubicBezTo>
                  <a:pt x="82" y="2147"/>
                  <a:pt x="68" y="2277"/>
                  <a:pt x="27" y="2394"/>
                </a:cubicBezTo>
                <a:cubicBezTo>
                  <a:pt x="10" y="2503"/>
                  <a:pt x="15" y="2614"/>
                  <a:pt x="4" y="2724"/>
                </a:cubicBezTo>
                <a:cubicBezTo>
                  <a:pt x="9" y="2941"/>
                  <a:pt x="0" y="3298"/>
                  <a:pt x="143" y="3492"/>
                </a:cubicBezTo>
                <a:cubicBezTo>
                  <a:pt x="171" y="3530"/>
                  <a:pt x="185" y="3573"/>
                  <a:pt x="219" y="3607"/>
                </a:cubicBezTo>
                <a:cubicBezTo>
                  <a:pt x="232" y="3646"/>
                  <a:pt x="267" y="3660"/>
                  <a:pt x="281" y="3700"/>
                </a:cubicBezTo>
                <a:cubicBezTo>
                  <a:pt x="299" y="3752"/>
                  <a:pt x="384" y="3836"/>
                  <a:pt x="434" y="3861"/>
                </a:cubicBezTo>
                <a:cubicBezTo>
                  <a:pt x="473" y="3880"/>
                  <a:pt x="513" y="3907"/>
                  <a:pt x="550" y="3930"/>
                </a:cubicBezTo>
                <a:cubicBezTo>
                  <a:pt x="559" y="3936"/>
                  <a:pt x="627" y="3959"/>
                  <a:pt x="634" y="3961"/>
                </a:cubicBezTo>
                <a:cubicBezTo>
                  <a:pt x="740" y="3998"/>
                  <a:pt x="853" y="4014"/>
                  <a:pt x="964" y="4022"/>
                </a:cubicBezTo>
                <a:cubicBezTo>
                  <a:pt x="1072" y="4050"/>
                  <a:pt x="1132" y="4035"/>
                  <a:pt x="1264" y="4030"/>
                </a:cubicBezTo>
                <a:cubicBezTo>
                  <a:pt x="1397" y="3996"/>
                  <a:pt x="1381" y="4013"/>
                  <a:pt x="1617" y="4007"/>
                </a:cubicBezTo>
                <a:cubicBezTo>
                  <a:pt x="1625" y="4004"/>
                  <a:pt x="1632" y="4001"/>
                  <a:pt x="1640" y="3999"/>
                </a:cubicBezTo>
                <a:cubicBezTo>
                  <a:pt x="1655" y="3995"/>
                  <a:pt x="1671" y="3996"/>
                  <a:pt x="1686" y="3991"/>
                </a:cubicBezTo>
                <a:cubicBezTo>
                  <a:pt x="1695" y="3988"/>
                  <a:pt x="1700" y="3979"/>
                  <a:pt x="1709" y="3976"/>
                </a:cubicBezTo>
                <a:cubicBezTo>
                  <a:pt x="1721" y="3971"/>
                  <a:pt x="1735" y="3971"/>
                  <a:pt x="1748" y="3968"/>
                </a:cubicBezTo>
                <a:cubicBezTo>
                  <a:pt x="1819" y="3924"/>
                  <a:pt x="1892" y="3909"/>
                  <a:pt x="1963" y="3869"/>
                </a:cubicBezTo>
                <a:cubicBezTo>
                  <a:pt x="2011" y="3842"/>
                  <a:pt x="2047" y="3799"/>
                  <a:pt x="2093" y="3769"/>
                </a:cubicBezTo>
                <a:cubicBezTo>
                  <a:pt x="2117" y="3734"/>
                  <a:pt x="2156" y="3706"/>
                  <a:pt x="2186" y="3677"/>
                </a:cubicBezTo>
                <a:cubicBezTo>
                  <a:pt x="2201" y="3663"/>
                  <a:pt x="2226" y="3610"/>
                  <a:pt x="2239" y="3592"/>
                </a:cubicBezTo>
                <a:cubicBezTo>
                  <a:pt x="2269" y="3550"/>
                  <a:pt x="2294" y="3506"/>
                  <a:pt x="2331" y="3469"/>
                </a:cubicBezTo>
                <a:cubicBezTo>
                  <a:pt x="2344" y="3405"/>
                  <a:pt x="2393" y="3360"/>
                  <a:pt x="2416" y="3300"/>
                </a:cubicBezTo>
                <a:cubicBezTo>
                  <a:pt x="2425" y="3249"/>
                  <a:pt x="2446" y="3200"/>
                  <a:pt x="2470" y="3154"/>
                </a:cubicBezTo>
                <a:cubicBezTo>
                  <a:pt x="2491" y="3068"/>
                  <a:pt x="2519" y="2985"/>
                  <a:pt x="2546" y="2901"/>
                </a:cubicBezTo>
                <a:cubicBezTo>
                  <a:pt x="2564" y="2761"/>
                  <a:pt x="2568" y="2616"/>
                  <a:pt x="2600" y="2479"/>
                </a:cubicBezTo>
                <a:cubicBezTo>
                  <a:pt x="2603" y="2451"/>
                  <a:pt x="2608" y="2422"/>
                  <a:pt x="2608" y="2394"/>
                </a:cubicBezTo>
                <a:cubicBezTo>
                  <a:pt x="2608" y="2046"/>
                  <a:pt x="2607" y="1698"/>
                  <a:pt x="2600" y="1350"/>
                </a:cubicBezTo>
                <a:cubicBezTo>
                  <a:pt x="2599" y="1310"/>
                  <a:pt x="2521" y="1132"/>
                  <a:pt x="2500" y="1111"/>
                </a:cubicBezTo>
                <a:cubicBezTo>
                  <a:pt x="2491" y="1062"/>
                  <a:pt x="2467" y="1025"/>
                  <a:pt x="2431" y="989"/>
                </a:cubicBezTo>
                <a:cubicBezTo>
                  <a:pt x="2410" y="935"/>
                  <a:pt x="2372" y="900"/>
                  <a:pt x="2339" y="850"/>
                </a:cubicBezTo>
                <a:cubicBezTo>
                  <a:pt x="2272" y="750"/>
                  <a:pt x="2192" y="650"/>
                  <a:pt x="2109" y="566"/>
                </a:cubicBezTo>
                <a:cubicBezTo>
                  <a:pt x="2063" y="519"/>
                  <a:pt x="2109" y="551"/>
                  <a:pt x="2063" y="497"/>
                </a:cubicBezTo>
                <a:cubicBezTo>
                  <a:pt x="2044" y="475"/>
                  <a:pt x="2019" y="459"/>
                  <a:pt x="2001" y="436"/>
                </a:cubicBezTo>
                <a:cubicBezTo>
                  <a:pt x="1959" y="382"/>
                  <a:pt x="1916" y="331"/>
                  <a:pt x="1878" y="274"/>
                </a:cubicBezTo>
                <a:cubicBezTo>
                  <a:pt x="1863" y="252"/>
                  <a:pt x="1843" y="233"/>
                  <a:pt x="1825" y="213"/>
                </a:cubicBezTo>
                <a:cubicBezTo>
                  <a:pt x="1813" y="199"/>
                  <a:pt x="1786" y="175"/>
                  <a:pt x="1786" y="175"/>
                </a:cubicBezTo>
                <a:cubicBezTo>
                  <a:pt x="1770" y="128"/>
                  <a:pt x="1790" y="171"/>
                  <a:pt x="1755" y="136"/>
                </a:cubicBezTo>
                <a:cubicBezTo>
                  <a:pt x="1695" y="76"/>
                  <a:pt x="1793" y="153"/>
                  <a:pt x="1717" y="90"/>
                </a:cubicBezTo>
                <a:cubicBezTo>
                  <a:pt x="1608" y="0"/>
                  <a:pt x="1431" y="13"/>
                  <a:pt x="1302" y="13"/>
                </a:cubicBezTo>
              </a:path>
            </a:pathLst>
          </a:custGeom>
          <a:noFill/>
          <a:ln w="127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l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08000" y="1063800"/>
            <a:ext cx="8280360" cy="5132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365120" y="682560"/>
            <a:ext cx="6396120" cy="4791240"/>
          </a:xfrm>
          <a:custGeom>
            <a:avLst/>
            <a:gdLst/>
            <a:ahLst/>
            <a:rect l="l" t="t" r="r" b="b"/>
            <a:pathLst>
              <a:path w="3756" h="3018">
                <a:moveTo>
                  <a:pt x="0" y="0"/>
                </a:moveTo>
                <a:cubicBezTo>
                  <a:pt x="18" y="17"/>
                  <a:pt x="33" y="32"/>
                  <a:pt x="54" y="46"/>
                </a:cubicBezTo>
                <a:cubicBezTo>
                  <a:pt x="83" y="107"/>
                  <a:pt x="135" y="149"/>
                  <a:pt x="177" y="200"/>
                </a:cubicBezTo>
                <a:cubicBezTo>
                  <a:pt x="198" y="225"/>
                  <a:pt x="217" y="252"/>
                  <a:pt x="238" y="277"/>
                </a:cubicBezTo>
                <a:cubicBezTo>
                  <a:pt x="258" y="302"/>
                  <a:pt x="292" y="323"/>
                  <a:pt x="315" y="346"/>
                </a:cubicBezTo>
                <a:cubicBezTo>
                  <a:pt x="343" y="375"/>
                  <a:pt x="388" y="394"/>
                  <a:pt x="415" y="422"/>
                </a:cubicBezTo>
                <a:cubicBezTo>
                  <a:pt x="439" y="448"/>
                  <a:pt x="470" y="472"/>
                  <a:pt x="499" y="492"/>
                </a:cubicBezTo>
                <a:cubicBezTo>
                  <a:pt x="523" y="527"/>
                  <a:pt x="574" y="562"/>
                  <a:pt x="615" y="576"/>
                </a:cubicBezTo>
                <a:cubicBezTo>
                  <a:pt x="660" y="611"/>
                  <a:pt x="705" y="645"/>
                  <a:pt x="753" y="676"/>
                </a:cubicBezTo>
                <a:cubicBezTo>
                  <a:pt x="777" y="692"/>
                  <a:pt x="788" y="724"/>
                  <a:pt x="814" y="737"/>
                </a:cubicBezTo>
                <a:cubicBezTo>
                  <a:pt x="824" y="742"/>
                  <a:pt x="835" y="748"/>
                  <a:pt x="845" y="753"/>
                </a:cubicBezTo>
                <a:cubicBezTo>
                  <a:pt x="910" y="838"/>
                  <a:pt x="804" y="705"/>
                  <a:pt x="929" y="830"/>
                </a:cubicBezTo>
                <a:cubicBezTo>
                  <a:pt x="1017" y="918"/>
                  <a:pt x="1130" y="983"/>
                  <a:pt x="1229" y="1060"/>
                </a:cubicBezTo>
                <a:cubicBezTo>
                  <a:pt x="1259" y="1083"/>
                  <a:pt x="1293" y="1105"/>
                  <a:pt x="1321" y="1129"/>
                </a:cubicBezTo>
                <a:cubicBezTo>
                  <a:pt x="1356" y="1159"/>
                  <a:pt x="1384" y="1194"/>
                  <a:pt x="1429" y="1206"/>
                </a:cubicBezTo>
                <a:cubicBezTo>
                  <a:pt x="1461" y="1249"/>
                  <a:pt x="1502" y="1279"/>
                  <a:pt x="1552" y="1298"/>
                </a:cubicBezTo>
                <a:cubicBezTo>
                  <a:pt x="1601" y="1347"/>
                  <a:pt x="1670" y="1373"/>
                  <a:pt x="1720" y="1421"/>
                </a:cubicBezTo>
                <a:cubicBezTo>
                  <a:pt x="1773" y="1472"/>
                  <a:pt x="1839" y="1507"/>
                  <a:pt x="1897" y="1551"/>
                </a:cubicBezTo>
                <a:cubicBezTo>
                  <a:pt x="1906" y="1558"/>
                  <a:pt x="1911" y="1568"/>
                  <a:pt x="1920" y="1574"/>
                </a:cubicBezTo>
                <a:cubicBezTo>
                  <a:pt x="1934" y="1584"/>
                  <a:pt x="1952" y="1588"/>
                  <a:pt x="1966" y="1598"/>
                </a:cubicBezTo>
                <a:cubicBezTo>
                  <a:pt x="2003" y="1624"/>
                  <a:pt x="2034" y="1665"/>
                  <a:pt x="2066" y="1697"/>
                </a:cubicBezTo>
                <a:cubicBezTo>
                  <a:pt x="2097" y="1728"/>
                  <a:pt x="2138" y="1757"/>
                  <a:pt x="2174" y="1782"/>
                </a:cubicBezTo>
                <a:cubicBezTo>
                  <a:pt x="2199" y="1820"/>
                  <a:pt x="2181" y="1800"/>
                  <a:pt x="2235" y="1836"/>
                </a:cubicBezTo>
                <a:cubicBezTo>
                  <a:pt x="2293" y="1875"/>
                  <a:pt x="2347" y="1925"/>
                  <a:pt x="2404" y="1966"/>
                </a:cubicBezTo>
                <a:cubicBezTo>
                  <a:pt x="2511" y="2045"/>
                  <a:pt x="2626" y="2113"/>
                  <a:pt x="2734" y="2189"/>
                </a:cubicBezTo>
                <a:cubicBezTo>
                  <a:pt x="2794" y="2231"/>
                  <a:pt x="2836" y="2300"/>
                  <a:pt x="2896" y="2342"/>
                </a:cubicBezTo>
                <a:cubicBezTo>
                  <a:pt x="2944" y="2375"/>
                  <a:pt x="2996" y="2406"/>
                  <a:pt x="3041" y="2442"/>
                </a:cubicBezTo>
                <a:cubicBezTo>
                  <a:pt x="3078" y="2472"/>
                  <a:pt x="3111" y="2503"/>
                  <a:pt x="3157" y="2519"/>
                </a:cubicBezTo>
                <a:cubicBezTo>
                  <a:pt x="3197" y="2559"/>
                  <a:pt x="3247" y="2588"/>
                  <a:pt x="3295" y="2619"/>
                </a:cubicBezTo>
                <a:cubicBezTo>
                  <a:pt x="3316" y="2633"/>
                  <a:pt x="3364" y="2650"/>
                  <a:pt x="3364" y="2650"/>
                </a:cubicBezTo>
                <a:cubicBezTo>
                  <a:pt x="3374" y="2658"/>
                  <a:pt x="3384" y="2667"/>
                  <a:pt x="3395" y="2673"/>
                </a:cubicBezTo>
                <a:cubicBezTo>
                  <a:pt x="3402" y="2677"/>
                  <a:pt x="3412" y="2675"/>
                  <a:pt x="3418" y="2680"/>
                </a:cubicBezTo>
                <a:cubicBezTo>
                  <a:pt x="3448" y="2702"/>
                  <a:pt x="3475" y="2739"/>
                  <a:pt x="3502" y="2765"/>
                </a:cubicBezTo>
                <a:cubicBezTo>
                  <a:pt x="3530" y="2792"/>
                  <a:pt x="3563" y="2811"/>
                  <a:pt x="3587" y="2842"/>
                </a:cubicBezTo>
                <a:cubicBezTo>
                  <a:pt x="3617" y="2881"/>
                  <a:pt x="3675" y="2952"/>
                  <a:pt x="3717" y="2980"/>
                </a:cubicBezTo>
                <a:cubicBezTo>
                  <a:pt x="3722" y="2988"/>
                  <a:pt x="3726" y="2996"/>
                  <a:pt x="3733" y="3003"/>
                </a:cubicBezTo>
                <a:cubicBezTo>
                  <a:pt x="3740" y="3009"/>
                  <a:pt x="3756" y="3018"/>
                  <a:pt x="3756" y="3018"/>
                </a:cubicBez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62000" y="438120"/>
            <a:ext cx="5131080" cy="5486400"/>
          </a:xfrm>
          <a:custGeom>
            <a:avLst/>
            <a:gdLst/>
            <a:ahLst/>
            <a:rect l="l" t="t" r="r" b="b"/>
            <a:pathLst>
              <a:path w="2312" h="3456">
                <a:moveTo>
                  <a:pt x="2312" y="0"/>
                </a:moveTo>
                <a:cubicBezTo>
                  <a:pt x="2294" y="71"/>
                  <a:pt x="2256" y="134"/>
                  <a:pt x="2228" y="200"/>
                </a:cubicBezTo>
                <a:cubicBezTo>
                  <a:pt x="2129" y="432"/>
                  <a:pt x="2000" y="641"/>
                  <a:pt x="1844" y="838"/>
                </a:cubicBezTo>
                <a:cubicBezTo>
                  <a:pt x="1835" y="849"/>
                  <a:pt x="1836" y="865"/>
                  <a:pt x="1828" y="876"/>
                </a:cubicBezTo>
                <a:cubicBezTo>
                  <a:pt x="1807" y="908"/>
                  <a:pt x="1782" y="937"/>
                  <a:pt x="1759" y="968"/>
                </a:cubicBezTo>
                <a:cubicBezTo>
                  <a:pt x="1643" y="1123"/>
                  <a:pt x="1529" y="1278"/>
                  <a:pt x="1429" y="1444"/>
                </a:cubicBezTo>
                <a:cubicBezTo>
                  <a:pt x="1386" y="1516"/>
                  <a:pt x="1323" y="1576"/>
                  <a:pt x="1275" y="1644"/>
                </a:cubicBezTo>
                <a:cubicBezTo>
                  <a:pt x="1254" y="1674"/>
                  <a:pt x="1230" y="1703"/>
                  <a:pt x="1214" y="1736"/>
                </a:cubicBezTo>
                <a:cubicBezTo>
                  <a:pt x="1209" y="1746"/>
                  <a:pt x="1206" y="1758"/>
                  <a:pt x="1199" y="1767"/>
                </a:cubicBezTo>
                <a:cubicBezTo>
                  <a:pt x="1172" y="1806"/>
                  <a:pt x="1180" y="1773"/>
                  <a:pt x="1160" y="1813"/>
                </a:cubicBezTo>
                <a:cubicBezTo>
                  <a:pt x="1122" y="1888"/>
                  <a:pt x="1166" y="1820"/>
                  <a:pt x="1129" y="1874"/>
                </a:cubicBezTo>
                <a:cubicBezTo>
                  <a:pt x="1115" y="1919"/>
                  <a:pt x="1079" y="1948"/>
                  <a:pt x="1060" y="1990"/>
                </a:cubicBezTo>
                <a:cubicBezTo>
                  <a:pt x="1053" y="2005"/>
                  <a:pt x="1052" y="2022"/>
                  <a:pt x="1045" y="2036"/>
                </a:cubicBezTo>
                <a:cubicBezTo>
                  <a:pt x="1022" y="2082"/>
                  <a:pt x="999" y="2093"/>
                  <a:pt x="968" y="2136"/>
                </a:cubicBezTo>
                <a:cubicBezTo>
                  <a:pt x="919" y="2204"/>
                  <a:pt x="873" y="2279"/>
                  <a:pt x="830" y="2351"/>
                </a:cubicBezTo>
                <a:cubicBezTo>
                  <a:pt x="818" y="2371"/>
                  <a:pt x="798" y="2385"/>
                  <a:pt x="784" y="2404"/>
                </a:cubicBezTo>
                <a:cubicBezTo>
                  <a:pt x="702" y="2520"/>
                  <a:pt x="728" y="2471"/>
                  <a:pt x="684" y="2581"/>
                </a:cubicBezTo>
                <a:cubicBezTo>
                  <a:pt x="674" y="2606"/>
                  <a:pt x="646" y="2620"/>
                  <a:pt x="630" y="2642"/>
                </a:cubicBezTo>
                <a:cubicBezTo>
                  <a:pt x="581" y="2707"/>
                  <a:pt x="540" y="2781"/>
                  <a:pt x="484" y="2842"/>
                </a:cubicBezTo>
                <a:cubicBezTo>
                  <a:pt x="452" y="2877"/>
                  <a:pt x="413" y="2905"/>
                  <a:pt x="384" y="2942"/>
                </a:cubicBezTo>
                <a:cubicBezTo>
                  <a:pt x="343" y="2994"/>
                  <a:pt x="307" y="3043"/>
                  <a:pt x="262" y="3088"/>
                </a:cubicBezTo>
                <a:cubicBezTo>
                  <a:pt x="223" y="3127"/>
                  <a:pt x="200" y="3180"/>
                  <a:pt x="162" y="3218"/>
                </a:cubicBezTo>
                <a:cubicBezTo>
                  <a:pt x="150" y="3253"/>
                  <a:pt x="121" y="3273"/>
                  <a:pt x="100" y="3303"/>
                </a:cubicBezTo>
                <a:cubicBezTo>
                  <a:pt x="91" y="3333"/>
                  <a:pt x="59" y="3398"/>
                  <a:pt x="39" y="3418"/>
                </a:cubicBezTo>
                <a:cubicBezTo>
                  <a:pt x="26" y="3431"/>
                  <a:pt x="0" y="3456"/>
                  <a:pt x="0" y="3456"/>
                </a:cubicBez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l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5045040" cy="5041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547640" y="189000"/>
            <a:ext cx="4140360" cy="6429240"/>
          </a:xfrm>
          <a:custGeom>
            <a:avLst/>
            <a:gdLst/>
            <a:ahLst/>
            <a:rect l="l" t="t" r="r" b="b"/>
            <a:pathLst>
              <a:path w="2608" h="4050">
                <a:moveTo>
                  <a:pt x="1072" y="13"/>
                </a:moveTo>
                <a:cubicBezTo>
                  <a:pt x="854" y="284"/>
                  <a:pt x="632" y="552"/>
                  <a:pt x="419" y="827"/>
                </a:cubicBezTo>
                <a:cubicBezTo>
                  <a:pt x="409" y="840"/>
                  <a:pt x="401" y="901"/>
                  <a:pt x="396" y="919"/>
                </a:cubicBezTo>
                <a:cubicBezTo>
                  <a:pt x="365" y="1023"/>
                  <a:pt x="345" y="1147"/>
                  <a:pt x="296" y="1242"/>
                </a:cubicBezTo>
                <a:cubicBezTo>
                  <a:pt x="282" y="1319"/>
                  <a:pt x="270" y="1402"/>
                  <a:pt x="235" y="1472"/>
                </a:cubicBezTo>
                <a:cubicBezTo>
                  <a:pt x="216" y="1561"/>
                  <a:pt x="199" y="1656"/>
                  <a:pt x="166" y="1741"/>
                </a:cubicBezTo>
                <a:cubicBezTo>
                  <a:pt x="154" y="1832"/>
                  <a:pt x="140" y="1940"/>
                  <a:pt x="104" y="2025"/>
                </a:cubicBezTo>
                <a:cubicBezTo>
                  <a:pt x="82" y="2147"/>
                  <a:pt x="68" y="2277"/>
                  <a:pt x="27" y="2394"/>
                </a:cubicBezTo>
                <a:cubicBezTo>
                  <a:pt x="10" y="2503"/>
                  <a:pt x="15" y="2614"/>
                  <a:pt x="4" y="2724"/>
                </a:cubicBezTo>
                <a:cubicBezTo>
                  <a:pt x="9" y="2941"/>
                  <a:pt x="0" y="3298"/>
                  <a:pt x="143" y="3492"/>
                </a:cubicBezTo>
                <a:cubicBezTo>
                  <a:pt x="171" y="3530"/>
                  <a:pt x="185" y="3573"/>
                  <a:pt x="219" y="3607"/>
                </a:cubicBezTo>
                <a:cubicBezTo>
                  <a:pt x="232" y="3646"/>
                  <a:pt x="267" y="3660"/>
                  <a:pt x="281" y="3700"/>
                </a:cubicBezTo>
                <a:cubicBezTo>
                  <a:pt x="299" y="3752"/>
                  <a:pt x="384" y="3836"/>
                  <a:pt x="434" y="3861"/>
                </a:cubicBezTo>
                <a:cubicBezTo>
                  <a:pt x="473" y="3880"/>
                  <a:pt x="513" y="3907"/>
                  <a:pt x="550" y="3930"/>
                </a:cubicBezTo>
                <a:cubicBezTo>
                  <a:pt x="559" y="3936"/>
                  <a:pt x="627" y="3959"/>
                  <a:pt x="634" y="3961"/>
                </a:cubicBezTo>
                <a:cubicBezTo>
                  <a:pt x="740" y="3998"/>
                  <a:pt x="853" y="4014"/>
                  <a:pt x="964" y="4022"/>
                </a:cubicBezTo>
                <a:cubicBezTo>
                  <a:pt x="1072" y="4050"/>
                  <a:pt x="1132" y="4035"/>
                  <a:pt x="1264" y="4030"/>
                </a:cubicBezTo>
                <a:cubicBezTo>
                  <a:pt x="1397" y="3996"/>
                  <a:pt x="1381" y="4013"/>
                  <a:pt x="1617" y="4007"/>
                </a:cubicBezTo>
                <a:cubicBezTo>
                  <a:pt x="1625" y="4004"/>
                  <a:pt x="1632" y="4001"/>
                  <a:pt x="1640" y="3999"/>
                </a:cubicBezTo>
                <a:cubicBezTo>
                  <a:pt x="1655" y="3995"/>
                  <a:pt x="1671" y="3996"/>
                  <a:pt x="1686" y="3991"/>
                </a:cubicBezTo>
                <a:cubicBezTo>
                  <a:pt x="1695" y="3988"/>
                  <a:pt x="1700" y="3979"/>
                  <a:pt x="1709" y="3976"/>
                </a:cubicBezTo>
                <a:cubicBezTo>
                  <a:pt x="1721" y="3971"/>
                  <a:pt x="1735" y="3971"/>
                  <a:pt x="1748" y="3968"/>
                </a:cubicBezTo>
                <a:cubicBezTo>
                  <a:pt x="1819" y="3924"/>
                  <a:pt x="1892" y="3909"/>
                  <a:pt x="1963" y="3869"/>
                </a:cubicBezTo>
                <a:cubicBezTo>
                  <a:pt x="2011" y="3842"/>
                  <a:pt x="2047" y="3799"/>
                  <a:pt x="2093" y="3769"/>
                </a:cubicBezTo>
                <a:cubicBezTo>
                  <a:pt x="2117" y="3734"/>
                  <a:pt x="2156" y="3706"/>
                  <a:pt x="2186" y="3677"/>
                </a:cubicBezTo>
                <a:cubicBezTo>
                  <a:pt x="2201" y="3663"/>
                  <a:pt x="2226" y="3610"/>
                  <a:pt x="2239" y="3592"/>
                </a:cubicBezTo>
                <a:cubicBezTo>
                  <a:pt x="2269" y="3550"/>
                  <a:pt x="2294" y="3506"/>
                  <a:pt x="2331" y="3469"/>
                </a:cubicBezTo>
                <a:cubicBezTo>
                  <a:pt x="2344" y="3405"/>
                  <a:pt x="2393" y="3360"/>
                  <a:pt x="2416" y="3300"/>
                </a:cubicBezTo>
                <a:cubicBezTo>
                  <a:pt x="2425" y="3249"/>
                  <a:pt x="2446" y="3200"/>
                  <a:pt x="2470" y="3154"/>
                </a:cubicBezTo>
                <a:cubicBezTo>
                  <a:pt x="2491" y="3068"/>
                  <a:pt x="2519" y="2985"/>
                  <a:pt x="2546" y="2901"/>
                </a:cubicBezTo>
                <a:cubicBezTo>
                  <a:pt x="2564" y="2761"/>
                  <a:pt x="2568" y="2616"/>
                  <a:pt x="2600" y="2479"/>
                </a:cubicBezTo>
                <a:cubicBezTo>
                  <a:pt x="2603" y="2451"/>
                  <a:pt x="2608" y="2422"/>
                  <a:pt x="2608" y="2394"/>
                </a:cubicBezTo>
                <a:cubicBezTo>
                  <a:pt x="2608" y="2046"/>
                  <a:pt x="2607" y="1698"/>
                  <a:pt x="2600" y="1350"/>
                </a:cubicBezTo>
                <a:cubicBezTo>
                  <a:pt x="2599" y="1310"/>
                  <a:pt x="2521" y="1132"/>
                  <a:pt x="2500" y="1111"/>
                </a:cubicBezTo>
                <a:cubicBezTo>
                  <a:pt x="2491" y="1062"/>
                  <a:pt x="2467" y="1025"/>
                  <a:pt x="2431" y="989"/>
                </a:cubicBezTo>
                <a:cubicBezTo>
                  <a:pt x="2410" y="935"/>
                  <a:pt x="2372" y="900"/>
                  <a:pt x="2339" y="850"/>
                </a:cubicBezTo>
                <a:cubicBezTo>
                  <a:pt x="2272" y="750"/>
                  <a:pt x="2192" y="650"/>
                  <a:pt x="2109" y="566"/>
                </a:cubicBezTo>
                <a:cubicBezTo>
                  <a:pt x="2063" y="519"/>
                  <a:pt x="2109" y="551"/>
                  <a:pt x="2063" y="497"/>
                </a:cubicBezTo>
                <a:cubicBezTo>
                  <a:pt x="2044" y="475"/>
                  <a:pt x="2019" y="459"/>
                  <a:pt x="2001" y="436"/>
                </a:cubicBezTo>
                <a:cubicBezTo>
                  <a:pt x="1959" y="382"/>
                  <a:pt x="1916" y="331"/>
                  <a:pt x="1878" y="274"/>
                </a:cubicBezTo>
                <a:cubicBezTo>
                  <a:pt x="1863" y="252"/>
                  <a:pt x="1843" y="233"/>
                  <a:pt x="1825" y="213"/>
                </a:cubicBezTo>
                <a:cubicBezTo>
                  <a:pt x="1813" y="199"/>
                  <a:pt x="1786" y="175"/>
                  <a:pt x="1786" y="175"/>
                </a:cubicBezTo>
                <a:cubicBezTo>
                  <a:pt x="1770" y="128"/>
                  <a:pt x="1790" y="171"/>
                  <a:pt x="1755" y="136"/>
                </a:cubicBezTo>
                <a:cubicBezTo>
                  <a:pt x="1695" y="76"/>
                  <a:pt x="1793" y="153"/>
                  <a:pt x="1717" y="90"/>
                </a:cubicBezTo>
                <a:cubicBezTo>
                  <a:pt x="1608" y="0"/>
                  <a:pt x="1431" y="13"/>
                  <a:pt x="1302" y="13"/>
                </a:cubicBezTo>
              </a:path>
            </a:pathLst>
          </a:custGeom>
          <a:noFill/>
          <a:ln w="127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l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332000" y="620640"/>
            <a:ext cx="4000320" cy="5477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87280" y="115920"/>
            <a:ext cx="4140360" cy="6429240"/>
          </a:xfrm>
          <a:custGeom>
            <a:avLst/>
            <a:gdLst/>
            <a:ahLst/>
            <a:rect l="l" t="t" r="r" b="b"/>
            <a:pathLst>
              <a:path w="2608" h="4050">
                <a:moveTo>
                  <a:pt x="1072" y="13"/>
                </a:moveTo>
                <a:cubicBezTo>
                  <a:pt x="854" y="284"/>
                  <a:pt x="632" y="552"/>
                  <a:pt x="419" y="827"/>
                </a:cubicBezTo>
                <a:cubicBezTo>
                  <a:pt x="409" y="840"/>
                  <a:pt x="401" y="901"/>
                  <a:pt x="396" y="919"/>
                </a:cubicBezTo>
                <a:cubicBezTo>
                  <a:pt x="365" y="1023"/>
                  <a:pt x="345" y="1147"/>
                  <a:pt x="296" y="1242"/>
                </a:cubicBezTo>
                <a:cubicBezTo>
                  <a:pt x="282" y="1319"/>
                  <a:pt x="270" y="1402"/>
                  <a:pt x="235" y="1472"/>
                </a:cubicBezTo>
                <a:cubicBezTo>
                  <a:pt x="216" y="1561"/>
                  <a:pt x="199" y="1656"/>
                  <a:pt x="166" y="1741"/>
                </a:cubicBezTo>
                <a:cubicBezTo>
                  <a:pt x="154" y="1832"/>
                  <a:pt x="140" y="1940"/>
                  <a:pt x="104" y="2025"/>
                </a:cubicBezTo>
                <a:cubicBezTo>
                  <a:pt x="82" y="2147"/>
                  <a:pt x="68" y="2277"/>
                  <a:pt x="27" y="2394"/>
                </a:cubicBezTo>
                <a:cubicBezTo>
                  <a:pt x="10" y="2503"/>
                  <a:pt x="15" y="2614"/>
                  <a:pt x="4" y="2724"/>
                </a:cubicBezTo>
                <a:cubicBezTo>
                  <a:pt x="9" y="2941"/>
                  <a:pt x="0" y="3298"/>
                  <a:pt x="143" y="3492"/>
                </a:cubicBezTo>
                <a:cubicBezTo>
                  <a:pt x="171" y="3530"/>
                  <a:pt x="185" y="3573"/>
                  <a:pt x="219" y="3607"/>
                </a:cubicBezTo>
                <a:cubicBezTo>
                  <a:pt x="232" y="3646"/>
                  <a:pt x="267" y="3660"/>
                  <a:pt x="281" y="3700"/>
                </a:cubicBezTo>
                <a:cubicBezTo>
                  <a:pt x="299" y="3752"/>
                  <a:pt x="384" y="3836"/>
                  <a:pt x="434" y="3861"/>
                </a:cubicBezTo>
                <a:cubicBezTo>
                  <a:pt x="473" y="3880"/>
                  <a:pt x="513" y="3907"/>
                  <a:pt x="550" y="3930"/>
                </a:cubicBezTo>
                <a:cubicBezTo>
                  <a:pt x="559" y="3936"/>
                  <a:pt x="627" y="3959"/>
                  <a:pt x="634" y="3961"/>
                </a:cubicBezTo>
                <a:cubicBezTo>
                  <a:pt x="740" y="3998"/>
                  <a:pt x="853" y="4014"/>
                  <a:pt x="964" y="4022"/>
                </a:cubicBezTo>
                <a:cubicBezTo>
                  <a:pt x="1072" y="4050"/>
                  <a:pt x="1132" y="4035"/>
                  <a:pt x="1264" y="4030"/>
                </a:cubicBezTo>
                <a:cubicBezTo>
                  <a:pt x="1397" y="3996"/>
                  <a:pt x="1381" y="4013"/>
                  <a:pt x="1617" y="4007"/>
                </a:cubicBezTo>
                <a:cubicBezTo>
                  <a:pt x="1625" y="4004"/>
                  <a:pt x="1632" y="4001"/>
                  <a:pt x="1640" y="3999"/>
                </a:cubicBezTo>
                <a:cubicBezTo>
                  <a:pt x="1655" y="3995"/>
                  <a:pt x="1671" y="3996"/>
                  <a:pt x="1686" y="3991"/>
                </a:cubicBezTo>
                <a:cubicBezTo>
                  <a:pt x="1695" y="3988"/>
                  <a:pt x="1700" y="3979"/>
                  <a:pt x="1709" y="3976"/>
                </a:cubicBezTo>
                <a:cubicBezTo>
                  <a:pt x="1721" y="3971"/>
                  <a:pt x="1735" y="3971"/>
                  <a:pt x="1748" y="3968"/>
                </a:cubicBezTo>
                <a:cubicBezTo>
                  <a:pt x="1819" y="3924"/>
                  <a:pt x="1892" y="3909"/>
                  <a:pt x="1963" y="3869"/>
                </a:cubicBezTo>
                <a:cubicBezTo>
                  <a:pt x="2011" y="3842"/>
                  <a:pt x="2047" y="3799"/>
                  <a:pt x="2093" y="3769"/>
                </a:cubicBezTo>
                <a:cubicBezTo>
                  <a:pt x="2117" y="3734"/>
                  <a:pt x="2156" y="3706"/>
                  <a:pt x="2186" y="3677"/>
                </a:cubicBezTo>
                <a:cubicBezTo>
                  <a:pt x="2201" y="3663"/>
                  <a:pt x="2226" y="3610"/>
                  <a:pt x="2239" y="3592"/>
                </a:cubicBezTo>
                <a:cubicBezTo>
                  <a:pt x="2269" y="3550"/>
                  <a:pt x="2294" y="3506"/>
                  <a:pt x="2331" y="3469"/>
                </a:cubicBezTo>
                <a:cubicBezTo>
                  <a:pt x="2344" y="3405"/>
                  <a:pt x="2393" y="3360"/>
                  <a:pt x="2416" y="3300"/>
                </a:cubicBezTo>
                <a:cubicBezTo>
                  <a:pt x="2425" y="3249"/>
                  <a:pt x="2446" y="3200"/>
                  <a:pt x="2470" y="3154"/>
                </a:cubicBezTo>
                <a:cubicBezTo>
                  <a:pt x="2491" y="3068"/>
                  <a:pt x="2519" y="2985"/>
                  <a:pt x="2546" y="2901"/>
                </a:cubicBezTo>
                <a:cubicBezTo>
                  <a:pt x="2564" y="2761"/>
                  <a:pt x="2568" y="2616"/>
                  <a:pt x="2600" y="2479"/>
                </a:cubicBezTo>
                <a:cubicBezTo>
                  <a:pt x="2603" y="2451"/>
                  <a:pt x="2608" y="2422"/>
                  <a:pt x="2608" y="2394"/>
                </a:cubicBezTo>
                <a:cubicBezTo>
                  <a:pt x="2608" y="2046"/>
                  <a:pt x="2607" y="1698"/>
                  <a:pt x="2600" y="1350"/>
                </a:cubicBezTo>
                <a:cubicBezTo>
                  <a:pt x="2599" y="1310"/>
                  <a:pt x="2521" y="1132"/>
                  <a:pt x="2500" y="1111"/>
                </a:cubicBezTo>
                <a:cubicBezTo>
                  <a:pt x="2491" y="1062"/>
                  <a:pt x="2467" y="1025"/>
                  <a:pt x="2431" y="989"/>
                </a:cubicBezTo>
                <a:cubicBezTo>
                  <a:pt x="2410" y="935"/>
                  <a:pt x="2372" y="900"/>
                  <a:pt x="2339" y="850"/>
                </a:cubicBezTo>
                <a:cubicBezTo>
                  <a:pt x="2272" y="750"/>
                  <a:pt x="2192" y="650"/>
                  <a:pt x="2109" y="566"/>
                </a:cubicBezTo>
                <a:cubicBezTo>
                  <a:pt x="2063" y="519"/>
                  <a:pt x="2109" y="551"/>
                  <a:pt x="2063" y="497"/>
                </a:cubicBezTo>
                <a:cubicBezTo>
                  <a:pt x="2044" y="475"/>
                  <a:pt x="2019" y="459"/>
                  <a:pt x="2001" y="436"/>
                </a:cubicBezTo>
                <a:cubicBezTo>
                  <a:pt x="1959" y="382"/>
                  <a:pt x="1916" y="331"/>
                  <a:pt x="1878" y="274"/>
                </a:cubicBezTo>
                <a:cubicBezTo>
                  <a:pt x="1863" y="252"/>
                  <a:pt x="1843" y="233"/>
                  <a:pt x="1825" y="213"/>
                </a:cubicBezTo>
                <a:cubicBezTo>
                  <a:pt x="1813" y="199"/>
                  <a:pt x="1786" y="175"/>
                  <a:pt x="1786" y="175"/>
                </a:cubicBezTo>
                <a:cubicBezTo>
                  <a:pt x="1770" y="128"/>
                  <a:pt x="1790" y="171"/>
                  <a:pt x="1755" y="136"/>
                </a:cubicBezTo>
                <a:cubicBezTo>
                  <a:pt x="1695" y="76"/>
                  <a:pt x="1793" y="153"/>
                  <a:pt x="1717" y="90"/>
                </a:cubicBezTo>
                <a:cubicBezTo>
                  <a:pt x="1608" y="0"/>
                  <a:pt x="1431" y="13"/>
                  <a:pt x="1302" y="13"/>
                </a:cubicBezTo>
              </a:path>
            </a:pathLst>
          </a:custGeom>
          <a:noFill/>
          <a:ln w="127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l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042920" y="765000"/>
            <a:ext cx="5575320" cy="56199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11280" y="198360"/>
            <a:ext cx="5716440" cy="6429600"/>
          </a:xfrm>
          <a:custGeom>
            <a:avLst/>
            <a:gdLst/>
            <a:ahLst/>
            <a:rect l="l" t="t" r="r" b="b"/>
            <a:pathLst>
              <a:path w="2608" h="4050">
                <a:moveTo>
                  <a:pt x="1072" y="13"/>
                </a:moveTo>
                <a:cubicBezTo>
                  <a:pt x="854" y="284"/>
                  <a:pt x="632" y="552"/>
                  <a:pt x="419" y="827"/>
                </a:cubicBezTo>
                <a:cubicBezTo>
                  <a:pt x="409" y="840"/>
                  <a:pt x="401" y="901"/>
                  <a:pt x="396" y="919"/>
                </a:cubicBezTo>
                <a:cubicBezTo>
                  <a:pt x="365" y="1023"/>
                  <a:pt x="345" y="1147"/>
                  <a:pt x="296" y="1242"/>
                </a:cubicBezTo>
                <a:cubicBezTo>
                  <a:pt x="282" y="1319"/>
                  <a:pt x="270" y="1402"/>
                  <a:pt x="235" y="1472"/>
                </a:cubicBezTo>
                <a:cubicBezTo>
                  <a:pt x="216" y="1561"/>
                  <a:pt x="199" y="1656"/>
                  <a:pt x="166" y="1741"/>
                </a:cubicBezTo>
                <a:cubicBezTo>
                  <a:pt x="154" y="1832"/>
                  <a:pt x="140" y="1940"/>
                  <a:pt x="104" y="2025"/>
                </a:cubicBezTo>
                <a:cubicBezTo>
                  <a:pt x="82" y="2147"/>
                  <a:pt x="68" y="2277"/>
                  <a:pt x="27" y="2394"/>
                </a:cubicBezTo>
                <a:cubicBezTo>
                  <a:pt x="10" y="2503"/>
                  <a:pt x="15" y="2614"/>
                  <a:pt x="4" y="2724"/>
                </a:cubicBezTo>
                <a:cubicBezTo>
                  <a:pt x="9" y="2941"/>
                  <a:pt x="0" y="3298"/>
                  <a:pt x="143" y="3492"/>
                </a:cubicBezTo>
                <a:cubicBezTo>
                  <a:pt x="171" y="3530"/>
                  <a:pt x="185" y="3573"/>
                  <a:pt x="219" y="3607"/>
                </a:cubicBezTo>
                <a:cubicBezTo>
                  <a:pt x="232" y="3646"/>
                  <a:pt x="267" y="3660"/>
                  <a:pt x="281" y="3700"/>
                </a:cubicBezTo>
                <a:cubicBezTo>
                  <a:pt x="299" y="3752"/>
                  <a:pt x="384" y="3836"/>
                  <a:pt x="434" y="3861"/>
                </a:cubicBezTo>
                <a:cubicBezTo>
                  <a:pt x="473" y="3880"/>
                  <a:pt x="513" y="3907"/>
                  <a:pt x="550" y="3930"/>
                </a:cubicBezTo>
                <a:cubicBezTo>
                  <a:pt x="559" y="3936"/>
                  <a:pt x="627" y="3959"/>
                  <a:pt x="634" y="3961"/>
                </a:cubicBezTo>
                <a:cubicBezTo>
                  <a:pt x="740" y="3998"/>
                  <a:pt x="853" y="4014"/>
                  <a:pt x="964" y="4022"/>
                </a:cubicBezTo>
                <a:cubicBezTo>
                  <a:pt x="1072" y="4050"/>
                  <a:pt x="1132" y="4035"/>
                  <a:pt x="1264" y="4030"/>
                </a:cubicBezTo>
                <a:cubicBezTo>
                  <a:pt x="1397" y="3996"/>
                  <a:pt x="1381" y="4013"/>
                  <a:pt x="1617" y="4007"/>
                </a:cubicBezTo>
                <a:cubicBezTo>
                  <a:pt x="1625" y="4004"/>
                  <a:pt x="1632" y="4001"/>
                  <a:pt x="1640" y="3999"/>
                </a:cubicBezTo>
                <a:cubicBezTo>
                  <a:pt x="1655" y="3995"/>
                  <a:pt x="1671" y="3996"/>
                  <a:pt x="1686" y="3991"/>
                </a:cubicBezTo>
                <a:cubicBezTo>
                  <a:pt x="1695" y="3988"/>
                  <a:pt x="1700" y="3979"/>
                  <a:pt x="1709" y="3976"/>
                </a:cubicBezTo>
                <a:cubicBezTo>
                  <a:pt x="1721" y="3971"/>
                  <a:pt x="1735" y="3971"/>
                  <a:pt x="1748" y="3968"/>
                </a:cubicBezTo>
                <a:cubicBezTo>
                  <a:pt x="1819" y="3924"/>
                  <a:pt x="1892" y="3909"/>
                  <a:pt x="1963" y="3869"/>
                </a:cubicBezTo>
                <a:cubicBezTo>
                  <a:pt x="2011" y="3842"/>
                  <a:pt x="2047" y="3799"/>
                  <a:pt x="2093" y="3769"/>
                </a:cubicBezTo>
                <a:cubicBezTo>
                  <a:pt x="2117" y="3734"/>
                  <a:pt x="2156" y="3706"/>
                  <a:pt x="2186" y="3677"/>
                </a:cubicBezTo>
                <a:cubicBezTo>
                  <a:pt x="2201" y="3663"/>
                  <a:pt x="2226" y="3610"/>
                  <a:pt x="2239" y="3592"/>
                </a:cubicBezTo>
                <a:cubicBezTo>
                  <a:pt x="2269" y="3550"/>
                  <a:pt x="2294" y="3506"/>
                  <a:pt x="2331" y="3469"/>
                </a:cubicBezTo>
                <a:cubicBezTo>
                  <a:pt x="2344" y="3405"/>
                  <a:pt x="2393" y="3360"/>
                  <a:pt x="2416" y="3300"/>
                </a:cubicBezTo>
                <a:cubicBezTo>
                  <a:pt x="2425" y="3249"/>
                  <a:pt x="2446" y="3200"/>
                  <a:pt x="2470" y="3154"/>
                </a:cubicBezTo>
                <a:cubicBezTo>
                  <a:pt x="2491" y="3068"/>
                  <a:pt x="2519" y="2985"/>
                  <a:pt x="2546" y="2901"/>
                </a:cubicBezTo>
                <a:cubicBezTo>
                  <a:pt x="2564" y="2761"/>
                  <a:pt x="2568" y="2616"/>
                  <a:pt x="2600" y="2479"/>
                </a:cubicBezTo>
                <a:cubicBezTo>
                  <a:pt x="2603" y="2451"/>
                  <a:pt x="2608" y="2422"/>
                  <a:pt x="2608" y="2394"/>
                </a:cubicBezTo>
                <a:cubicBezTo>
                  <a:pt x="2608" y="2046"/>
                  <a:pt x="2607" y="1698"/>
                  <a:pt x="2600" y="1350"/>
                </a:cubicBezTo>
                <a:cubicBezTo>
                  <a:pt x="2599" y="1310"/>
                  <a:pt x="2521" y="1132"/>
                  <a:pt x="2500" y="1111"/>
                </a:cubicBezTo>
                <a:cubicBezTo>
                  <a:pt x="2491" y="1062"/>
                  <a:pt x="2467" y="1025"/>
                  <a:pt x="2431" y="989"/>
                </a:cubicBezTo>
                <a:cubicBezTo>
                  <a:pt x="2410" y="935"/>
                  <a:pt x="2372" y="900"/>
                  <a:pt x="2339" y="850"/>
                </a:cubicBezTo>
                <a:cubicBezTo>
                  <a:pt x="2272" y="750"/>
                  <a:pt x="2192" y="650"/>
                  <a:pt x="2109" y="566"/>
                </a:cubicBezTo>
                <a:cubicBezTo>
                  <a:pt x="2063" y="519"/>
                  <a:pt x="2109" y="551"/>
                  <a:pt x="2063" y="497"/>
                </a:cubicBezTo>
                <a:cubicBezTo>
                  <a:pt x="2044" y="475"/>
                  <a:pt x="2019" y="459"/>
                  <a:pt x="2001" y="436"/>
                </a:cubicBezTo>
                <a:cubicBezTo>
                  <a:pt x="1959" y="382"/>
                  <a:pt x="1916" y="331"/>
                  <a:pt x="1878" y="274"/>
                </a:cubicBezTo>
                <a:cubicBezTo>
                  <a:pt x="1863" y="252"/>
                  <a:pt x="1843" y="233"/>
                  <a:pt x="1825" y="213"/>
                </a:cubicBezTo>
                <a:cubicBezTo>
                  <a:pt x="1813" y="199"/>
                  <a:pt x="1786" y="175"/>
                  <a:pt x="1786" y="175"/>
                </a:cubicBezTo>
                <a:cubicBezTo>
                  <a:pt x="1770" y="128"/>
                  <a:pt x="1790" y="171"/>
                  <a:pt x="1755" y="136"/>
                </a:cubicBezTo>
                <a:cubicBezTo>
                  <a:pt x="1695" y="76"/>
                  <a:pt x="1793" y="153"/>
                  <a:pt x="1717" y="90"/>
                </a:cubicBezTo>
                <a:cubicBezTo>
                  <a:pt x="1608" y="0"/>
                  <a:pt x="1431" y="13"/>
                  <a:pt x="1302" y="13"/>
                </a:cubicBezTo>
              </a:path>
            </a:pathLst>
          </a:custGeom>
          <a:noFill/>
          <a:ln w="127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l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59280" y="189000"/>
            <a:ext cx="2228760" cy="6410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87720" y="198360"/>
            <a:ext cx="4140000" cy="6429600"/>
          </a:xfrm>
          <a:custGeom>
            <a:avLst/>
            <a:gdLst/>
            <a:ahLst/>
            <a:rect l="l" t="t" r="r" b="b"/>
            <a:pathLst>
              <a:path w="2608" h="4050">
                <a:moveTo>
                  <a:pt x="1072" y="13"/>
                </a:moveTo>
                <a:cubicBezTo>
                  <a:pt x="854" y="284"/>
                  <a:pt x="632" y="552"/>
                  <a:pt x="419" y="827"/>
                </a:cubicBezTo>
                <a:cubicBezTo>
                  <a:pt x="409" y="840"/>
                  <a:pt x="401" y="901"/>
                  <a:pt x="396" y="919"/>
                </a:cubicBezTo>
                <a:cubicBezTo>
                  <a:pt x="365" y="1023"/>
                  <a:pt x="345" y="1147"/>
                  <a:pt x="296" y="1242"/>
                </a:cubicBezTo>
                <a:cubicBezTo>
                  <a:pt x="282" y="1319"/>
                  <a:pt x="270" y="1402"/>
                  <a:pt x="235" y="1472"/>
                </a:cubicBezTo>
                <a:cubicBezTo>
                  <a:pt x="216" y="1561"/>
                  <a:pt x="199" y="1656"/>
                  <a:pt x="166" y="1741"/>
                </a:cubicBezTo>
                <a:cubicBezTo>
                  <a:pt x="154" y="1832"/>
                  <a:pt x="140" y="1940"/>
                  <a:pt x="104" y="2025"/>
                </a:cubicBezTo>
                <a:cubicBezTo>
                  <a:pt x="82" y="2147"/>
                  <a:pt x="68" y="2277"/>
                  <a:pt x="27" y="2394"/>
                </a:cubicBezTo>
                <a:cubicBezTo>
                  <a:pt x="10" y="2503"/>
                  <a:pt x="15" y="2614"/>
                  <a:pt x="4" y="2724"/>
                </a:cubicBezTo>
                <a:cubicBezTo>
                  <a:pt x="9" y="2941"/>
                  <a:pt x="0" y="3298"/>
                  <a:pt x="143" y="3492"/>
                </a:cubicBezTo>
                <a:cubicBezTo>
                  <a:pt x="171" y="3530"/>
                  <a:pt x="185" y="3573"/>
                  <a:pt x="219" y="3607"/>
                </a:cubicBezTo>
                <a:cubicBezTo>
                  <a:pt x="232" y="3646"/>
                  <a:pt x="267" y="3660"/>
                  <a:pt x="281" y="3700"/>
                </a:cubicBezTo>
                <a:cubicBezTo>
                  <a:pt x="299" y="3752"/>
                  <a:pt x="384" y="3836"/>
                  <a:pt x="434" y="3861"/>
                </a:cubicBezTo>
                <a:cubicBezTo>
                  <a:pt x="473" y="3880"/>
                  <a:pt x="513" y="3907"/>
                  <a:pt x="550" y="3930"/>
                </a:cubicBezTo>
                <a:cubicBezTo>
                  <a:pt x="559" y="3936"/>
                  <a:pt x="627" y="3959"/>
                  <a:pt x="634" y="3961"/>
                </a:cubicBezTo>
                <a:cubicBezTo>
                  <a:pt x="740" y="3998"/>
                  <a:pt x="853" y="4014"/>
                  <a:pt x="964" y="4022"/>
                </a:cubicBezTo>
                <a:cubicBezTo>
                  <a:pt x="1072" y="4050"/>
                  <a:pt x="1132" y="4035"/>
                  <a:pt x="1264" y="4030"/>
                </a:cubicBezTo>
                <a:cubicBezTo>
                  <a:pt x="1397" y="3996"/>
                  <a:pt x="1381" y="4013"/>
                  <a:pt x="1617" y="4007"/>
                </a:cubicBezTo>
                <a:cubicBezTo>
                  <a:pt x="1625" y="4004"/>
                  <a:pt x="1632" y="4001"/>
                  <a:pt x="1640" y="3999"/>
                </a:cubicBezTo>
                <a:cubicBezTo>
                  <a:pt x="1655" y="3995"/>
                  <a:pt x="1671" y="3996"/>
                  <a:pt x="1686" y="3991"/>
                </a:cubicBezTo>
                <a:cubicBezTo>
                  <a:pt x="1695" y="3988"/>
                  <a:pt x="1700" y="3979"/>
                  <a:pt x="1709" y="3976"/>
                </a:cubicBezTo>
                <a:cubicBezTo>
                  <a:pt x="1721" y="3971"/>
                  <a:pt x="1735" y="3971"/>
                  <a:pt x="1748" y="3968"/>
                </a:cubicBezTo>
                <a:cubicBezTo>
                  <a:pt x="1819" y="3924"/>
                  <a:pt x="1892" y="3909"/>
                  <a:pt x="1963" y="3869"/>
                </a:cubicBezTo>
                <a:cubicBezTo>
                  <a:pt x="2011" y="3842"/>
                  <a:pt x="2047" y="3799"/>
                  <a:pt x="2093" y="3769"/>
                </a:cubicBezTo>
                <a:cubicBezTo>
                  <a:pt x="2117" y="3734"/>
                  <a:pt x="2156" y="3706"/>
                  <a:pt x="2186" y="3677"/>
                </a:cubicBezTo>
                <a:cubicBezTo>
                  <a:pt x="2201" y="3663"/>
                  <a:pt x="2226" y="3610"/>
                  <a:pt x="2239" y="3592"/>
                </a:cubicBezTo>
                <a:cubicBezTo>
                  <a:pt x="2269" y="3550"/>
                  <a:pt x="2294" y="3506"/>
                  <a:pt x="2331" y="3469"/>
                </a:cubicBezTo>
                <a:cubicBezTo>
                  <a:pt x="2344" y="3405"/>
                  <a:pt x="2393" y="3360"/>
                  <a:pt x="2416" y="3300"/>
                </a:cubicBezTo>
                <a:cubicBezTo>
                  <a:pt x="2425" y="3249"/>
                  <a:pt x="2446" y="3200"/>
                  <a:pt x="2470" y="3154"/>
                </a:cubicBezTo>
                <a:cubicBezTo>
                  <a:pt x="2491" y="3068"/>
                  <a:pt x="2519" y="2985"/>
                  <a:pt x="2546" y="2901"/>
                </a:cubicBezTo>
                <a:cubicBezTo>
                  <a:pt x="2564" y="2761"/>
                  <a:pt x="2568" y="2616"/>
                  <a:pt x="2600" y="2479"/>
                </a:cubicBezTo>
                <a:cubicBezTo>
                  <a:pt x="2603" y="2451"/>
                  <a:pt x="2608" y="2422"/>
                  <a:pt x="2608" y="2394"/>
                </a:cubicBezTo>
                <a:cubicBezTo>
                  <a:pt x="2608" y="2046"/>
                  <a:pt x="2607" y="1698"/>
                  <a:pt x="2600" y="1350"/>
                </a:cubicBezTo>
                <a:cubicBezTo>
                  <a:pt x="2599" y="1310"/>
                  <a:pt x="2521" y="1132"/>
                  <a:pt x="2500" y="1111"/>
                </a:cubicBezTo>
                <a:cubicBezTo>
                  <a:pt x="2491" y="1062"/>
                  <a:pt x="2467" y="1025"/>
                  <a:pt x="2431" y="989"/>
                </a:cubicBezTo>
                <a:cubicBezTo>
                  <a:pt x="2410" y="935"/>
                  <a:pt x="2372" y="900"/>
                  <a:pt x="2339" y="850"/>
                </a:cubicBezTo>
                <a:cubicBezTo>
                  <a:pt x="2272" y="750"/>
                  <a:pt x="2192" y="650"/>
                  <a:pt x="2109" y="566"/>
                </a:cubicBezTo>
                <a:cubicBezTo>
                  <a:pt x="2063" y="519"/>
                  <a:pt x="2109" y="551"/>
                  <a:pt x="2063" y="497"/>
                </a:cubicBezTo>
                <a:cubicBezTo>
                  <a:pt x="2044" y="475"/>
                  <a:pt x="2019" y="459"/>
                  <a:pt x="2001" y="436"/>
                </a:cubicBezTo>
                <a:cubicBezTo>
                  <a:pt x="1959" y="382"/>
                  <a:pt x="1916" y="331"/>
                  <a:pt x="1878" y="274"/>
                </a:cubicBezTo>
                <a:cubicBezTo>
                  <a:pt x="1863" y="252"/>
                  <a:pt x="1843" y="233"/>
                  <a:pt x="1825" y="213"/>
                </a:cubicBezTo>
                <a:cubicBezTo>
                  <a:pt x="1813" y="199"/>
                  <a:pt x="1786" y="175"/>
                  <a:pt x="1786" y="175"/>
                </a:cubicBezTo>
                <a:cubicBezTo>
                  <a:pt x="1770" y="128"/>
                  <a:pt x="1790" y="171"/>
                  <a:pt x="1755" y="136"/>
                </a:cubicBezTo>
                <a:cubicBezTo>
                  <a:pt x="1695" y="76"/>
                  <a:pt x="1793" y="153"/>
                  <a:pt x="1717" y="90"/>
                </a:cubicBezTo>
                <a:cubicBezTo>
                  <a:pt x="1608" y="0"/>
                  <a:pt x="1431" y="13"/>
                  <a:pt x="1302" y="13"/>
                </a:cubicBezTo>
              </a:path>
            </a:pathLst>
          </a:custGeom>
          <a:noFill/>
          <a:ln w="127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l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403280" y="1484280"/>
            <a:ext cx="6180120" cy="4829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55640" y="1268280"/>
            <a:ext cx="7345440" cy="5359680"/>
          </a:xfrm>
          <a:custGeom>
            <a:avLst/>
            <a:gdLst/>
            <a:ahLst/>
            <a:rect l="l" t="t" r="r" b="b"/>
            <a:pathLst>
              <a:path w="2608" h="4050">
                <a:moveTo>
                  <a:pt x="1072" y="13"/>
                </a:moveTo>
                <a:cubicBezTo>
                  <a:pt x="854" y="284"/>
                  <a:pt x="632" y="552"/>
                  <a:pt x="419" y="827"/>
                </a:cubicBezTo>
                <a:cubicBezTo>
                  <a:pt x="409" y="840"/>
                  <a:pt x="401" y="901"/>
                  <a:pt x="396" y="919"/>
                </a:cubicBezTo>
                <a:cubicBezTo>
                  <a:pt x="365" y="1023"/>
                  <a:pt x="345" y="1147"/>
                  <a:pt x="296" y="1242"/>
                </a:cubicBezTo>
                <a:cubicBezTo>
                  <a:pt x="282" y="1319"/>
                  <a:pt x="270" y="1402"/>
                  <a:pt x="235" y="1472"/>
                </a:cubicBezTo>
                <a:cubicBezTo>
                  <a:pt x="216" y="1561"/>
                  <a:pt x="199" y="1656"/>
                  <a:pt x="166" y="1741"/>
                </a:cubicBezTo>
                <a:cubicBezTo>
                  <a:pt x="154" y="1832"/>
                  <a:pt x="140" y="1940"/>
                  <a:pt x="104" y="2025"/>
                </a:cubicBezTo>
                <a:cubicBezTo>
                  <a:pt x="82" y="2147"/>
                  <a:pt x="68" y="2277"/>
                  <a:pt x="27" y="2394"/>
                </a:cubicBezTo>
                <a:cubicBezTo>
                  <a:pt x="10" y="2503"/>
                  <a:pt x="15" y="2614"/>
                  <a:pt x="4" y="2724"/>
                </a:cubicBezTo>
                <a:cubicBezTo>
                  <a:pt x="9" y="2941"/>
                  <a:pt x="0" y="3298"/>
                  <a:pt x="143" y="3492"/>
                </a:cubicBezTo>
                <a:cubicBezTo>
                  <a:pt x="171" y="3530"/>
                  <a:pt x="185" y="3573"/>
                  <a:pt x="219" y="3607"/>
                </a:cubicBezTo>
                <a:cubicBezTo>
                  <a:pt x="232" y="3646"/>
                  <a:pt x="267" y="3660"/>
                  <a:pt x="281" y="3700"/>
                </a:cubicBezTo>
                <a:cubicBezTo>
                  <a:pt x="299" y="3752"/>
                  <a:pt x="384" y="3836"/>
                  <a:pt x="434" y="3861"/>
                </a:cubicBezTo>
                <a:cubicBezTo>
                  <a:pt x="473" y="3880"/>
                  <a:pt x="513" y="3907"/>
                  <a:pt x="550" y="3930"/>
                </a:cubicBezTo>
                <a:cubicBezTo>
                  <a:pt x="559" y="3936"/>
                  <a:pt x="627" y="3959"/>
                  <a:pt x="634" y="3961"/>
                </a:cubicBezTo>
                <a:cubicBezTo>
                  <a:pt x="740" y="3998"/>
                  <a:pt x="853" y="4014"/>
                  <a:pt x="964" y="4022"/>
                </a:cubicBezTo>
                <a:cubicBezTo>
                  <a:pt x="1072" y="4050"/>
                  <a:pt x="1132" y="4035"/>
                  <a:pt x="1264" y="4030"/>
                </a:cubicBezTo>
                <a:cubicBezTo>
                  <a:pt x="1397" y="3996"/>
                  <a:pt x="1381" y="4013"/>
                  <a:pt x="1617" y="4007"/>
                </a:cubicBezTo>
                <a:cubicBezTo>
                  <a:pt x="1625" y="4004"/>
                  <a:pt x="1632" y="4001"/>
                  <a:pt x="1640" y="3999"/>
                </a:cubicBezTo>
                <a:cubicBezTo>
                  <a:pt x="1655" y="3995"/>
                  <a:pt x="1671" y="3996"/>
                  <a:pt x="1686" y="3991"/>
                </a:cubicBezTo>
                <a:cubicBezTo>
                  <a:pt x="1695" y="3988"/>
                  <a:pt x="1700" y="3979"/>
                  <a:pt x="1709" y="3976"/>
                </a:cubicBezTo>
                <a:cubicBezTo>
                  <a:pt x="1721" y="3971"/>
                  <a:pt x="1735" y="3971"/>
                  <a:pt x="1748" y="3968"/>
                </a:cubicBezTo>
                <a:cubicBezTo>
                  <a:pt x="1819" y="3924"/>
                  <a:pt x="1892" y="3909"/>
                  <a:pt x="1963" y="3869"/>
                </a:cubicBezTo>
                <a:cubicBezTo>
                  <a:pt x="2011" y="3842"/>
                  <a:pt x="2047" y="3799"/>
                  <a:pt x="2093" y="3769"/>
                </a:cubicBezTo>
                <a:cubicBezTo>
                  <a:pt x="2117" y="3734"/>
                  <a:pt x="2156" y="3706"/>
                  <a:pt x="2186" y="3677"/>
                </a:cubicBezTo>
                <a:cubicBezTo>
                  <a:pt x="2201" y="3663"/>
                  <a:pt x="2226" y="3610"/>
                  <a:pt x="2239" y="3592"/>
                </a:cubicBezTo>
                <a:cubicBezTo>
                  <a:pt x="2269" y="3550"/>
                  <a:pt x="2294" y="3506"/>
                  <a:pt x="2331" y="3469"/>
                </a:cubicBezTo>
                <a:cubicBezTo>
                  <a:pt x="2344" y="3405"/>
                  <a:pt x="2393" y="3360"/>
                  <a:pt x="2416" y="3300"/>
                </a:cubicBezTo>
                <a:cubicBezTo>
                  <a:pt x="2425" y="3249"/>
                  <a:pt x="2446" y="3200"/>
                  <a:pt x="2470" y="3154"/>
                </a:cubicBezTo>
                <a:cubicBezTo>
                  <a:pt x="2491" y="3068"/>
                  <a:pt x="2519" y="2985"/>
                  <a:pt x="2546" y="2901"/>
                </a:cubicBezTo>
                <a:cubicBezTo>
                  <a:pt x="2564" y="2761"/>
                  <a:pt x="2568" y="2616"/>
                  <a:pt x="2600" y="2479"/>
                </a:cubicBezTo>
                <a:cubicBezTo>
                  <a:pt x="2603" y="2451"/>
                  <a:pt x="2608" y="2422"/>
                  <a:pt x="2608" y="2394"/>
                </a:cubicBezTo>
                <a:cubicBezTo>
                  <a:pt x="2608" y="2046"/>
                  <a:pt x="2607" y="1698"/>
                  <a:pt x="2600" y="1350"/>
                </a:cubicBezTo>
                <a:cubicBezTo>
                  <a:pt x="2599" y="1310"/>
                  <a:pt x="2521" y="1132"/>
                  <a:pt x="2500" y="1111"/>
                </a:cubicBezTo>
                <a:cubicBezTo>
                  <a:pt x="2491" y="1062"/>
                  <a:pt x="2467" y="1025"/>
                  <a:pt x="2431" y="989"/>
                </a:cubicBezTo>
                <a:cubicBezTo>
                  <a:pt x="2410" y="935"/>
                  <a:pt x="2372" y="900"/>
                  <a:pt x="2339" y="850"/>
                </a:cubicBezTo>
                <a:cubicBezTo>
                  <a:pt x="2272" y="750"/>
                  <a:pt x="2192" y="650"/>
                  <a:pt x="2109" y="566"/>
                </a:cubicBezTo>
                <a:cubicBezTo>
                  <a:pt x="2063" y="519"/>
                  <a:pt x="2109" y="551"/>
                  <a:pt x="2063" y="497"/>
                </a:cubicBezTo>
                <a:cubicBezTo>
                  <a:pt x="2044" y="475"/>
                  <a:pt x="2019" y="459"/>
                  <a:pt x="2001" y="436"/>
                </a:cubicBezTo>
                <a:cubicBezTo>
                  <a:pt x="1959" y="382"/>
                  <a:pt x="1916" y="331"/>
                  <a:pt x="1878" y="274"/>
                </a:cubicBezTo>
                <a:cubicBezTo>
                  <a:pt x="1863" y="252"/>
                  <a:pt x="1843" y="233"/>
                  <a:pt x="1825" y="213"/>
                </a:cubicBezTo>
                <a:cubicBezTo>
                  <a:pt x="1813" y="199"/>
                  <a:pt x="1786" y="175"/>
                  <a:pt x="1786" y="175"/>
                </a:cubicBezTo>
                <a:cubicBezTo>
                  <a:pt x="1770" y="128"/>
                  <a:pt x="1790" y="171"/>
                  <a:pt x="1755" y="136"/>
                </a:cubicBezTo>
                <a:cubicBezTo>
                  <a:pt x="1695" y="76"/>
                  <a:pt x="1793" y="153"/>
                  <a:pt x="1717" y="90"/>
                </a:cubicBezTo>
                <a:cubicBezTo>
                  <a:pt x="1608" y="0"/>
                  <a:pt x="1431" y="13"/>
                  <a:pt x="1302" y="13"/>
                </a:cubicBezTo>
              </a:path>
            </a:pathLst>
          </a:custGeom>
          <a:noFill/>
          <a:ln w="127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l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5472000" cy="48117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11280" y="682560"/>
            <a:ext cx="5329080" cy="4791240"/>
          </a:xfrm>
          <a:custGeom>
            <a:avLst/>
            <a:gdLst/>
            <a:ahLst/>
            <a:rect l="l" t="t" r="r" b="b"/>
            <a:pathLst>
              <a:path w="3756" h="3018">
                <a:moveTo>
                  <a:pt x="0" y="0"/>
                </a:moveTo>
                <a:cubicBezTo>
                  <a:pt x="18" y="17"/>
                  <a:pt x="33" y="32"/>
                  <a:pt x="54" y="46"/>
                </a:cubicBezTo>
                <a:cubicBezTo>
                  <a:pt x="83" y="107"/>
                  <a:pt x="135" y="149"/>
                  <a:pt x="177" y="200"/>
                </a:cubicBezTo>
                <a:cubicBezTo>
                  <a:pt x="198" y="225"/>
                  <a:pt x="217" y="252"/>
                  <a:pt x="238" y="277"/>
                </a:cubicBezTo>
                <a:cubicBezTo>
                  <a:pt x="258" y="302"/>
                  <a:pt x="292" y="323"/>
                  <a:pt x="315" y="346"/>
                </a:cubicBezTo>
                <a:cubicBezTo>
                  <a:pt x="343" y="375"/>
                  <a:pt x="388" y="394"/>
                  <a:pt x="415" y="422"/>
                </a:cubicBezTo>
                <a:cubicBezTo>
                  <a:pt x="439" y="448"/>
                  <a:pt x="470" y="472"/>
                  <a:pt x="499" y="492"/>
                </a:cubicBezTo>
                <a:cubicBezTo>
                  <a:pt x="523" y="527"/>
                  <a:pt x="574" y="562"/>
                  <a:pt x="615" y="576"/>
                </a:cubicBezTo>
                <a:cubicBezTo>
                  <a:pt x="660" y="611"/>
                  <a:pt x="705" y="645"/>
                  <a:pt x="753" y="676"/>
                </a:cubicBezTo>
                <a:cubicBezTo>
                  <a:pt x="777" y="692"/>
                  <a:pt x="788" y="724"/>
                  <a:pt x="814" y="737"/>
                </a:cubicBezTo>
                <a:cubicBezTo>
                  <a:pt x="824" y="742"/>
                  <a:pt x="835" y="748"/>
                  <a:pt x="845" y="753"/>
                </a:cubicBezTo>
                <a:cubicBezTo>
                  <a:pt x="910" y="838"/>
                  <a:pt x="804" y="705"/>
                  <a:pt x="929" y="830"/>
                </a:cubicBezTo>
                <a:cubicBezTo>
                  <a:pt x="1017" y="918"/>
                  <a:pt x="1130" y="983"/>
                  <a:pt x="1229" y="1060"/>
                </a:cubicBezTo>
                <a:cubicBezTo>
                  <a:pt x="1259" y="1083"/>
                  <a:pt x="1293" y="1105"/>
                  <a:pt x="1321" y="1129"/>
                </a:cubicBezTo>
                <a:cubicBezTo>
                  <a:pt x="1356" y="1159"/>
                  <a:pt x="1384" y="1194"/>
                  <a:pt x="1429" y="1206"/>
                </a:cubicBezTo>
                <a:cubicBezTo>
                  <a:pt x="1461" y="1249"/>
                  <a:pt x="1502" y="1279"/>
                  <a:pt x="1552" y="1298"/>
                </a:cubicBezTo>
                <a:cubicBezTo>
                  <a:pt x="1601" y="1347"/>
                  <a:pt x="1670" y="1373"/>
                  <a:pt x="1720" y="1421"/>
                </a:cubicBezTo>
                <a:cubicBezTo>
                  <a:pt x="1773" y="1472"/>
                  <a:pt x="1839" y="1507"/>
                  <a:pt x="1897" y="1551"/>
                </a:cubicBezTo>
                <a:cubicBezTo>
                  <a:pt x="1906" y="1558"/>
                  <a:pt x="1911" y="1568"/>
                  <a:pt x="1920" y="1574"/>
                </a:cubicBezTo>
                <a:cubicBezTo>
                  <a:pt x="1934" y="1584"/>
                  <a:pt x="1952" y="1588"/>
                  <a:pt x="1966" y="1598"/>
                </a:cubicBezTo>
                <a:cubicBezTo>
                  <a:pt x="2003" y="1624"/>
                  <a:pt x="2034" y="1665"/>
                  <a:pt x="2066" y="1697"/>
                </a:cubicBezTo>
                <a:cubicBezTo>
                  <a:pt x="2097" y="1728"/>
                  <a:pt x="2138" y="1757"/>
                  <a:pt x="2174" y="1782"/>
                </a:cubicBezTo>
                <a:cubicBezTo>
                  <a:pt x="2199" y="1820"/>
                  <a:pt x="2181" y="1800"/>
                  <a:pt x="2235" y="1836"/>
                </a:cubicBezTo>
                <a:cubicBezTo>
                  <a:pt x="2293" y="1875"/>
                  <a:pt x="2347" y="1925"/>
                  <a:pt x="2404" y="1966"/>
                </a:cubicBezTo>
                <a:cubicBezTo>
                  <a:pt x="2511" y="2045"/>
                  <a:pt x="2626" y="2113"/>
                  <a:pt x="2734" y="2189"/>
                </a:cubicBezTo>
                <a:cubicBezTo>
                  <a:pt x="2794" y="2231"/>
                  <a:pt x="2836" y="2300"/>
                  <a:pt x="2896" y="2342"/>
                </a:cubicBezTo>
                <a:cubicBezTo>
                  <a:pt x="2944" y="2375"/>
                  <a:pt x="2996" y="2406"/>
                  <a:pt x="3041" y="2442"/>
                </a:cubicBezTo>
                <a:cubicBezTo>
                  <a:pt x="3078" y="2472"/>
                  <a:pt x="3111" y="2503"/>
                  <a:pt x="3157" y="2519"/>
                </a:cubicBezTo>
                <a:cubicBezTo>
                  <a:pt x="3197" y="2559"/>
                  <a:pt x="3247" y="2588"/>
                  <a:pt x="3295" y="2619"/>
                </a:cubicBezTo>
                <a:cubicBezTo>
                  <a:pt x="3316" y="2633"/>
                  <a:pt x="3364" y="2650"/>
                  <a:pt x="3364" y="2650"/>
                </a:cubicBezTo>
                <a:cubicBezTo>
                  <a:pt x="3374" y="2658"/>
                  <a:pt x="3384" y="2667"/>
                  <a:pt x="3395" y="2673"/>
                </a:cubicBezTo>
                <a:cubicBezTo>
                  <a:pt x="3402" y="2677"/>
                  <a:pt x="3412" y="2675"/>
                  <a:pt x="3418" y="2680"/>
                </a:cubicBezTo>
                <a:cubicBezTo>
                  <a:pt x="3448" y="2702"/>
                  <a:pt x="3475" y="2739"/>
                  <a:pt x="3502" y="2765"/>
                </a:cubicBezTo>
                <a:cubicBezTo>
                  <a:pt x="3530" y="2792"/>
                  <a:pt x="3563" y="2811"/>
                  <a:pt x="3587" y="2842"/>
                </a:cubicBezTo>
                <a:cubicBezTo>
                  <a:pt x="3617" y="2881"/>
                  <a:pt x="3675" y="2952"/>
                  <a:pt x="3717" y="2980"/>
                </a:cubicBezTo>
                <a:cubicBezTo>
                  <a:pt x="3722" y="2988"/>
                  <a:pt x="3726" y="2996"/>
                  <a:pt x="3733" y="3003"/>
                </a:cubicBezTo>
                <a:cubicBezTo>
                  <a:pt x="3740" y="3009"/>
                  <a:pt x="3756" y="3018"/>
                  <a:pt x="3756" y="3018"/>
                </a:cubicBez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57200" y="438120"/>
            <a:ext cx="4275360" cy="5486400"/>
          </a:xfrm>
          <a:custGeom>
            <a:avLst/>
            <a:gdLst/>
            <a:ahLst/>
            <a:rect l="l" t="t" r="r" b="b"/>
            <a:pathLst>
              <a:path w="2312" h="3456">
                <a:moveTo>
                  <a:pt x="2312" y="0"/>
                </a:moveTo>
                <a:cubicBezTo>
                  <a:pt x="2294" y="71"/>
                  <a:pt x="2256" y="134"/>
                  <a:pt x="2228" y="200"/>
                </a:cubicBezTo>
                <a:cubicBezTo>
                  <a:pt x="2129" y="432"/>
                  <a:pt x="2000" y="641"/>
                  <a:pt x="1844" y="838"/>
                </a:cubicBezTo>
                <a:cubicBezTo>
                  <a:pt x="1835" y="849"/>
                  <a:pt x="1836" y="865"/>
                  <a:pt x="1828" y="876"/>
                </a:cubicBezTo>
                <a:cubicBezTo>
                  <a:pt x="1807" y="908"/>
                  <a:pt x="1782" y="937"/>
                  <a:pt x="1759" y="968"/>
                </a:cubicBezTo>
                <a:cubicBezTo>
                  <a:pt x="1643" y="1123"/>
                  <a:pt x="1529" y="1278"/>
                  <a:pt x="1429" y="1444"/>
                </a:cubicBezTo>
                <a:cubicBezTo>
                  <a:pt x="1386" y="1516"/>
                  <a:pt x="1323" y="1576"/>
                  <a:pt x="1275" y="1644"/>
                </a:cubicBezTo>
                <a:cubicBezTo>
                  <a:pt x="1254" y="1674"/>
                  <a:pt x="1230" y="1703"/>
                  <a:pt x="1214" y="1736"/>
                </a:cubicBezTo>
                <a:cubicBezTo>
                  <a:pt x="1209" y="1746"/>
                  <a:pt x="1206" y="1758"/>
                  <a:pt x="1199" y="1767"/>
                </a:cubicBezTo>
                <a:cubicBezTo>
                  <a:pt x="1172" y="1806"/>
                  <a:pt x="1180" y="1773"/>
                  <a:pt x="1160" y="1813"/>
                </a:cubicBezTo>
                <a:cubicBezTo>
                  <a:pt x="1122" y="1888"/>
                  <a:pt x="1166" y="1820"/>
                  <a:pt x="1129" y="1874"/>
                </a:cubicBezTo>
                <a:cubicBezTo>
                  <a:pt x="1115" y="1919"/>
                  <a:pt x="1079" y="1948"/>
                  <a:pt x="1060" y="1990"/>
                </a:cubicBezTo>
                <a:cubicBezTo>
                  <a:pt x="1053" y="2005"/>
                  <a:pt x="1052" y="2022"/>
                  <a:pt x="1045" y="2036"/>
                </a:cubicBezTo>
                <a:cubicBezTo>
                  <a:pt x="1022" y="2082"/>
                  <a:pt x="999" y="2093"/>
                  <a:pt x="968" y="2136"/>
                </a:cubicBezTo>
                <a:cubicBezTo>
                  <a:pt x="919" y="2204"/>
                  <a:pt x="873" y="2279"/>
                  <a:pt x="830" y="2351"/>
                </a:cubicBezTo>
                <a:cubicBezTo>
                  <a:pt x="818" y="2371"/>
                  <a:pt x="798" y="2385"/>
                  <a:pt x="784" y="2404"/>
                </a:cubicBezTo>
                <a:cubicBezTo>
                  <a:pt x="702" y="2520"/>
                  <a:pt x="728" y="2471"/>
                  <a:pt x="684" y="2581"/>
                </a:cubicBezTo>
                <a:cubicBezTo>
                  <a:pt x="674" y="2606"/>
                  <a:pt x="646" y="2620"/>
                  <a:pt x="630" y="2642"/>
                </a:cubicBezTo>
                <a:cubicBezTo>
                  <a:pt x="581" y="2707"/>
                  <a:pt x="540" y="2781"/>
                  <a:pt x="484" y="2842"/>
                </a:cubicBezTo>
                <a:cubicBezTo>
                  <a:pt x="452" y="2877"/>
                  <a:pt x="413" y="2905"/>
                  <a:pt x="384" y="2942"/>
                </a:cubicBezTo>
                <a:cubicBezTo>
                  <a:pt x="343" y="2994"/>
                  <a:pt x="307" y="3043"/>
                  <a:pt x="262" y="3088"/>
                </a:cubicBezTo>
                <a:cubicBezTo>
                  <a:pt x="223" y="3127"/>
                  <a:pt x="200" y="3180"/>
                  <a:pt x="162" y="3218"/>
                </a:cubicBezTo>
                <a:cubicBezTo>
                  <a:pt x="150" y="3253"/>
                  <a:pt x="121" y="3273"/>
                  <a:pt x="100" y="3303"/>
                </a:cubicBezTo>
                <a:cubicBezTo>
                  <a:pt x="91" y="3333"/>
                  <a:pt x="59" y="3398"/>
                  <a:pt x="39" y="3418"/>
                </a:cubicBezTo>
                <a:cubicBezTo>
                  <a:pt x="26" y="3431"/>
                  <a:pt x="0" y="3456"/>
                  <a:pt x="0" y="3456"/>
                </a:cubicBez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l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27280" y="115920"/>
            <a:ext cx="2478240" cy="6553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365120" y="682560"/>
            <a:ext cx="4575240" cy="4791240"/>
          </a:xfrm>
          <a:custGeom>
            <a:avLst/>
            <a:gdLst/>
            <a:ahLst/>
            <a:rect l="l" t="t" r="r" b="b"/>
            <a:pathLst>
              <a:path w="3756" h="3018">
                <a:moveTo>
                  <a:pt x="0" y="0"/>
                </a:moveTo>
                <a:cubicBezTo>
                  <a:pt x="18" y="17"/>
                  <a:pt x="33" y="32"/>
                  <a:pt x="54" y="46"/>
                </a:cubicBezTo>
                <a:cubicBezTo>
                  <a:pt x="83" y="107"/>
                  <a:pt x="135" y="149"/>
                  <a:pt x="177" y="200"/>
                </a:cubicBezTo>
                <a:cubicBezTo>
                  <a:pt x="198" y="225"/>
                  <a:pt x="217" y="252"/>
                  <a:pt x="238" y="277"/>
                </a:cubicBezTo>
                <a:cubicBezTo>
                  <a:pt x="258" y="302"/>
                  <a:pt x="292" y="323"/>
                  <a:pt x="315" y="346"/>
                </a:cubicBezTo>
                <a:cubicBezTo>
                  <a:pt x="343" y="375"/>
                  <a:pt x="388" y="394"/>
                  <a:pt x="415" y="422"/>
                </a:cubicBezTo>
                <a:cubicBezTo>
                  <a:pt x="439" y="448"/>
                  <a:pt x="470" y="472"/>
                  <a:pt x="499" y="492"/>
                </a:cubicBezTo>
                <a:cubicBezTo>
                  <a:pt x="523" y="527"/>
                  <a:pt x="574" y="562"/>
                  <a:pt x="615" y="576"/>
                </a:cubicBezTo>
                <a:cubicBezTo>
                  <a:pt x="660" y="611"/>
                  <a:pt x="705" y="645"/>
                  <a:pt x="753" y="676"/>
                </a:cubicBezTo>
                <a:cubicBezTo>
                  <a:pt x="777" y="692"/>
                  <a:pt x="788" y="724"/>
                  <a:pt x="814" y="737"/>
                </a:cubicBezTo>
                <a:cubicBezTo>
                  <a:pt x="824" y="742"/>
                  <a:pt x="835" y="748"/>
                  <a:pt x="845" y="753"/>
                </a:cubicBezTo>
                <a:cubicBezTo>
                  <a:pt x="910" y="838"/>
                  <a:pt x="804" y="705"/>
                  <a:pt x="929" y="830"/>
                </a:cubicBezTo>
                <a:cubicBezTo>
                  <a:pt x="1017" y="918"/>
                  <a:pt x="1130" y="983"/>
                  <a:pt x="1229" y="1060"/>
                </a:cubicBezTo>
                <a:cubicBezTo>
                  <a:pt x="1259" y="1083"/>
                  <a:pt x="1293" y="1105"/>
                  <a:pt x="1321" y="1129"/>
                </a:cubicBezTo>
                <a:cubicBezTo>
                  <a:pt x="1356" y="1159"/>
                  <a:pt x="1384" y="1194"/>
                  <a:pt x="1429" y="1206"/>
                </a:cubicBezTo>
                <a:cubicBezTo>
                  <a:pt x="1461" y="1249"/>
                  <a:pt x="1502" y="1279"/>
                  <a:pt x="1552" y="1298"/>
                </a:cubicBezTo>
                <a:cubicBezTo>
                  <a:pt x="1601" y="1347"/>
                  <a:pt x="1670" y="1373"/>
                  <a:pt x="1720" y="1421"/>
                </a:cubicBezTo>
                <a:cubicBezTo>
                  <a:pt x="1773" y="1472"/>
                  <a:pt x="1839" y="1507"/>
                  <a:pt x="1897" y="1551"/>
                </a:cubicBezTo>
                <a:cubicBezTo>
                  <a:pt x="1906" y="1558"/>
                  <a:pt x="1911" y="1568"/>
                  <a:pt x="1920" y="1574"/>
                </a:cubicBezTo>
                <a:cubicBezTo>
                  <a:pt x="1934" y="1584"/>
                  <a:pt x="1952" y="1588"/>
                  <a:pt x="1966" y="1598"/>
                </a:cubicBezTo>
                <a:cubicBezTo>
                  <a:pt x="2003" y="1624"/>
                  <a:pt x="2034" y="1665"/>
                  <a:pt x="2066" y="1697"/>
                </a:cubicBezTo>
                <a:cubicBezTo>
                  <a:pt x="2097" y="1728"/>
                  <a:pt x="2138" y="1757"/>
                  <a:pt x="2174" y="1782"/>
                </a:cubicBezTo>
                <a:cubicBezTo>
                  <a:pt x="2199" y="1820"/>
                  <a:pt x="2181" y="1800"/>
                  <a:pt x="2235" y="1836"/>
                </a:cubicBezTo>
                <a:cubicBezTo>
                  <a:pt x="2293" y="1875"/>
                  <a:pt x="2347" y="1925"/>
                  <a:pt x="2404" y="1966"/>
                </a:cubicBezTo>
                <a:cubicBezTo>
                  <a:pt x="2511" y="2045"/>
                  <a:pt x="2626" y="2113"/>
                  <a:pt x="2734" y="2189"/>
                </a:cubicBezTo>
                <a:cubicBezTo>
                  <a:pt x="2794" y="2231"/>
                  <a:pt x="2836" y="2300"/>
                  <a:pt x="2896" y="2342"/>
                </a:cubicBezTo>
                <a:cubicBezTo>
                  <a:pt x="2944" y="2375"/>
                  <a:pt x="2996" y="2406"/>
                  <a:pt x="3041" y="2442"/>
                </a:cubicBezTo>
                <a:cubicBezTo>
                  <a:pt x="3078" y="2472"/>
                  <a:pt x="3111" y="2503"/>
                  <a:pt x="3157" y="2519"/>
                </a:cubicBezTo>
                <a:cubicBezTo>
                  <a:pt x="3197" y="2559"/>
                  <a:pt x="3247" y="2588"/>
                  <a:pt x="3295" y="2619"/>
                </a:cubicBezTo>
                <a:cubicBezTo>
                  <a:pt x="3316" y="2633"/>
                  <a:pt x="3364" y="2650"/>
                  <a:pt x="3364" y="2650"/>
                </a:cubicBezTo>
                <a:cubicBezTo>
                  <a:pt x="3374" y="2658"/>
                  <a:pt x="3384" y="2667"/>
                  <a:pt x="3395" y="2673"/>
                </a:cubicBezTo>
                <a:cubicBezTo>
                  <a:pt x="3402" y="2677"/>
                  <a:pt x="3412" y="2675"/>
                  <a:pt x="3418" y="2680"/>
                </a:cubicBezTo>
                <a:cubicBezTo>
                  <a:pt x="3448" y="2702"/>
                  <a:pt x="3475" y="2739"/>
                  <a:pt x="3502" y="2765"/>
                </a:cubicBezTo>
                <a:cubicBezTo>
                  <a:pt x="3530" y="2792"/>
                  <a:pt x="3563" y="2811"/>
                  <a:pt x="3587" y="2842"/>
                </a:cubicBezTo>
                <a:cubicBezTo>
                  <a:pt x="3617" y="2881"/>
                  <a:pt x="3675" y="2952"/>
                  <a:pt x="3717" y="2980"/>
                </a:cubicBezTo>
                <a:cubicBezTo>
                  <a:pt x="3722" y="2988"/>
                  <a:pt x="3726" y="2996"/>
                  <a:pt x="3733" y="3003"/>
                </a:cubicBezTo>
                <a:cubicBezTo>
                  <a:pt x="3740" y="3009"/>
                  <a:pt x="3756" y="3018"/>
                  <a:pt x="3756" y="3018"/>
                </a:cubicBez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62000" y="438120"/>
            <a:ext cx="3670560" cy="5486400"/>
          </a:xfrm>
          <a:custGeom>
            <a:avLst/>
            <a:gdLst/>
            <a:ahLst/>
            <a:rect l="l" t="t" r="r" b="b"/>
            <a:pathLst>
              <a:path w="2312" h="3456">
                <a:moveTo>
                  <a:pt x="2312" y="0"/>
                </a:moveTo>
                <a:cubicBezTo>
                  <a:pt x="2294" y="71"/>
                  <a:pt x="2256" y="134"/>
                  <a:pt x="2228" y="200"/>
                </a:cubicBezTo>
                <a:cubicBezTo>
                  <a:pt x="2129" y="432"/>
                  <a:pt x="2000" y="641"/>
                  <a:pt x="1844" y="838"/>
                </a:cubicBezTo>
                <a:cubicBezTo>
                  <a:pt x="1835" y="849"/>
                  <a:pt x="1836" y="865"/>
                  <a:pt x="1828" y="876"/>
                </a:cubicBezTo>
                <a:cubicBezTo>
                  <a:pt x="1807" y="908"/>
                  <a:pt x="1782" y="937"/>
                  <a:pt x="1759" y="968"/>
                </a:cubicBezTo>
                <a:cubicBezTo>
                  <a:pt x="1643" y="1123"/>
                  <a:pt x="1529" y="1278"/>
                  <a:pt x="1429" y="1444"/>
                </a:cubicBezTo>
                <a:cubicBezTo>
                  <a:pt x="1386" y="1516"/>
                  <a:pt x="1323" y="1576"/>
                  <a:pt x="1275" y="1644"/>
                </a:cubicBezTo>
                <a:cubicBezTo>
                  <a:pt x="1254" y="1674"/>
                  <a:pt x="1230" y="1703"/>
                  <a:pt x="1214" y="1736"/>
                </a:cubicBezTo>
                <a:cubicBezTo>
                  <a:pt x="1209" y="1746"/>
                  <a:pt x="1206" y="1758"/>
                  <a:pt x="1199" y="1767"/>
                </a:cubicBezTo>
                <a:cubicBezTo>
                  <a:pt x="1172" y="1806"/>
                  <a:pt x="1180" y="1773"/>
                  <a:pt x="1160" y="1813"/>
                </a:cubicBezTo>
                <a:cubicBezTo>
                  <a:pt x="1122" y="1888"/>
                  <a:pt x="1166" y="1820"/>
                  <a:pt x="1129" y="1874"/>
                </a:cubicBezTo>
                <a:cubicBezTo>
                  <a:pt x="1115" y="1919"/>
                  <a:pt x="1079" y="1948"/>
                  <a:pt x="1060" y="1990"/>
                </a:cubicBezTo>
                <a:cubicBezTo>
                  <a:pt x="1053" y="2005"/>
                  <a:pt x="1052" y="2022"/>
                  <a:pt x="1045" y="2036"/>
                </a:cubicBezTo>
                <a:cubicBezTo>
                  <a:pt x="1022" y="2082"/>
                  <a:pt x="999" y="2093"/>
                  <a:pt x="968" y="2136"/>
                </a:cubicBezTo>
                <a:cubicBezTo>
                  <a:pt x="919" y="2204"/>
                  <a:pt x="873" y="2279"/>
                  <a:pt x="830" y="2351"/>
                </a:cubicBezTo>
                <a:cubicBezTo>
                  <a:pt x="818" y="2371"/>
                  <a:pt x="798" y="2385"/>
                  <a:pt x="784" y="2404"/>
                </a:cubicBezTo>
                <a:cubicBezTo>
                  <a:pt x="702" y="2520"/>
                  <a:pt x="728" y="2471"/>
                  <a:pt x="684" y="2581"/>
                </a:cubicBezTo>
                <a:cubicBezTo>
                  <a:pt x="674" y="2606"/>
                  <a:pt x="646" y="2620"/>
                  <a:pt x="630" y="2642"/>
                </a:cubicBezTo>
                <a:cubicBezTo>
                  <a:pt x="581" y="2707"/>
                  <a:pt x="540" y="2781"/>
                  <a:pt x="484" y="2842"/>
                </a:cubicBezTo>
                <a:cubicBezTo>
                  <a:pt x="452" y="2877"/>
                  <a:pt x="413" y="2905"/>
                  <a:pt x="384" y="2942"/>
                </a:cubicBezTo>
                <a:cubicBezTo>
                  <a:pt x="343" y="2994"/>
                  <a:pt x="307" y="3043"/>
                  <a:pt x="262" y="3088"/>
                </a:cubicBezTo>
                <a:cubicBezTo>
                  <a:pt x="223" y="3127"/>
                  <a:pt x="200" y="3180"/>
                  <a:pt x="162" y="3218"/>
                </a:cubicBezTo>
                <a:cubicBezTo>
                  <a:pt x="150" y="3253"/>
                  <a:pt x="121" y="3273"/>
                  <a:pt x="100" y="3303"/>
                </a:cubicBezTo>
                <a:cubicBezTo>
                  <a:pt x="91" y="3333"/>
                  <a:pt x="59" y="3398"/>
                  <a:pt x="39" y="3418"/>
                </a:cubicBezTo>
                <a:cubicBezTo>
                  <a:pt x="26" y="3431"/>
                  <a:pt x="0" y="3456"/>
                  <a:pt x="0" y="3456"/>
                </a:cubicBez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l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11280" y="765000"/>
            <a:ext cx="5618160" cy="541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4360" y="198360"/>
            <a:ext cx="6551640" cy="6429600"/>
          </a:xfrm>
          <a:custGeom>
            <a:avLst/>
            <a:gdLst/>
            <a:ahLst/>
            <a:rect l="l" t="t" r="r" b="b"/>
            <a:pathLst>
              <a:path w="2608" h="4050">
                <a:moveTo>
                  <a:pt x="1072" y="13"/>
                </a:moveTo>
                <a:cubicBezTo>
                  <a:pt x="854" y="284"/>
                  <a:pt x="632" y="552"/>
                  <a:pt x="419" y="827"/>
                </a:cubicBezTo>
                <a:cubicBezTo>
                  <a:pt x="409" y="840"/>
                  <a:pt x="401" y="901"/>
                  <a:pt x="396" y="919"/>
                </a:cubicBezTo>
                <a:cubicBezTo>
                  <a:pt x="365" y="1023"/>
                  <a:pt x="345" y="1147"/>
                  <a:pt x="296" y="1242"/>
                </a:cubicBezTo>
                <a:cubicBezTo>
                  <a:pt x="282" y="1319"/>
                  <a:pt x="270" y="1402"/>
                  <a:pt x="235" y="1472"/>
                </a:cubicBezTo>
                <a:cubicBezTo>
                  <a:pt x="216" y="1561"/>
                  <a:pt x="199" y="1656"/>
                  <a:pt x="166" y="1741"/>
                </a:cubicBezTo>
                <a:cubicBezTo>
                  <a:pt x="154" y="1832"/>
                  <a:pt x="140" y="1940"/>
                  <a:pt x="104" y="2025"/>
                </a:cubicBezTo>
                <a:cubicBezTo>
                  <a:pt x="82" y="2147"/>
                  <a:pt x="68" y="2277"/>
                  <a:pt x="27" y="2394"/>
                </a:cubicBezTo>
                <a:cubicBezTo>
                  <a:pt x="10" y="2503"/>
                  <a:pt x="15" y="2614"/>
                  <a:pt x="4" y="2724"/>
                </a:cubicBezTo>
                <a:cubicBezTo>
                  <a:pt x="9" y="2941"/>
                  <a:pt x="0" y="3298"/>
                  <a:pt x="143" y="3492"/>
                </a:cubicBezTo>
                <a:cubicBezTo>
                  <a:pt x="171" y="3530"/>
                  <a:pt x="185" y="3573"/>
                  <a:pt x="219" y="3607"/>
                </a:cubicBezTo>
                <a:cubicBezTo>
                  <a:pt x="232" y="3646"/>
                  <a:pt x="267" y="3660"/>
                  <a:pt x="281" y="3700"/>
                </a:cubicBezTo>
                <a:cubicBezTo>
                  <a:pt x="299" y="3752"/>
                  <a:pt x="384" y="3836"/>
                  <a:pt x="434" y="3861"/>
                </a:cubicBezTo>
                <a:cubicBezTo>
                  <a:pt x="473" y="3880"/>
                  <a:pt x="513" y="3907"/>
                  <a:pt x="550" y="3930"/>
                </a:cubicBezTo>
                <a:cubicBezTo>
                  <a:pt x="559" y="3936"/>
                  <a:pt x="627" y="3959"/>
                  <a:pt x="634" y="3961"/>
                </a:cubicBezTo>
                <a:cubicBezTo>
                  <a:pt x="740" y="3998"/>
                  <a:pt x="853" y="4014"/>
                  <a:pt x="964" y="4022"/>
                </a:cubicBezTo>
                <a:cubicBezTo>
                  <a:pt x="1072" y="4050"/>
                  <a:pt x="1132" y="4035"/>
                  <a:pt x="1264" y="4030"/>
                </a:cubicBezTo>
                <a:cubicBezTo>
                  <a:pt x="1397" y="3996"/>
                  <a:pt x="1381" y="4013"/>
                  <a:pt x="1617" y="4007"/>
                </a:cubicBezTo>
                <a:cubicBezTo>
                  <a:pt x="1625" y="4004"/>
                  <a:pt x="1632" y="4001"/>
                  <a:pt x="1640" y="3999"/>
                </a:cubicBezTo>
                <a:cubicBezTo>
                  <a:pt x="1655" y="3995"/>
                  <a:pt x="1671" y="3996"/>
                  <a:pt x="1686" y="3991"/>
                </a:cubicBezTo>
                <a:cubicBezTo>
                  <a:pt x="1695" y="3988"/>
                  <a:pt x="1700" y="3979"/>
                  <a:pt x="1709" y="3976"/>
                </a:cubicBezTo>
                <a:cubicBezTo>
                  <a:pt x="1721" y="3971"/>
                  <a:pt x="1735" y="3971"/>
                  <a:pt x="1748" y="3968"/>
                </a:cubicBezTo>
                <a:cubicBezTo>
                  <a:pt x="1819" y="3924"/>
                  <a:pt x="1892" y="3909"/>
                  <a:pt x="1963" y="3869"/>
                </a:cubicBezTo>
                <a:cubicBezTo>
                  <a:pt x="2011" y="3842"/>
                  <a:pt x="2047" y="3799"/>
                  <a:pt x="2093" y="3769"/>
                </a:cubicBezTo>
                <a:cubicBezTo>
                  <a:pt x="2117" y="3734"/>
                  <a:pt x="2156" y="3706"/>
                  <a:pt x="2186" y="3677"/>
                </a:cubicBezTo>
                <a:cubicBezTo>
                  <a:pt x="2201" y="3663"/>
                  <a:pt x="2226" y="3610"/>
                  <a:pt x="2239" y="3592"/>
                </a:cubicBezTo>
                <a:cubicBezTo>
                  <a:pt x="2269" y="3550"/>
                  <a:pt x="2294" y="3506"/>
                  <a:pt x="2331" y="3469"/>
                </a:cubicBezTo>
                <a:cubicBezTo>
                  <a:pt x="2344" y="3405"/>
                  <a:pt x="2393" y="3360"/>
                  <a:pt x="2416" y="3300"/>
                </a:cubicBezTo>
                <a:cubicBezTo>
                  <a:pt x="2425" y="3249"/>
                  <a:pt x="2446" y="3200"/>
                  <a:pt x="2470" y="3154"/>
                </a:cubicBezTo>
                <a:cubicBezTo>
                  <a:pt x="2491" y="3068"/>
                  <a:pt x="2519" y="2985"/>
                  <a:pt x="2546" y="2901"/>
                </a:cubicBezTo>
                <a:cubicBezTo>
                  <a:pt x="2564" y="2761"/>
                  <a:pt x="2568" y="2616"/>
                  <a:pt x="2600" y="2479"/>
                </a:cubicBezTo>
                <a:cubicBezTo>
                  <a:pt x="2603" y="2451"/>
                  <a:pt x="2608" y="2422"/>
                  <a:pt x="2608" y="2394"/>
                </a:cubicBezTo>
                <a:cubicBezTo>
                  <a:pt x="2608" y="2046"/>
                  <a:pt x="2607" y="1698"/>
                  <a:pt x="2600" y="1350"/>
                </a:cubicBezTo>
                <a:cubicBezTo>
                  <a:pt x="2599" y="1310"/>
                  <a:pt x="2521" y="1132"/>
                  <a:pt x="2500" y="1111"/>
                </a:cubicBezTo>
                <a:cubicBezTo>
                  <a:pt x="2491" y="1062"/>
                  <a:pt x="2467" y="1025"/>
                  <a:pt x="2431" y="989"/>
                </a:cubicBezTo>
                <a:cubicBezTo>
                  <a:pt x="2410" y="935"/>
                  <a:pt x="2372" y="900"/>
                  <a:pt x="2339" y="850"/>
                </a:cubicBezTo>
                <a:cubicBezTo>
                  <a:pt x="2272" y="750"/>
                  <a:pt x="2192" y="650"/>
                  <a:pt x="2109" y="566"/>
                </a:cubicBezTo>
                <a:cubicBezTo>
                  <a:pt x="2063" y="519"/>
                  <a:pt x="2109" y="551"/>
                  <a:pt x="2063" y="497"/>
                </a:cubicBezTo>
                <a:cubicBezTo>
                  <a:pt x="2044" y="475"/>
                  <a:pt x="2019" y="459"/>
                  <a:pt x="2001" y="436"/>
                </a:cubicBezTo>
                <a:cubicBezTo>
                  <a:pt x="1959" y="382"/>
                  <a:pt x="1916" y="331"/>
                  <a:pt x="1878" y="274"/>
                </a:cubicBezTo>
                <a:cubicBezTo>
                  <a:pt x="1863" y="252"/>
                  <a:pt x="1843" y="233"/>
                  <a:pt x="1825" y="213"/>
                </a:cubicBezTo>
                <a:cubicBezTo>
                  <a:pt x="1813" y="199"/>
                  <a:pt x="1786" y="175"/>
                  <a:pt x="1786" y="175"/>
                </a:cubicBezTo>
                <a:cubicBezTo>
                  <a:pt x="1770" y="128"/>
                  <a:pt x="1790" y="171"/>
                  <a:pt x="1755" y="136"/>
                </a:cubicBezTo>
                <a:cubicBezTo>
                  <a:pt x="1695" y="76"/>
                  <a:pt x="1793" y="153"/>
                  <a:pt x="1717" y="90"/>
                </a:cubicBezTo>
                <a:cubicBezTo>
                  <a:pt x="1608" y="0"/>
                  <a:pt x="1431" y="13"/>
                  <a:pt x="1302" y="13"/>
                </a:cubicBezTo>
              </a:path>
            </a:pathLst>
          </a:custGeom>
          <a:noFill/>
          <a:ln w="127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l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52400" y="1116000"/>
            <a:ext cx="7635960" cy="4626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65120" y="682560"/>
            <a:ext cx="7202520" cy="4791240"/>
          </a:xfrm>
          <a:custGeom>
            <a:avLst/>
            <a:gdLst/>
            <a:ahLst/>
            <a:rect l="l" t="t" r="r" b="b"/>
            <a:pathLst>
              <a:path w="3756" h="3018">
                <a:moveTo>
                  <a:pt x="0" y="0"/>
                </a:moveTo>
                <a:cubicBezTo>
                  <a:pt x="18" y="17"/>
                  <a:pt x="33" y="32"/>
                  <a:pt x="54" y="46"/>
                </a:cubicBezTo>
                <a:cubicBezTo>
                  <a:pt x="83" y="107"/>
                  <a:pt x="135" y="149"/>
                  <a:pt x="177" y="200"/>
                </a:cubicBezTo>
                <a:cubicBezTo>
                  <a:pt x="198" y="225"/>
                  <a:pt x="217" y="252"/>
                  <a:pt x="238" y="277"/>
                </a:cubicBezTo>
                <a:cubicBezTo>
                  <a:pt x="258" y="302"/>
                  <a:pt x="292" y="323"/>
                  <a:pt x="315" y="346"/>
                </a:cubicBezTo>
                <a:cubicBezTo>
                  <a:pt x="343" y="375"/>
                  <a:pt x="388" y="394"/>
                  <a:pt x="415" y="422"/>
                </a:cubicBezTo>
                <a:cubicBezTo>
                  <a:pt x="439" y="448"/>
                  <a:pt x="470" y="472"/>
                  <a:pt x="499" y="492"/>
                </a:cubicBezTo>
                <a:cubicBezTo>
                  <a:pt x="523" y="527"/>
                  <a:pt x="574" y="562"/>
                  <a:pt x="615" y="576"/>
                </a:cubicBezTo>
                <a:cubicBezTo>
                  <a:pt x="660" y="611"/>
                  <a:pt x="705" y="645"/>
                  <a:pt x="753" y="676"/>
                </a:cubicBezTo>
                <a:cubicBezTo>
                  <a:pt x="777" y="692"/>
                  <a:pt x="788" y="724"/>
                  <a:pt x="814" y="737"/>
                </a:cubicBezTo>
                <a:cubicBezTo>
                  <a:pt x="824" y="742"/>
                  <a:pt x="835" y="748"/>
                  <a:pt x="845" y="753"/>
                </a:cubicBezTo>
                <a:cubicBezTo>
                  <a:pt x="910" y="838"/>
                  <a:pt x="804" y="705"/>
                  <a:pt x="929" y="830"/>
                </a:cubicBezTo>
                <a:cubicBezTo>
                  <a:pt x="1017" y="918"/>
                  <a:pt x="1130" y="983"/>
                  <a:pt x="1229" y="1060"/>
                </a:cubicBezTo>
                <a:cubicBezTo>
                  <a:pt x="1259" y="1083"/>
                  <a:pt x="1293" y="1105"/>
                  <a:pt x="1321" y="1129"/>
                </a:cubicBezTo>
                <a:cubicBezTo>
                  <a:pt x="1356" y="1159"/>
                  <a:pt x="1384" y="1194"/>
                  <a:pt x="1429" y="1206"/>
                </a:cubicBezTo>
                <a:cubicBezTo>
                  <a:pt x="1461" y="1249"/>
                  <a:pt x="1502" y="1279"/>
                  <a:pt x="1552" y="1298"/>
                </a:cubicBezTo>
                <a:cubicBezTo>
                  <a:pt x="1601" y="1347"/>
                  <a:pt x="1670" y="1373"/>
                  <a:pt x="1720" y="1421"/>
                </a:cubicBezTo>
                <a:cubicBezTo>
                  <a:pt x="1773" y="1472"/>
                  <a:pt x="1839" y="1507"/>
                  <a:pt x="1897" y="1551"/>
                </a:cubicBezTo>
                <a:cubicBezTo>
                  <a:pt x="1906" y="1558"/>
                  <a:pt x="1911" y="1568"/>
                  <a:pt x="1920" y="1574"/>
                </a:cubicBezTo>
                <a:cubicBezTo>
                  <a:pt x="1934" y="1584"/>
                  <a:pt x="1952" y="1588"/>
                  <a:pt x="1966" y="1598"/>
                </a:cubicBezTo>
                <a:cubicBezTo>
                  <a:pt x="2003" y="1624"/>
                  <a:pt x="2034" y="1665"/>
                  <a:pt x="2066" y="1697"/>
                </a:cubicBezTo>
                <a:cubicBezTo>
                  <a:pt x="2097" y="1728"/>
                  <a:pt x="2138" y="1757"/>
                  <a:pt x="2174" y="1782"/>
                </a:cubicBezTo>
                <a:cubicBezTo>
                  <a:pt x="2199" y="1820"/>
                  <a:pt x="2181" y="1800"/>
                  <a:pt x="2235" y="1836"/>
                </a:cubicBezTo>
                <a:cubicBezTo>
                  <a:pt x="2293" y="1875"/>
                  <a:pt x="2347" y="1925"/>
                  <a:pt x="2404" y="1966"/>
                </a:cubicBezTo>
                <a:cubicBezTo>
                  <a:pt x="2511" y="2045"/>
                  <a:pt x="2626" y="2113"/>
                  <a:pt x="2734" y="2189"/>
                </a:cubicBezTo>
                <a:cubicBezTo>
                  <a:pt x="2794" y="2231"/>
                  <a:pt x="2836" y="2300"/>
                  <a:pt x="2896" y="2342"/>
                </a:cubicBezTo>
                <a:cubicBezTo>
                  <a:pt x="2944" y="2375"/>
                  <a:pt x="2996" y="2406"/>
                  <a:pt x="3041" y="2442"/>
                </a:cubicBezTo>
                <a:cubicBezTo>
                  <a:pt x="3078" y="2472"/>
                  <a:pt x="3111" y="2503"/>
                  <a:pt x="3157" y="2519"/>
                </a:cubicBezTo>
                <a:cubicBezTo>
                  <a:pt x="3197" y="2559"/>
                  <a:pt x="3247" y="2588"/>
                  <a:pt x="3295" y="2619"/>
                </a:cubicBezTo>
                <a:cubicBezTo>
                  <a:pt x="3316" y="2633"/>
                  <a:pt x="3364" y="2650"/>
                  <a:pt x="3364" y="2650"/>
                </a:cubicBezTo>
                <a:cubicBezTo>
                  <a:pt x="3374" y="2658"/>
                  <a:pt x="3384" y="2667"/>
                  <a:pt x="3395" y="2673"/>
                </a:cubicBezTo>
                <a:cubicBezTo>
                  <a:pt x="3402" y="2677"/>
                  <a:pt x="3412" y="2675"/>
                  <a:pt x="3418" y="2680"/>
                </a:cubicBezTo>
                <a:cubicBezTo>
                  <a:pt x="3448" y="2702"/>
                  <a:pt x="3475" y="2739"/>
                  <a:pt x="3502" y="2765"/>
                </a:cubicBezTo>
                <a:cubicBezTo>
                  <a:pt x="3530" y="2792"/>
                  <a:pt x="3563" y="2811"/>
                  <a:pt x="3587" y="2842"/>
                </a:cubicBezTo>
                <a:cubicBezTo>
                  <a:pt x="3617" y="2881"/>
                  <a:pt x="3675" y="2952"/>
                  <a:pt x="3717" y="2980"/>
                </a:cubicBezTo>
                <a:cubicBezTo>
                  <a:pt x="3722" y="2988"/>
                  <a:pt x="3726" y="2996"/>
                  <a:pt x="3733" y="3003"/>
                </a:cubicBezTo>
                <a:cubicBezTo>
                  <a:pt x="3740" y="3009"/>
                  <a:pt x="3756" y="3018"/>
                  <a:pt x="3756" y="3018"/>
                </a:cubicBez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62000" y="438120"/>
            <a:ext cx="5778720" cy="5486400"/>
          </a:xfrm>
          <a:custGeom>
            <a:avLst/>
            <a:gdLst/>
            <a:ahLst/>
            <a:rect l="l" t="t" r="r" b="b"/>
            <a:pathLst>
              <a:path w="2312" h="3456">
                <a:moveTo>
                  <a:pt x="2312" y="0"/>
                </a:moveTo>
                <a:cubicBezTo>
                  <a:pt x="2294" y="71"/>
                  <a:pt x="2256" y="134"/>
                  <a:pt x="2228" y="200"/>
                </a:cubicBezTo>
                <a:cubicBezTo>
                  <a:pt x="2129" y="432"/>
                  <a:pt x="2000" y="641"/>
                  <a:pt x="1844" y="838"/>
                </a:cubicBezTo>
                <a:cubicBezTo>
                  <a:pt x="1835" y="849"/>
                  <a:pt x="1836" y="865"/>
                  <a:pt x="1828" y="876"/>
                </a:cubicBezTo>
                <a:cubicBezTo>
                  <a:pt x="1807" y="908"/>
                  <a:pt x="1782" y="937"/>
                  <a:pt x="1759" y="968"/>
                </a:cubicBezTo>
                <a:cubicBezTo>
                  <a:pt x="1643" y="1123"/>
                  <a:pt x="1529" y="1278"/>
                  <a:pt x="1429" y="1444"/>
                </a:cubicBezTo>
                <a:cubicBezTo>
                  <a:pt x="1386" y="1516"/>
                  <a:pt x="1323" y="1576"/>
                  <a:pt x="1275" y="1644"/>
                </a:cubicBezTo>
                <a:cubicBezTo>
                  <a:pt x="1254" y="1674"/>
                  <a:pt x="1230" y="1703"/>
                  <a:pt x="1214" y="1736"/>
                </a:cubicBezTo>
                <a:cubicBezTo>
                  <a:pt x="1209" y="1746"/>
                  <a:pt x="1206" y="1758"/>
                  <a:pt x="1199" y="1767"/>
                </a:cubicBezTo>
                <a:cubicBezTo>
                  <a:pt x="1172" y="1806"/>
                  <a:pt x="1180" y="1773"/>
                  <a:pt x="1160" y="1813"/>
                </a:cubicBezTo>
                <a:cubicBezTo>
                  <a:pt x="1122" y="1888"/>
                  <a:pt x="1166" y="1820"/>
                  <a:pt x="1129" y="1874"/>
                </a:cubicBezTo>
                <a:cubicBezTo>
                  <a:pt x="1115" y="1919"/>
                  <a:pt x="1079" y="1948"/>
                  <a:pt x="1060" y="1990"/>
                </a:cubicBezTo>
                <a:cubicBezTo>
                  <a:pt x="1053" y="2005"/>
                  <a:pt x="1052" y="2022"/>
                  <a:pt x="1045" y="2036"/>
                </a:cubicBezTo>
                <a:cubicBezTo>
                  <a:pt x="1022" y="2082"/>
                  <a:pt x="999" y="2093"/>
                  <a:pt x="968" y="2136"/>
                </a:cubicBezTo>
                <a:cubicBezTo>
                  <a:pt x="919" y="2204"/>
                  <a:pt x="873" y="2279"/>
                  <a:pt x="830" y="2351"/>
                </a:cubicBezTo>
                <a:cubicBezTo>
                  <a:pt x="818" y="2371"/>
                  <a:pt x="798" y="2385"/>
                  <a:pt x="784" y="2404"/>
                </a:cubicBezTo>
                <a:cubicBezTo>
                  <a:pt x="702" y="2520"/>
                  <a:pt x="728" y="2471"/>
                  <a:pt x="684" y="2581"/>
                </a:cubicBezTo>
                <a:cubicBezTo>
                  <a:pt x="674" y="2606"/>
                  <a:pt x="646" y="2620"/>
                  <a:pt x="630" y="2642"/>
                </a:cubicBezTo>
                <a:cubicBezTo>
                  <a:pt x="581" y="2707"/>
                  <a:pt x="540" y="2781"/>
                  <a:pt x="484" y="2842"/>
                </a:cubicBezTo>
                <a:cubicBezTo>
                  <a:pt x="452" y="2877"/>
                  <a:pt x="413" y="2905"/>
                  <a:pt x="384" y="2942"/>
                </a:cubicBezTo>
                <a:cubicBezTo>
                  <a:pt x="343" y="2994"/>
                  <a:pt x="307" y="3043"/>
                  <a:pt x="262" y="3088"/>
                </a:cubicBezTo>
                <a:cubicBezTo>
                  <a:pt x="223" y="3127"/>
                  <a:pt x="200" y="3180"/>
                  <a:pt x="162" y="3218"/>
                </a:cubicBezTo>
                <a:cubicBezTo>
                  <a:pt x="150" y="3253"/>
                  <a:pt x="121" y="3273"/>
                  <a:pt x="100" y="3303"/>
                </a:cubicBezTo>
                <a:cubicBezTo>
                  <a:pt x="91" y="3333"/>
                  <a:pt x="59" y="3398"/>
                  <a:pt x="39" y="3418"/>
                </a:cubicBezTo>
                <a:cubicBezTo>
                  <a:pt x="26" y="3431"/>
                  <a:pt x="0" y="3456"/>
                  <a:pt x="0" y="3456"/>
                </a:cubicBez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l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873080" y="476280"/>
            <a:ext cx="5462640" cy="5977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16000" y="198360"/>
            <a:ext cx="6264360" cy="6429600"/>
          </a:xfrm>
          <a:custGeom>
            <a:avLst/>
            <a:gdLst/>
            <a:ahLst/>
            <a:rect l="l" t="t" r="r" b="b"/>
            <a:pathLst>
              <a:path w="2608" h="4050">
                <a:moveTo>
                  <a:pt x="1072" y="13"/>
                </a:moveTo>
                <a:cubicBezTo>
                  <a:pt x="854" y="284"/>
                  <a:pt x="632" y="552"/>
                  <a:pt x="419" y="827"/>
                </a:cubicBezTo>
                <a:cubicBezTo>
                  <a:pt x="409" y="840"/>
                  <a:pt x="401" y="901"/>
                  <a:pt x="396" y="919"/>
                </a:cubicBezTo>
                <a:cubicBezTo>
                  <a:pt x="365" y="1023"/>
                  <a:pt x="345" y="1147"/>
                  <a:pt x="296" y="1242"/>
                </a:cubicBezTo>
                <a:cubicBezTo>
                  <a:pt x="282" y="1319"/>
                  <a:pt x="270" y="1402"/>
                  <a:pt x="235" y="1472"/>
                </a:cubicBezTo>
                <a:cubicBezTo>
                  <a:pt x="216" y="1561"/>
                  <a:pt x="199" y="1656"/>
                  <a:pt x="166" y="1741"/>
                </a:cubicBezTo>
                <a:cubicBezTo>
                  <a:pt x="154" y="1832"/>
                  <a:pt x="140" y="1940"/>
                  <a:pt x="104" y="2025"/>
                </a:cubicBezTo>
                <a:cubicBezTo>
                  <a:pt x="82" y="2147"/>
                  <a:pt x="68" y="2277"/>
                  <a:pt x="27" y="2394"/>
                </a:cubicBezTo>
                <a:cubicBezTo>
                  <a:pt x="10" y="2503"/>
                  <a:pt x="15" y="2614"/>
                  <a:pt x="4" y="2724"/>
                </a:cubicBezTo>
                <a:cubicBezTo>
                  <a:pt x="9" y="2941"/>
                  <a:pt x="0" y="3298"/>
                  <a:pt x="143" y="3492"/>
                </a:cubicBezTo>
                <a:cubicBezTo>
                  <a:pt x="171" y="3530"/>
                  <a:pt x="185" y="3573"/>
                  <a:pt x="219" y="3607"/>
                </a:cubicBezTo>
                <a:cubicBezTo>
                  <a:pt x="232" y="3646"/>
                  <a:pt x="267" y="3660"/>
                  <a:pt x="281" y="3700"/>
                </a:cubicBezTo>
                <a:cubicBezTo>
                  <a:pt x="299" y="3752"/>
                  <a:pt x="384" y="3836"/>
                  <a:pt x="434" y="3861"/>
                </a:cubicBezTo>
                <a:cubicBezTo>
                  <a:pt x="473" y="3880"/>
                  <a:pt x="513" y="3907"/>
                  <a:pt x="550" y="3930"/>
                </a:cubicBezTo>
                <a:cubicBezTo>
                  <a:pt x="559" y="3936"/>
                  <a:pt x="627" y="3959"/>
                  <a:pt x="634" y="3961"/>
                </a:cubicBezTo>
                <a:cubicBezTo>
                  <a:pt x="740" y="3998"/>
                  <a:pt x="853" y="4014"/>
                  <a:pt x="964" y="4022"/>
                </a:cubicBezTo>
                <a:cubicBezTo>
                  <a:pt x="1072" y="4050"/>
                  <a:pt x="1132" y="4035"/>
                  <a:pt x="1264" y="4030"/>
                </a:cubicBezTo>
                <a:cubicBezTo>
                  <a:pt x="1397" y="3996"/>
                  <a:pt x="1381" y="4013"/>
                  <a:pt x="1617" y="4007"/>
                </a:cubicBezTo>
                <a:cubicBezTo>
                  <a:pt x="1625" y="4004"/>
                  <a:pt x="1632" y="4001"/>
                  <a:pt x="1640" y="3999"/>
                </a:cubicBezTo>
                <a:cubicBezTo>
                  <a:pt x="1655" y="3995"/>
                  <a:pt x="1671" y="3996"/>
                  <a:pt x="1686" y="3991"/>
                </a:cubicBezTo>
                <a:cubicBezTo>
                  <a:pt x="1695" y="3988"/>
                  <a:pt x="1700" y="3979"/>
                  <a:pt x="1709" y="3976"/>
                </a:cubicBezTo>
                <a:cubicBezTo>
                  <a:pt x="1721" y="3971"/>
                  <a:pt x="1735" y="3971"/>
                  <a:pt x="1748" y="3968"/>
                </a:cubicBezTo>
                <a:cubicBezTo>
                  <a:pt x="1819" y="3924"/>
                  <a:pt x="1892" y="3909"/>
                  <a:pt x="1963" y="3869"/>
                </a:cubicBezTo>
                <a:cubicBezTo>
                  <a:pt x="2011" y="3842"/>
                  <a:pt x="2047" y="3799"/>
                  <a:pt x="2093" y="3769"/>
                </a:cubicBezTo>
                <a:cubicBezTo>
                  <a:pt x="2117" y="3734"/>
                  <a:pt x="2156" y="3706"/>
                  <a:pt x="2186" y="3677"/>
                </a:cubicBezTo>
                <a:cubicBezTo>
                  <a:pt x="2201" y="3663"/>
                  <a:pt x="2226" y="3610"/>
                  <a:pt x="2239" y="3592"/>
                </a:cubicBezTo>
                <a:cubicBezTo>
                  <a:pt x="2269" y="3550"/>
                  <a:pt x="2294" y="3506"/>
                  <a:pt x="2331" y="3469"/>
                </a:cubicBezTo>
                <a:cubicBezTo>
                  <a:pt x="2344" y="3405"/>
                  <a:pt x="2393" y="3360"/>
                  <a:pt x="2416" y="3300"/>
                </a:cubicBezTo>
                <a:cubicBezTo>
                  <a:pt x="2425" y="3249"/>
                  <a:pt x="2446" y="3200"/>
                  <a:pt x="2470" y="3154"/>
                </a:cubicBezTo>
                <a:cubicBezTo>
                  <a:pt x="2491" y="3068"/>
                  <a:pt x="2519" y="2985"/>
                  <a:pt x="2546" y="2901"/>
                </a:cubicBezTo>
                <a:cubicBezTo>
                  <a:pt x="2564" y="2761"/>
                  <a:pt x="2568" y="2616"/>
                  <a:pt x="2600" y="2479"/>
                </a:cubicBezTo>
                <a:cubicBezTo>
                  <a:pt x="2603" y="2451"/>
                  <a:pt x="2608" y="2422"/>
                  <a:pt x="2608" y="2394"/>
                </a:cubicBezTo>
                <a:cubicBezTo>
                  <a:pt x="2608" y="2046"/>
                  <a:pt x="2607" y="1698"/>
                  <a:pt x="2600" y="1350"/>
                </a:cubicBezTo>
                <a:cubicBezTo>
                  <a:pt x="2599" y="1310"/>
                  <a:pt x="2521" y="1132"/>
                  <a:pt x="2500" y="1111"/>
                </a:cubicBezTo>
                <a:cubicBezTo>
                  <a:pt x="2491" y="1062"/>
                  <a:pt x="2467" y="1025"/>
                  <a:pt x="2431" y="989"/>
                </a:cubicBezTo>
                <a:cubicBezTo>
                  <a:pt x="2410" y="935"/>
                  <a:pt x="2372" y="900"/>
                  <a:pt x="2339" y="850"/>
                </a:cubicBezTo>
                <a:cubicBezTo>
                  <a:pt x="2272" y="750"/>
                  <a:pt x="2192" y="650"/>
                  <a:pt x="2109" y="566"/>
                </a:cubicBezTo>
                <a:cubicBezTo>
                  <a:pt x="2063" y="519"/>
                  <a:pt x="2109" y="551"/>
                  <a:pt x="2063" y="497"/>
                </a:cubicBezTo>
                <a:cubicBezTo>
                  <a:pt x="2044" y="475"/>
                  <a:pt x="2019" y="459"/>
                  <a:pt x="2001" y="436"/>
                </a:cubicBezTo>
                <a:cubicBezTo>
                  <a:pt x="1959" y="382"/>
                  <a:pt x="1916" y="331"/>
                  <a:pt x="1878" y="274"/>
                </a:cubicBezTo>
                <a:cubicBezTo>
                  <a:pt x="1863" y="252"/>
                  <a:pt x="1843" y="233"/>
                  <a:pt x="1825" y="213"/>
                </a:cubicBezTo>
                <a:cubicBezTo>
                  <a:pt x="1813" y="199"/>
                  <a:pt x="1786" y="175"/>
                  <a:pt x="1786" y="175"/>
                </a:cubicBezTo>
                <a:cubicBezTo>
                  <a:pt x="1770" y="128"/>
                  <a:pt x="1790" y="171"/>
                  <a:pt x="1755" y="136"/>
                </a:cubicBezTo>
                <a:cubicBezTo>
                  <a:pt x="1695" y="76"/>
                  <a:pt x="1793" y="153"/>
                  <a:pt x="1717" y="90"/>
                </a:cubicBezTo>
                <a:cubicBezTo>
                  <a:pt x="1608" y="0"/>
                  <a:pt x="1431" y="13"/>
                  <a:pt x="1302" y="13"/>
                </a:cubicBezTo>
              </a:path>
            </a:pathLst>
          </a:custGeom>
          <a:noFill/>
          <a:ln w="127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l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87280" y="549360"/>
            <a:ext cx="5585040" cy="5616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365120" y="682560"/>
            <a:ext cx="4575240" cy="4791240"/>
          </a:xfrm>
          <a:custGeom>
            <a:avLst/>
            <a:gdLst/>
            <a:ahLst/>
            <a:rect l="l" t="t" r="r" b="b"/>
            <a:pathLst>
              <a:path w="3756" h="3018">
                <a:moveTo>
                  <a:pt x="0" y="0"/>
                </a:moveTo>
                <a:cubicBezTo>
                  <a:pt x="18" y="17"/>
                  <a:pt x="33" y="32"/>
                  <a:pt x="54" y="46"/>
                </a:cubicBezTo>
                <a:cubicBezTo>
                  <a:pt x="83" y="107"/>
                  <a:pt x="135" y="149"/>
                  <a:pt x="177" y="200"/>
                </a:cubicBezTo>
                <a:cubicBezTo>
                  <a:pt x="198" y="225"/>
                  <a:pt x="217" y="252"/>
                  <a:pt x="238" y="277"/>
                </a:cubicBezTo>
                <a:cubicBezTo>
                  <a:pt x="258" y="302"/>
                  <a:pt x="292" y="323"/>
                  <a:pt x="315" y="346"/>
                </a:cubicBezTo>
                <a:cubicBezTo>
                  <a:pt x="343" y="375"/>
                  <a:pt x="388" y="394"/>
                  <a:pt x="415" y="422"/>
                </a:cubicBezTo>
                <a:cubicBezTo>
                  <a:pt x="439" y="448"/>
                  <a:pt x="470" y="472"/>
                  <a:pt x="499" y="492"/>
                </a:cubicBezTo>
                <a:cubicBezTo>
                  <a:pt x="523" y="527"/>
                  <a:pt x="574" y="562"/>
                  <a:pt x="615" y="576"/>
                </a:cubicBezTo>
                <a:cubicBezTo>
                  <a:pt x="660" y="611"/>
                  <a:pt x="705" y="645"/>
                  <a:pt x="753" y="676"/>
                </a:cubicBezTo>
                <a:cubicBezTo>
                  <a:pt x="777" y="692"/>
                  <a:pt x="788" y="724"/>
                  <a:pt x="814" y="737"/>
                </a:cubicBezTo>
                <a:cubicBezTo>
                  <a:pt x="824" y="742"/>
                  <a:pt x="835" y="748"/>
                  <a:pt x="845" y="753"/>
                </a:cubicBezTo>
                <a:cubicBezTo>
                  <a:pt x="910" y="838"/>
                  <a:pt x="804" y="705"/>
                  <a:pt x="929" y="830"/>
                </a:cubicBezTo>
                <a:cubicBezTo>
                  <a:pt x="1017" y="918"/>
                  <a:pt x="1130" y="983"/>
                  <a:pt x="1229" y="1060"/>
                </a:cubicBezTo>
                <a:cubicBezTo>
                  <a:pt x="1259" y="1083"/>
                  <a:pt x="1293" y="1105"/>
                  <a:pt x="1321" y="1129"/>
                </a:cubicBezTo>
                <a:cubicBezTo>
                  <a:pt x="1356" y="1159"/>
                  <a:pt x="1384" y="1194"/>
                  <a:pt x="1429" y="1206"/>
                </a:cubicBezTo>
                <a:cubicBezTo>
                  <a:pt x="1461" y="1249"/>
                  <a:pt x="1502" y="1279"/>
                  <a:pt x="1552" y="1298"/>
                </a:cubicBezTo>
                <a:cubicBezTo>
                  <a:pt x="1601" y="1347"/>
                  <a:pt x="1670" y="1373"/>
                  <a:pt x="1720" y="1421"/>
                </a:cubicBezTo>
                <a:cubicBezTo>
                  <a:pt x="1773" y="1472"/>
                  <a:pt x="1839" y="1507"/>
                  <a:pt x="1897" y="1551"/>
                </a:cubicBezTo>
                <a:cubicBezTo>
                  <a:pt x="1906" y="1558"/>
                  <a:pt x="1911" y="1568"/>
                  <a:pt x="1920" y="1574"/>
                </a:cubicBezTo>
                <a:cubicBezTo>
                  <a:pt x="1934" y="1584"/>
                  <a:pt x="1952" y="1588"/>
                  <a:pt x="1966" y="1598"/>
                </a:cubicBezTo>
                <a:cubicBezTo>
                  <a:pt x="2003" y="1624"/>
                  <a:pt x="2034" y="1665"/>
                  <a:pt x="2066" y="1697"/>
                </a:cubicBezTo>
                <a:cubicBezTo>
                  <a:pt x="2097" y="1728"/>
                  <a:pt x="2138" y="1757"/>
                  <a:pt x="2174" y="1782"/>
                </a:cubicBezTo>
                <a:cubicBezTo>
                  <a:pt x="2199" y="1820"/>
                  <a:pt x="2181" y="1800"/>
                  <a:pt x="2235" y="1836"/>
                </a:cubicBezTo>
                <a:cubicBezTo>
                  <a:pt x="2293" y="1875"/>
                  <a:pt x="2347" y="1925"/>
                  <a:pt x="2404" y="1966"/>
                </a:cubicBezTo>
                <a:cubicBezTo>
                  <a:pt x="2511" y="2045"/>
                  <a:pt x="2626" y="2113"/>
                  <a:pt x="2734" y="2189"/>
                </a:cubicBezTo>
                <a:cubicBezTo>
                  <a:pt x="2794" y="2231"/>
                  <a:pt x="2836" y="2300"/>
                  <a:pt x="2896" y="2342"/>
                </a:cubicBezTo>
                <a:cubicBezTo>
                  <a:pt x="2944" y="2375"/>
                  <a:pt x="2996" y="2406"/>
                  <a:pt x="3041" y="2442"/>
                </a:cubicBezTo>
                <a:cubicBezTo>
                  <a:pt x="3078" y="2472"/>
                  <a:pt x="3111" y="2503"/>
                  <a:pt x="3157" y="2519"/>
                </a:cubicBezTo>
                <a:cubicBezTo>
                  <a:pt x="3197" y="2559"/>
                  <a:pt x="3247" y="2588"/>
                  <a:pt x="3295" y="2619"/>
                </a:cubicBezTo>
                <a:cubicBezTo>
                  <a:pt x="3316" y="2633"/>
                  <a:pt x="3364" y="2650"/>
                  <a:pt x="3364" y="2650"/>
                </a:cubicBezTo>
                <a:cubicBezTo>
                  <a:pt x="3374" y="2658"/>
                  <a:pt x="3384" y="2667"/>
                  <a:pt x="3395" y="2673"/>
                </a:cubicBezTo>
                <a:cubicBezTo>
                  <a:pt x="3402" y="2677"/>
                  <a:pt x="3412" y="2675"/>
                  <a:pt x="3418" y="2680"/>
                </a:cubicBezTo>
                <a:cubicBezTo>
                  <a:pt x="3448" y="2702"/>
                  <a:pt x="3475" y="2739"/>
                  <a:pt x="3502" y="2765"/>
                </a:cubicBezTo>
                <a:cubicBezTo>
                  <a:pt x="3530" y="2792"/>
                  <a:pt x="3563" y="2811"/>
                  <a:pt x="3587" y="2842"/>
                </a:cubicBezTo>
                <a:cubicBezTo>
                  <a:pt x="3617" y="2881"/>
                  <a:pt x="3675" y="2952"/>
                  <a:pt x="3717" y="2980"/>
                </a:cubicBezTo>
                <a:cubicBezTo>
                  <a:pt x="3722" y="2988"/>
                  <a:pt x="3726" y="2996"/>
                  <a:pt x="3733" y="3003"/>
                </a:cubicBezTo>
                <a:cubicBezTo>
                  <a:pt x="3740" y="3009"/>
                  <a:pt x="3756" y="3018"/>
                  <a:pt x="3756" y="3018"/>
                </a:cubicBez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62000" y="438120"/>
            <a:ext cx="3670560" cy="5486400"/>
          </a:xfrm>
          <a:custGeom>
            <a:avLst/>
            <a:gdLst/>
            <a:ahLst/>
            <a:rect l="l" t="t" r="r" b="b"/>
            <a:pathLst>
              <a:path w="2312" h="3456">
                <a:moveTo>
                  <a:pt x="2312" y="0"/>
                </a:moveTo>
                <a:cubicBezTo>
                  <a:pt x="2294" y="71"/>
                  <a:pt x="2256" y="134"/>
                  <a:pt x="2228" y="200"/>
                </a:cubicBezTo>
                <a:cubicBezTo>
                  <a:pt x="2129" y="432"/>
                  <a:pt x="2000" y="641"/>
                  <a:pt x="1844" y="838"/>
                </a:cubicBezTo>
                <a:cubicBezTo>
                  <a:pt x="1835" y="849"/>
                  <a:pt x="1836" y="865"/>
                  <a:pt x="1828" y="876"/>
                </a:cubicBezTo>
                <a:cubicBezTo>
                  <a:pt x="1807" y="908"/>
                  <a:pt x="1782" y="937"/>
                  <a:pt x="1759" y="968"/>
                </a:cubicBezTo>
                <a:cubicBezTo>
                  <a:pt x="1643" y="1123"/>
                  <a:pt x="1529" y="1278"/>
                  <a:pt x="1429" y="1444"/>
                </a:cubicBezTo>
                <a:cubicBezTo>
                  <a:pt x="1386" y="1516"/>
                  <a:pt x="1323" y="1576"/>
                  <a:pt x="1275" y="1644"/>
                </a:cubicBezTo>
                <a:cubicBezTo>
                  <a:pt x="1254" y="1674"/>
                  <a:pt x="1230" y="1703"/>
                  <a:pt x="1214" y="1736"/>
                </a:cubicBezTo>
                <a:cubicBezTo>
                  <a:pt x="1209" y="1746"/>
                  <a:pt x="1206" y="1758"/>
                  <a:pt x="1199" y="1767"/>
                </a:cubicBezTo>
                <a:cubicBezTo>
                  <a:pt x="1172" y="1806"/>
                  <a:pt x="1180" y="1773"/>
                  <a:pt x="1160" y="1813"/>
                </a:cubicBezTo>
                <a:cubicBezTo>
                  <a:pt x="1122" y="1888"/>
                  <a:pt x="1166" y="1820"/>
                  <a:pt x="1129" y="1874"/>
                </a:cubicBezTo>
                <a:cubicBezTo>
                  <a:pt x="1115" y="1919"/>
                  <a:pt x="1079" y="1948"/>
                  <a:pt x="1060" y="1990"/>
                </a:cubicBezTo>
                <a:cubicBezTo>
                  <a:pt x="1053" y="2005"/>
                  <a:pt x="1052" y="2022"/>
                  <a:pt x="1045" y="2036"/>
                </a:cubicBezTo>
                <a:cubicBezTo>
                  <a:pt x="1022" y="2082"/>
                  <a:pt x="999" y="2093"/>
                  <a:pt x="968" y="2136"/>
                </a:cubicBezTo>
                <a:cubicBezTo>
                  <a:pt x="919" y="2204"/>
                  <a:pt x="873" y="2279"/>
                  <a:pt x="830" y="2351"/>
                </a:cubicBezTo>
                <a:cubicBezTo>
                  <a:pt x="818" y="2371"/>
                  <a:pt x="798" y="2385"/>
                  <a:pt x="784" y="2404"/>
                </a:cubicBezTo>
                <a:cubicBezTo>
                  <a:pt x="702" y="2520"/>
                  <a:pt x="728" y="2471"/>
                  <a:pt x="684" y="2581"/>
                </a:cubicBezTo>
                <a:cubicBezTo>
                  <a:pt x="674" y="2606"/>
                  <a:pt x="646" y="2620"/>
                  <a:pt x="630" y="2642"/>
                </a:cubicBezTo>
                <a:cubicBezTo>
                  <a:pt x="581" y="2707"/>
                  <a:pt x="540" y="2781"/>
                  <a:pt x="484" y="2842"/>
                </a:cubicBezTo>
                <a:cubicBezTo>
                  <a:pt x="452" y="2877"/>
                  <a:pt x="413" y="2905"/>
                  <a:pt x="384" y="2942"/>
                </a:cubicBezTo>
                <a:cubicBezTo>
                  <a:pt x="343" y="2994"/>
                  <a:pt x="307" y="3043"/>
                  <a:pt x="262" y="3088"/>
                </a:cubicBezTo>
                <a:cubicBezTo>
                  <a:pt x="223" y="3127"/>
                  <a:pt x="200" y="3180"/>
                  <a:pt x="162" y="3218"/>
                </a:cubicBezTo>
                <a:cubicBezTo>
                  <a:pt x="150" y="3253"/>
                  <a:pt x="121" y="3273"/>
                  <a:pt x="100" y="3303"/>
                </a:cubicBezTo>
                <a:cubicBezTo>
                  <a:pt x="91" y="3333"/>
                  <a:pt x="59" y="3398"/>
                  <a:pt x="39" y="3418"/>
                </a:cubicBezTo>
                <a:cubicBezTo>
                  <a:pt x="26" y="3431"/>
                  <a:pt x="0" y="3456"/>
                  <a:pt x="0" y="3456"/>
                </a:cubicBez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l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19280" y="476280"/>
            <a:ext cx="4003560" cy="6051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65120" y="682560"/>
            <a:ext cx="4575240" cy="4791240"/>
          </a:xfrm>
          <a:custGeom>
            <a:avLst/>
            <a:gdLst/>
            <a:ahLst/>
            <a:rect l="l" t="t" r="r" b="b"/>
            <a:pathLst>
              <a:path w="3756" h="3018">
                <a:moveTo>
                  <a:pt x="0" y="0"/>
                </a:moveTo>
                <a:cubicBezTo>
                  <a:pt x="18" y="17"/>
                  <a:pt x="33" y="32"/>
                  <a:pt x="54" y="46"/>
                </a:cubicBezTo>
                <a:cubicBezTo>
                  <a:pt x="83" y="107"/>
                  <a:pt x="135" y="149"/>
                  <a:pt x="177" y="200"/>
                </a:cubicBezTo>
                <a:cubicBezTo>
                  <a:pt x="198" y="225"/>
                  <a:pt x="217" y="252"/>
                  <a:pt x="238" y="277"/>
                </a:cubicBezTo>
                <a:cubicBezTo>
                  <a:pt x="258" y="302"/>
                  <a:pt x="292" y="323"/>
                  <a:pt x="315" y="346"/>
                </a:cubicBezTo>
                <a:cubicBezTo>
                  <a:pt x="343" y="375"/>
                  <a:pt x="388" y="394"/>
                  <a:pt x="415" y="422"/>
                </a:cubicBezTo>
                <a:cubicBezTo>
                  <a:pt x="439" y="448"/>
                  <a:pt x="470" y="472"/>
                  <a:pt x="499" y="492"/>
                </a:cubicBezTo>
                <a:cubicBezTo>
                  <a:pt x="523" y="527"/>
                  <a:pt x="574" y="562"/>
                  <a:pt x="615" y="576"/>
                </a:cubicBezTo>
                <a:cubicBezTo>
                  <a:pt x="660" y="611"/>
                  <a:pt x="705" y="645"/>
                  <a:pt x="753" y="676"/>
                </a:cubicBezTo>
                <a:cubicBezTo>
                  <a:pt x="777" y="692"/>
                  <a:pt x="788" y="724"/>
                  <a:pt x="814" y="737"/>
                </a:cubicBezTo>
                <a:cubicBezTo>
                  <a:pt x="824" y="742"/>
                  <a:pt x="835" y="748"/>
                  <a:pt x="845" y="753"/>
                </a:cubicBezTo>
                <a:cubicBezTo>
                  <a:pt x="910" y="838"/>
                  <a:pt x="804" y="705"/>
                  <a:pt x="929" y="830"/>
                </a:cubicBezTo>
                <a:cubicBezTo>
                  <a:pt x="1017" y="918"/>
                  <a:pt x="1130" y="983"/>
                  <a:pt x="1229" y="1060"/>
                </a:cubicBezTo>
                <a:cubicBezTo>
                  <a:pt x="1259" y="1083"/>
                  <a:pt x="1293" y="1105"/>
                  <a:pt x="1321" y="1129"/>
                </a:cubicBezTo>
                <a:cubicBezTo>
                  <a:pt x="1356" y="1159"/>
                  <a:pt x="1384" y="1194"/>
                  <a:pt x="1429" y="1206"/>
                </a:cubicBezTo>
                <a:cubicBezTo>
                  <a:pt x="1461" y="1249"/>
                  <a:pt x="1502" y="1279"/>
                  <a:pt x="1552" y="1298"/>
                </a:cubicBezTo>
                <a:cubicBezTo>
                  <a:pt x="1601" y="1347"/>
                  <a:pt x="1670" y="1373"/>
                  <a:pt x="1720" y="1421"/>
                </a:cubicBezTo>
                <a:cubicBezTo>
                  <a:pt x="1773" y="1472"/>
                  <a:pt x="1839" y="1507"/>
                  <a:pt x="1897" y="1551"/>
                </a:cubicBezTo>
                <a:cubicBezTo>
                  <a:pt x="1906" y="1558"/>
                  <a:pt x="1911" y="1568"/>
                  <a:pt x="1920" y="1574"/>
                </a:cubicBezTo>
                <a:cubicBezTo>
                  <a:pt x="1934" y="1584"/>
                  <a:pt x="1952" y="1588"/>
                  <a:pt x="1966" y="1598"/>
                </a:cubicBezTo>
                <a:cubicBezTo>
                  <a:pt x="2003" y="1624"/>
                  <a:pt x="2034" y="1665"/>
                  <a:pt x="2066" y="1697"/>
                </a:cubicBezTo>
                <a:cubicBezTo>
                  <a:pt x="2097" y="1728"/>
                  <a:pt x="2138" y="1757"/>
                  <a:pt x="2174" y="1782"/>
                </a:cubicBezTo>
                <a:cubicBezTo>
                  <a:pt x="2199" y="1820"/>
                  <a:pt x="2181" y="1800"/>
                  <a:pt x="2235" y="1836"/>
                </a:cubicBezTo>
                <a:cubicBezTo>
                  <a:pt x="2293" y="1875"/>
                  <a:pt x="2347" y="1925"/>
                  <a:pt x="2404" y="1966"/>
                </a:cubicBezTo>
                <a:cubicBezTo>
                  <a:pt x="2511" y="2045"/>
                  <a:pt x="2626" y="2113"/>
                  <a:pt x="2734" y="2189"/>
                </a:cubicBezTo>
                <a:cubicBezTo>
                  <a:pt x="2794" y="2231"/>
                  <a:pt x="2836" y="2300"/>
                  <a:pt x="2896" y="2342"/>
                </a:cubicBezTo>
                <a:cubicBezTo>
                  <a:pt x="2944" y="2375"/>
                  <a:pt x="2996" y="2406"/>
                  <a:pt x="3041" y="2442"/>
                </a:cubicBezTo>
                <a:cubicBezTo>
                  <a:pt x="3078" y="2472"/>
                  <a:pt x="3111" y="2503"/>
                  <a:pt x="3157" y="2519"/>
                </a:cubicBezTo>
                <a:cubicBezTo>
                  <a:pt x="3197" y="2559"/>
                  <a:pt x="3247" y="2588"/>
                  <a:pt x="3295" y="2619"/>
                </a:cubicBezTo>
                <a:cubicBezTo>
                  <a:pt x="3316" y="2633"/>
                  <a:pt x="3364" y="2650"/>
                  <a:pt x="3364" y="2650"/>
                </a:cubicBezTo>
                <a:cubicBezTo>
                  <a:pt x="3374" y="2658"/>
                  <a:pt x="3384" y="2667"/>
                  <a:pt x="3395" y="2673"/>
                </a:cubicBezTo>
                <a:cubicBezTo>
                  <a:pt x="3402" y="2677"/>
                  <a:pt x="3412" y="2675"/>
                  <a:pt x="3418" y="2680"/>
                </a:cubicBezTo>
                <a:cubicBezTo>
                  <a:pt x="3448" y="2702"/>
                  <a:pt x="3475" y="2739"/>
                  <a:pt x="3502" y="2765"/>
                </a:cubicBezTo>
                <a:cubicBezTo>
                  <a:pt x="3530" y="2792"/>
                  <a:pt x="3563" y="2811"/>
                  <a:pt x="3587" y="2842"/>
                </a:cubicBezTo>
                <a:cubicBezTo>
                  <a:pt x="3617" y="2881"/>
                  <a:pt x="3675" y="2952"/>
                  <a:pt x="3717" y="2980"/>
                </a:cubicBezTo>
                <a:cubicBezTo>
                  <a:pt x="3722" y="2988"/>
                  <a:pt x="3726" y="2996"/>
                  <a:pt x="3733" y="3003"/>
                </a:cubicBezTo>
                <a:cubicBezTo>
                  <a:pt x="3740" y="3009"/>
                  <a:pt x="3756" y="3018"/>
                  <a:pt x="3756" y="3018"/>
                </a:cubicBez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62000" y="438120"/>
            <a:ext cx="3670560" cy="5486400"/>
          </a:xfrm>
          <a:custGeom>
            <a:avLst/>
            <a:gdLst/>
            <a:ahLst/>
            <a:rect l="l" t="t" r="r" b="b"/>
            <a:pathLst>
              <a:path w="2312" h="3456">
                <a:moveTo>
                  <a:pt x="2312" y="0"/>
                </a:moveTo>
                <a:cubicBezTo>
                  <a:pt x="2294" y="71"/>
                  <a:pt x="2256" y="134"/>
                  <a:pt x="2228" y="200"/>
                </a:cubicBezTo>
                <a:cubicBezTo>
                  <a:pt x="2129" y="432"/>
                  <a:pt x="2000" y="641"/>
                  <a:pt x="1844" y="838"/>
                </a:cubicBezTo>
                <a:cubicBezTo>
                  <a:pt x="1835" y="849"/>
                  <a:pt x="1836" y="865"/>
                  <a:pt x="1828" y="876"/>
                </a:cubicBezTo>
                <a:cubicBezTo>
                  <a:pt x="1807" y="908"/>
                  <a:pt x="1782" y="937"/>
                  <a:pt x="1759" y="968"/>
                </a:cubicBezTo>
                <a:cubicBezTo>
                  <a:pt x="1643" y="1123"/>
                  <a:pt x="1529" y="1278"/>
                  <a:pt x="1429" y="1444"/>
                </a:cubicBezTo>
                <a:cubicBezTo>
                  <a:pt x="1386" y="1516"/>
                  <a:pt x="1323" y="1576"/>
                  <a:pt x="1275" y="1644"/>
                </a:cubicBezTo>
                <a:cubicBezTo>
                  <a:pt x="1254" y="1674"/>
                  <a:pt x="1230" y="1703"/>
                  <a:pt x="1214" y="1736"/>
                </a:cubicBezTo>
                <a:cubicBezTo>
                  <a:pt x="1209" y="1746"/>
                  <a:pt x="1206" y="1758"/>
                  <a:pt x="1199" y="1767"/>
                </a:cubicBezTo>
                <a:cubicBezTo>
                  <a:pt x="1172" y="1806"/>
                  <a:pt x="1180" y="1773"/>
                  <a:pt x="1160" y="1813"/>
                </a:cubicBezTo>
                <a:cubicBezTo>
                  <a:pt x="1122" y="1888"/>
                  <a:pt x="1166" y="1820"/>
                  <a:pt x="1129" y="1874"/>
                </a:cubicBezTo>
                <a:cubicBezTo>
                  <a:pt x="1115" y="1919"/>
                  <a:pt x="1079" y="1948"/>
                  <a:pt x="1060" y="1990"/>
                </a:cubicBezTo>
                <a:cubicBezTo>
                  <a:pt x="1053" y="2005"/>
                  <a:pt x="1052" y="2022"/>
                  <a:pt x="1045" y="2036"/>
                </a:cubicBezTo>
                <a:cubicBezTo>
                  <a:pt x="1022" y="2082"/>
                  <a:pt x="999" y="2093"/>
                  <a:pt x="968" y="2136"/>
                </a:cubicBezTo>
                <a:cubicBezTo>
                  <a:pt x="919" y="2204"/>
                  <a:pt x="873" y="2279"/>
                  <a:pt x="830" y="2351"/>
                </a:cubicBezTo>
                <a:cubicBezTo>
                  <a:pt x="818" y="2371"/>
                  <a:pt x="798" y="2385"/>
                  <a:pt x="784" y="2404"/>
                </a:cubicBezTo>
                <a:cubicBezTo>
                  <a:pt x="702" y="2520"/>
                  <a:pt x="728" y="2471"/>
                  <a:pt x="684" y="2581"/>
                </a:cubicBezTo>
                <a:cubicBezTo>
                  <a:pt x="674" y="2606"/>
                  <a:pt x="646" y="2620"/>
                  <a:pt x="630" y="2642"/>
                </a:cubicBezTo>
                <a:cubicBezTo>
                  <a:pt x="581" y="2707"/>
                  <a:pt x="540" y="2781"/>
                  <a:pt x="484" y="2842"/>
                </a:cubicBezTo>
                <a:cubicBezTo>
                  <a:pt x="452" y="2877"/>
                  <a:pt x="413" y="2905"/>
                  <a:pt x="384" y="2942"/>
                </a:cubicBezTo>
                <a:cubicBezTo>
                  <a:pt x="343" y="2994"/>
                  <a:pt x="307" y="3043"/>
                  <a:pt x="262" y="3088"/>
                </a:cubicBezTo>
                <a:cubicBezTo>
                  <a:pt x="223" y="3127"/>
                  <a:pt x="200" y="3180"/>
                  <a:pt x="162" y="3218"/>
                </a:cubicBezTo>
                <a:cubicBezTo>
                  <a:pt x="150" y="3253"/>
                  <a:pt x="121" y="3273"/>
                  <a:pt x="100" y="3303"/>
                </a:cubicBezTo>
                <a:cubicBezTo>
                  <a:pt x="91" y="3333"/>
                  <a:pt x="59" y="3398"/>
                  <a:pt x="39" y="3418"/>
                </a:cubicBezTo>
                <a:cubicBezTo>
                  <a:pt x="26" y="3431"/>
                  <a:pt x="0" y="3456"/>
                  <a:pt x="0" y="3456"/>
                </a:cubicBez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l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24000" y="1828800"/>
            <a:ext cx="8496000" cy="3200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24000" y="1125360"/>
            <a:ext cx="8208720" cy="4608720"/>
          </a:xfrm>
          <a:custGeom>
            <a:avLst/>
            <a:gdLst/>
            <a:ahLst/>
            <a:rect l="l" t="t" r="r" b="b"/>
            <a:pathLst>
              <a:path w="2608" h="4050">
                <a:moveTo>
                  <a:pt x="1072" y="13"/>
                </a:moveTo>
                <a:cubicBezTo>
                  <a:pt x="854" y="284"/>
                  <a:pt x="632" y="552"/>
                  <a:pt x="419" y="827"/>
                </a:cubicBezTo>
                <a:cubicBezTo>
                  <a:pt x="409" y="840"/>
                  <a:pt x="401" y="901"/>
                  <a:pt x="396" y="919"/>
                </a:cubicBezTo>
                <a:cubicBezTo>
                  <a:pt x="365" y="1023"/>
                  <a:pt x="345" y="1147"/>
                  <a:pt x="296" y="1242"/>
                </a:cubicBezTo>
                <a:cubicBezTo>
                  <a:pt x="282" y="1319"/>
                  <a:pt x="270" y="1402"/>
                  <a:pt x="235" y="1472"/>
                </a:cubicBezTo>
                <a:cubicBezTo>
                  <a:pt x="216" y="1561"/>
                  <a:pt x="199" y="1656"/>
                  <a:pt x="166" y="1741"/>
                </a:cubicBezTo>
                <a:cubicBezTo>
                  <a:pt x="154" y="1832"/>
                  <a:pt x="140" y="1940"/>
                  <a:pt x="104" y="2025"/>
                </a:cubicBezTo>
                <a:cubicBezTo>
                  <a:pt x="82" y="2147"/>
                  <a:pt x="68" y="2277"/>
                  <a:pt x="27" y="2394"/>
                </a:cubicBezTo>
                <a:cubicBezTo>
                  <a:pt x="10" y="2503"/>
                  <a:pt x="15" y="2614"/>
                  <a:pt x="4" y="2724"/>
                </a:cubicBezTo>
                <a:cubicBezTo>
                  <a:pt x="9" y="2941"/>
                  <a:pt x="0" y="3298"/>
                  <a:pt x="143" y="3492"/>
                </a:cubicBezTo>
                <a:cubicBezTo>
                  <a:pt x="171" y="3530"/>
                  <a:pt x="185" y="3573"/>
                  <a:pt x="219" y="3607"/>
                </a:cubicBezTo>
                <a:cubicBezTo>
                  <a:pt x="232" y="3646"/>
                  <a:pt x="267" y="3660"/>
                  <a:pt x="281" y="3700"/>
                </a:cubicBezTo>
                <a:cubicBezTo>
                  <a:pt x="299" y="3752"/>
                  <a:pt x="384" y="3836"/>
                  <a:pt x="434" y="3861"/>
                </a:cubicBezTo>
                <a:cubicBezTo>
                  <a:pt x="473" y="3880"/>
                  <a:pt x="513" y="3907"/>
                  <a:pt x="550" y="3930"/>
                </a:cubicBezTo>
                <a:cubicBezTo>
                  <a:pt x="559" y="3936"/>
                  <a:pt x="627" y="3959"/>
                  <a:pt x="634" y="3961"/>
                </a:cubicBezTo>
                <a:cubicBezTo>
                  <a:pt x="740" y="3998"/>
                  <a:pt x="853" y="4014"/>
                  <a:pt x="964" y="4022"/>
                </a:cubicBezTo>
                <a:cubicBezTo>
                  <a:pt x="1072" y="4050"/>
                  <a:pt x="1132" y="4035"/>
                  <a:pt x="1264" y="4030"/>
                </a:cubicBezTo>
                <a:cubicBezTo>
                  <a:pt x="1397" y="3996"/>
                  <a:pt x="1381" y="4013"/>
                  <a:pt x="1617" y="4007"/>
                </a:cubicBezTo>
                <a:cubicBezTo>
                  <a:pt x="1625" y="4004"/>
                  <a:pt x="1632" y="4001"/>
                  <a:pt x="1640" y="3999"/>
                </a:cubicBezTo>
                <a:cubicBezTo>
                  <a:pt x="1655" y="3995"/>
                  <a:pt x="1671" y="3996"/>
                  <a:pt x="1686" y="3991"/>
                </a:cubicBezTo>
                <a:cubicBezTo>
                  <a:pt x="1695" y="3988"/>
                  <a:pt x="1700" y="3979"/>
                  <a:pt x="1709" y="3976"/>
                </a:cubicBezTo>
                <a:cubicBezTo>
                  <a:pt x="1721" y="3971"/>
                  <a:pt x="1735" y="3971"/>
                  <a:pt x="1748" y="3968"/>
                </a:cubicBezTo>
                <a:cubicBezTo>
                  <a:pt x="1819" y="3924"/>
                  <a:pt x="1892" y="3909"/>
                  <a:pt x="1963" y="3869"/>
                </a:cubicBezTo>
                <a:cubicBezTo>
                  <a:pt x="2011" y="3842"/>
                  <a:pt x="2047" y="3799"/>
                  <a:pt x="2093" y="3769"/>
                </a:cubicBezTo>
                <a:cubicBezTo>
                  <a:pt x="2117" y="3734"/>
                  <a:pt x="2156" y="3706"/>
                  <a:pt x="2186" y="3677"/>
                </a:cubicBezTo>
                <a:cubicBezTo>
                  <a:pt x="2201" y="3663"/>
                  <a:pt x="2226" y="3610"/>
                  <a:pt x="2239" y="3592"/>
                </a:cubicBezTo>
                <a:cubicBezTo>
                  <a:pt x="2269" y="3550"/>
                  <a:pt x="2294" y="3506"/>
                  <a:pt x="2331" y="3469"/>
                </a:cubicBezTo>
                <a:cubicBezTo>
                  <a:pt x="2344" y="3405"/>
                  <a:pt x="2393" y="3360"/>
                  <a:pt x="2416" y="3300"/>
                </a:cubicBezTo>
                <a:cubicBezTo>
                  <a:pt x="2425" y="3249"/>
                  <a:pt x="2446" y="3200"/>
                  <a:pt x="2470" y="3154"/>
                </a:cubicBezTo>
                <a:cubicBezTo>
                  <a:pt x="2491" y="3068"/>
                  <a:pt x="2519" y="2985"/>
                  <a:pt x="2546" y="2901"/>
                </a:cubicBezTo>
                <a:cubicBezTo>
                  <a:pt x="2564" y="2761"/>
                  <a:pt x="2568" y="2616"/>
                  <a:pt x="2600" y="2479"/>
                </a:cubicBezTo>
                <a:cubicBezTo>
                  <a:pt x="2603" y="2451"/>
                  <a:pt x="2608" y="2422"/>
                  <a:pt x="2608" y="2394"/>
                </a:cubicBezTo>
                <a:cubicBezTo>
                  <a:pt x="2608" y="2046"/>
                  <a:pt x="2607" y="1698"/>
                  <a:pt x="2600" y="1350"/>
                </a:cubicBezTo>
                <a:cubicBezTo>
                  <a:pt x="2599" y="1310"/>
                  <a:pt x="2521" y="1132"/>
                  <a:pt x="2500" y="1111"/>
                </a:cubicBezTo>
                <a:cubicBezTo>
                  <a:pt x="2491" y="1062"/>
                  <a:pt x="2467" y="1025"/>
                  <a:pt x="2431" y="989"/>
                </a:cubicBezTo>
                <a:cubicBezTo>
                  <a:pt x="2410" y="935"/>
                  <a:pt x="2372" y="900"/>
                  <a:pt x="2339" y="850"/>
                </a:cubicBezTo>
                <a:cubicBezTo>
                  <a:pt x="2272" y="750"/>
                  <a:pt x="2192" y="650"/>
                  <a:pt x="2109" y="566"/>
                </a:cubicBezTo>
                <a:cubicBezTo>
                  <a:pt x="2063" y="519"/>
                  <a:pt x="2109" y="551"/>
                  <a:pt x="2063" y="497"/>
                </a:cubicBezTo>
                <a:cubicBezTo>
                  <a:pt x="2044" y="475"/>
                  <a:pt x="2019" y="459"/>
                  <a:pt x="2001" y="436"/>
                </a:cubicBezTo>
                <a:cubicBezTo>
                  <a:pt x="1959" y="382"/>
                  <a:pt x="1916" y="331"/>
                  <a:pt x="1878" y="274"/>
                </a:cubicBezTo>
                <a:cubicBezTo>
                  <a:pt x="1863" y="252"/>
                  <a:pt x="1843" y="233"/>
                  <a:pt x="1825" y="213"/>
                </a:cubicBezTo>
                <a:cubicBezTo>
                  <a:pt x="1813" y="199"/>
                  <a:pt x="1786" y="175"/>
                  <a:pt x="1786" y="175"/>
                </a:cubicBezTo>
                <a:cubicBezTo>
                  <a:pt x="1770" y="128"/>
                  <a:pt x="1790" y="171"/>
                  <a:pt x="1755" y="136"/>
                </a:cubicBezTo>
                <a:cubicBezTo>
                  <a:pt x="1695" y="76"/>
                  <a:pt x="1793" y="153"/>
                  <a:pt x="1717" y="90"/>
                </a:cubicBezTo>
                <a:cubicBezTo>
                  <a:pt x="1608" y="0"/>
                  <a:pt x="1431" y="13"/>
                  <a:pt x="1302" y="13"/>
                </a:cubicBezTo>
              </a:path>
            </a:pathLst>
          </a:custGeom>
          <a:noFill/>
          <a:ln w="127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20:32:02Z</dcterms:created>
  <dc:creator>ev</dc:creator>
  <dc:description/>
  <dc:language>en-US</dc:language>
  <cp:lastModifiedBy>ecole</cp:lastModifiedBy>
  <dcterms:modified xsi:type="dcterms:W3CDTF">2009-09-25T07:32:58Z</dcterms:modified>
  <cp:revision>25</cp:revision>
  <dc:subject/>
  <dc:title>Diapositive 1</dc:title>
</cp:coreProperties>
</file>