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22.wmf" ContentType="image/x-wmf"/>
  <Override PartName="/ppt/media/debu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149480" y="322200"/>
            <a:ext cx="7543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51000" y="1139760"/>
            <a:ext cx="4592880" cy="4964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06440" y="1017720"/>
            <a:ext cx="5494320" cy="56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13120" y="2163600"/>
            <a:ext cx="5535360" cy="300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46240" y="1052640"/>
            <a:ext cx="5494320" cy="56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79560" y="1459080"/>
            <a:ext cx="6073920" cy="46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8272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333440"/>
            <a:ext cx="5397480" cy="525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66960" y="866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9160" y="1968480"/>
            <a:ext cx="560088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185920" y="920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1546200"/>
            <a:ext cx="5524200" cy="464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8272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63840" y="2355840"/>
            <a:ext cx="6742080" cy="302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185920" y="920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920" y="2011320"/>
            <a:ext cx="5367240" cy="377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82720" y="115884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0480" y="1638360"/>
            <a:ext cx="5370480" cy="469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24200" y="1071720"/>
            <a:ext cx="5494320" cy="56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63560" y="2112840"/>
            <a:ext cx="6812280" cy="3160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85920" y="920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6864120" cy="47448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833480" y="108900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17760" y="1230480"/>
            <a:ext cx="5392800" cy="508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24200" y="1071720"/>
            <a:ext cx="5494320" cy="56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09640" y="1755720"/>
            <a:ext cx="6100920" cy="438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59120" y="96516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22280" y="1554120"/>
            <a:ext cx="6247080" cy="454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09760" y="95400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22480" y="1200240"/>
            <a:ext cx="5897520" cy="52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866960" y="866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92160" y="1598760"/>
            <a:ext cx="5062680" cy="4416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835280" y="108900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09720" y="1547640"/>
            <a:ext cx="5038920" cy="423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66960" y="866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64000" y="1474920"/>
            <a:ext cx="3830400" cy="43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35280" y="1089000"/>
            <a:ext cx="5494320" cy="562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22520" y="415800"/>
            <a:ext cx="3838680" cy="644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306440" y="1017720"/>
            <a:ext cx="5494320" cy="56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90080" y="193680"/>
            <a:ext cx="1304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[f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28680" y="1650960"/>
            <a:ext cx="4403880" cy="415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866960" y="866880"/>
            <a:ext cx="537048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</cp:lastModifiedBy>
  <dcterms:modified xsi:type="dcterms:W3CDTF">2007-11-30T17:53:51Z</dcterms:modified>
  <cp:revision>1</cp:revision>
  <dc:subject/>
  <dc:title>Diapositive 1</dc:title>
</cp:coreProperties>
</file>