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92000" y="4140360"/>
            <a:ext cx="3100680" cy="2511360"/>
          </a:xfrm>
          <a:prstGeom prst="roundRect">
            <a:avLst>
              <a:gd name="adj" fmla="val 60"/>
            </a:avLst>
          </a:prstGeom>
          <a:gradFill rotWithShape="0">
            <a:gsLst>
              <a:gs pos="0">
                <a:srgbClr val="0099ff"/>
              </a:gs>
              <a:gs pos="100000">
                <a:srgbClr val="3deb3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92280" y="4378320"/>
            <a:ext cx="800280" cy="8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90080" y="193680"/>
            <a:ext cx="157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63640" y="324000"/>
            <a:ext cx="3100320" cy="34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6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14320" y="4138560"/>
            <a:ext cx="6242040" cy="2511360"/>
          </a:xfrm>
          <a:prstGeom prst="roundRect">
            <a:avLst>
              <a:gd name="adj" fmla="val 60"/>
            </a:avLst>
          </a:prstGeom>
          <a:gradFill rotWithShape="0">
            <a:gsLst>
              <a:gs pos="0">
                <a:srgbClr val="0099ff"/>
              </a:gs>
              <a:gs pos="100000">
                <a:srgbClr val="3deb3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9408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8632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31640" y="324000"/>
            <a:ext cx="4365720" cy="346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290080" y="193680"/>
            <a:ext cx="157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9116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761080" y="4356000"/>
            <a:ext cx="79992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6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6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14320" y="4138560"/>
            <a:ext cx="4087800" cy="2511360"/>
          </a:xfrm>
          <a:prstGeom prst="roundRect">
            <a:avLst>
              <a:gd name="adj" fmla="val 60"/>
            </a:avLst>
          </a:prstGeom>
          <a:gradFill rotWithShape="0">
            <a:gsLst>
              <a:gs pos="0">
                <a:srgbClr val="0099ff"/>
              </a:gs>
              <a:gs pos="100000">
                <a:srgbClr val="3deb3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8472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600360" y="435600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92000" y="539640"/>
            <a:ext cx="4591080" cy="3343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290080" y="193680"/>
            <a:ext cx="157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6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6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14320" y="4138560"/>
            <a:ext cx="3030480" cy="2511360"/>
          </a:xfrm>
          <a:prstGeom prst="roundRect">
            <a:avLst>
              <a:gd name="adj" fmla="val 60"/>
            </a:avLst>
          </a:prstGeom>
          <a:gradFill rotWithShape="0">
            <a:gsLst>
              <a:gs pos="0">
                <a:srgbClr val="0099ff"/>
              </a:gs>
              <a:gs pos="100000">
                <a:srgbClr val="3deb3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90080" y="193680"/>
            <a:ext cx="157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68360" y="435600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19280" y="435600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19280" y="150840"/>
            <a:ext cx="2825640" cy="391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92000" y="4140360"/>
            <a:ext cx="4032360" cy="2511360"/>
          </a:xfrm>
          <a:prstGeom prst="roundRect">
            <a:avLst>
              <a:gd name="adj" fmla="val 60"/>
            </a:avLst>
          </a:prstGeom>
          <a:gradFill rotWithShape="0">
            <a:gsLst>
              <a:gs pos="0">
                <a:srgbClr val="0099ff"/>
              </a:gs>
              <a:gs pos="100000">
                <a:srgbClr val="3deb3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90080" y="193680"/>
            <a:ext cx="157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19280" y="324000"/>
            <a:ext cx="4189320" cy="3468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38472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14320" y="4138560"/>
            <a:ext cx="4087800" cy="2511360"/>
          </a:xfrm>
          <a:prstGeom prst="roundRect">
            <a:avLst>
              <a:gd name="adj" fmla="val 60"/>
            </a:avLst>
          </a:prstGeom>
          <a:gradFill rotWithShape="0">
            <a:gsLst>
              <a:gs pos="0">
                <a:srgbClr val="0099ff"/>
              </a:gs>
              <a:gs pos="100000">
                <a:srgbClr val="3deb3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8472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19280" y="4356000"/>
            <a:ext cx="800280" cy="800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290080" y="193680"/>
            <a:ext cx="157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92000" y="611280"/>
            <a:ext cx="4672080" cy="26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6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cole</cp:lastModifiedBy>
  <dcterms:modified xsi:type="dcterms:W3CDTF">2009-10-07T13:34:31Z</dcterms:modified>
  <cp:revision>6</cp:revision>
  <dc:subject/>
  <dc:title>Diapositive 1</dc:title>
</cp:coreProperties>
</file>