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3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17.png" ContentType="image/png"/>
  <Override PartName="/ppt/media/image16.wmf" ContentType="image/x-wmf"/>
  <Override PartName="/ppt/media/image24.jpeg" ContentType="image/jpe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616-31B6-4E32-8587-72626EA4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C80-1DB5-4FFB-A9B5-8E1794AE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BF31-13B4-4DCB-8C5F-0CDCE20C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D93-74B6-49CF-B289-70934DCC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CF6-3A3B-41DD-977B-2F20A0BD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2B6-FBA6-41F7-B485-2A61638E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B3A-79C2-4775-B863-30019B71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570-9E9D-46C7-9085-CE678BEB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6B7-0190-44B9-AF0F-47633F1B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9FE-FB6F-43EC-89D4-4CC0B0AD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7B2-6BF3-4D1B-AC21-CD3F4B3D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719-90FB-4439-9097-C32B2EBA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76E4-B233-4109-8AF4-7F6ED0093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3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8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9280" y="1984320"/>
            <a:ext cx="8782200" cy="2886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8280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4159440" cy="561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410544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5783400" cy="5391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4360" y="189000"/>
            <a:ext cx="7750080" cy="6264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68360" y="393840"/>
            <a:ext cx="8248680" cy="61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89120" y="852480"/>
            <a:ext cx="5762520" cy="5153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835280" y="765000"/>
            <a:ext cx="532908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4753080" cy="4753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58920" y="620640"/>
            <a:ext cx="475308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66680" y="703440"/>
            <a:ext cx="7010640" cy="5451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69138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09880" y="476280"/>
            <a:ext cx="5121000" cy="5905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692360" y="549360"/>
            <a:ext cx="49672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71640" y="735120"/>
            <a:ext cx="7197480" cy="5387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8208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6334200" cy="6283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84360" y="0"/>
            <a:ext cx="82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077240" cy="4664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84360" y="189000"/>
            <a:ext cx="8280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3700440" cy="554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00000" y="476280"/>
            <a:ext cx="4896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083120" cy="6408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8360" y="692280"/>
            <a:ext cx="3598920" cy="53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6769080" cy="5076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63356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8464680" cy="2976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7750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5400360" cy="540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4360" y="692280"/>
            <a:ext cx="7750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4984560" cy="561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7164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835280" y="620640"/>
            <a:ext cx="4663800" cy="5619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69138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5200920" cy="6483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333360"/>
            <a:ext cx="5689800" cy="6264360"/>
          </a:xfrm>
          <a:prstGeom prst="ellipse">
            <a:avLst/>
          </a:prstGeom>
          <a:noFill/>
          <a:ln w="127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43120" y="806400"/>
            <a:ext cx="7456320" cy="5243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69138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87280" y="500040"/>
            <a:ext cx="6766200" cy="5854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84360" y="692280"/>
            <a:ext cx="7750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administrateur</cp:lastModifiedBy>
  <dcterms:modified xsi:type="dcterms:W3CDTF">2009-09-23T13:09:58Z</dcterms:modified>
  <cp:revision>27</cp:revision>
  <dc:subject/>
  <dc:title>Diapositive 1</dc:title>
</cp:coreProperties>
</file>