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6.wmf" ContentType="image/x-wmf"/>
  <Override PartName="/ppt/media/image5.png" ContentType="image/png"/>
  <Override PartName="/ppt/media/image10.jpeg" ContentType="image/jpeg"/>
  <Override PartName="/ppt/media/image13.wmf" ContentType="image/x-wmf"/>
  <Override PartName="/ppt/media/image4.wmf" ContentType="image/x-wmf"/>
  <Override PartName="/ppt/media/image7.wmf" ContentType="image/x-wmf"/>
  <Override PartName="/ppt/media/image12.png" ContentType="image/png"/>
  <Override PartName="/ppt/media/Bell2.wav" ContentType="audio/x-wav"/>
  <Override PartName="/ppt/media/image3.png" ContentType="image/png"/>
  <Override PartName="/ppt/media/image11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debut.wav" ContentType="audio/x-wav"/>
  <Override PartName="/ppt/media/image22.wmf" ContentType="image/x-wmf"/>
  <Override PartName="/ppt/media/image9.jpeg" ContentType="image/jpeg"/>
  <Override PartName="/ppt/media/image23.wmf" ContentType="image/x-wmf"/>
  <Override PartName="/ppt/media/erreur.WAV" ContentType="audio/x-wav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6DE-0829-4A78-890F-501B9EF1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4A4-96F5-4250-BEFC-0D4C4AC5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EF6-47F2-4530-BB59-46C1EBCC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456-FE1A-48E0-A161-9BC6587E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0B5-330A-49CD-BDE6-06F11909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FB8-A5A8-4DB8-918F-DC27CF21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F3E-760C-4C31-9BEF-330EC97D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200-5DC0-46B1-B583-16978FB7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660-82D1-4D29-BC0B-6A6A5761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5B3-E7F7-489A-AE15-AC7A3307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CC1-3A82-4502-AEA9-BBE686F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9AE-5F1A-4711-ADC9-9FB7EFF4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2E5E-B98C-4C05-902A-0ECB54EFC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ebut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audio" Target="../media/Bell2.wav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audio" Target="../media/Bell2.wav"/><Relationship Id="rId5" Type="http://schemas.openxmlformats.org/officeDocument/2006/relationships/audio" Target="../media/erreur.WAV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8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b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19280" y="1214280"/>
            <a:ext cx="5905440" cy="4429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52640" y="617400"/>
            <a:ext cx="5235480" cy="5619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35240" y="885960"/>
            <a:ext cx="4672080" cy="5084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1193760"/>
            <a:ext cx="7200720" cy="446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76480" y="689040"/>
            <a:ext cx="4987800" cy="5476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92360" y="558720"/>
            <a:ext cx="5759280" cy="5737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84600" y="546120"/>
            <a:ext cx="3574800" cy="5762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71640" y="1089000"/>
            <a:ext cx="7200720" cy="4676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24240" y="260280"/>
            <a:ext cx="3006720" cy="633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7057800" cy="4111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3265200" cy="4108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19320" y="905040"/>
            <a:ext cx="4902120" cy="504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7343640" cy="473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2886120" cy="461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5472360" cy="436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5016600" cy="504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60280"/>
            <a:ext cx="3019680" cy="633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7632720" cy="39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87280" y="1650960"/>
            <a:ext cx="6769440" cy="3556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835280" y="895320"/>
            <a:ext cx="5470560" cy="5064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rre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cole</cp:lastModifiedBy>
  <dcterms:modified xsi:type="dcterms:W3CDTF">2008-02-25T11:49:52Z</dcterms:modified>
  <cp:revision>33</cp:revision>
  <dc:subject/>
  <dc:title>Diapositive 1</dc:title>
</cp:coreProperties>
</file>