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12.wmf" ContentType="image/x-wmf"/>
  <Override PartName="/ppt/media/Bell2.wav" ContentType="audio/x-wav"/>
  <Override PartName="/ppt/media/image3.png" ContentType="image/png"/>
  <Override PartName="/ppt/media/image11.wmf" ContentType="image/x-wmf"/>
  <Override PartName="/ppt/media/erreur.WAV" ContentType="audio/x-wav"/>
  <Override PartName="/ppt/media/image18.wmf" ContentType="image/x-wmf"/>
  <Override PartName="/ppt/media/image20.wmf" ContentType="image/x-wmf"/>
  <Override PartName="/ppt/media/image23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17.wmf" ContentType="image/x-wmf"/>
  <Override PartName="/ppt/media/image16.jpeg" ContentType="image/jpeg"/>
  <Override PartName="/ppt/media/image15.wmf" ContentType="image/x-wmf"/>
  <Override PartName="/ppt/media/image13.jpeg" ContentType="image/jpeg"/>
  <Override PartName="/ppt/media/image22.wmf" ContentType="image/x-wmf"/>
  <Override PartName="/ppt/media/debut.wav" ContentType="audio/x-wav"/>
  <Override PartName="/ppt/media/image9.wmf" ContentType="image/x-wmf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F0B-4E4D-4CD4-8174-A2AE96AD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403-2A6E-4F0B-B630-FD223066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075-D8A7-4777-A001-58189C48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73E-61A6-4877-AC30-02E94E30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86A-144D-4EB6-95EB-8CD42AC1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106-4BAD-49A7-A1C4-E37D2AA0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2B8-3451-44A8-A9D4-0712AFDC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F9D-D182-4EC9-9ADA-828E7151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8ED-EF70-4E23-8B7D-DF790504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74C-82E6-41A1-8908-0D5490D6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2B8-9A6F-4674-9837-9A1B3255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F8F-A08E-4B3C-8717-188272A2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AAB1-AAA0-4855-80B6-6BF8DEBFA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ebut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audio" Target="../media/Bell2.wav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b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4360" y="1298520"/>
            <a:ext cx="7775280" cy="4257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7620120" cy="5095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5905440" cy="5102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00400" y="689040"/>
            <a:ext cx="4543200" cy="5476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753080" cy="4753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4959360" cy="5616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5905440" cy="5264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813560" cy="6191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5640" y="849240"/>
            <a:ext cx="7629480" cy="5159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5276880" cy="5473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6360" y="1631880"/>
            <a:ext cx="5183280" cy="445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4410000" cy="5187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5640" y="846000"/>
            <a:ext cx="7632720" cy="516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26920" y="1652760"/>
            <a:ext cx="6126480" cy="457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668600"/>
            <a:ext cx="6626160" cy="4975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116000" y="907920"/>
            <a:ext cx="53816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3466800" cy="6096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528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2419200" cy="6178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3768480" cy="5375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32000" y="933480"/>
            <a:ext cx="6480000" cy="4991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8-01-21T20:14:41Z</dcterms:modified>
  <cp:revision>30</cp:revision>
  <dc:subject/>
  <dc:title>Diapositive 1</dc:title>
</cp:coreProperties>
</file>