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Bell2.wav" ContentType="audio/x-wav"/>
  <Override PartName="/ppt/media/image3.png" ContentType="image/png"/>
  <Override PartName="/ppt/media/image11.wmf" ContentType="image/x-wmf"/>
  <Override PartName="/ppt/media/erreur.WAV" ContentType="audio/x-wav"/>
  <Override PartName="/ppt/media/oiseau1.WAV" ContentType="audio/x-wav"/>
  <Override PartName="/ppt/media/image18.wmf" ContentType="image/x-wmf"/>
  <Override PartName="/ppt/media/curve.wav" ContentType="audio/x-wav"/>
  <Override PartName="/ppt/media/image2.jpeg" ContentType="image/jpeg"/>
  <Override PartName="/ppt/media/image22.png" ContentType="image/png"/>
  <Override PartName="/ppt/media/image21.png" ContentType="image/png"/>
  <Override PartName="/ppt/media/image13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fusil.WAV" ContentType="audio/x-wav"/>
  <Override PartName="/ppt/media/debut.wav" ContentType="audio/x-wav"/>
  <Override PartName="/ppt/media/image9.wmf" ContentType="image/x-wmf"/>
  <Override PartName="/ppt/media/image12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D8F-9A78-4D2A-97C5-60BDB42B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E21-6222-4BA6-95CA-A595EA03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B7C-2638-45BE-98DB-43A83BF1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7B6-652D-405A-AE4E-B35B9334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633-BFD1-4977-99BE-4A613955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6A9-CC9C-4C00-83CD-8BE99025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473-C44E-438D-B428-F7CDE94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3C6-09FD-474E-A74B-46264959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78A-E7E2-4086-865F-71C2BA0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7EF-4B22-4564-954F-E0E4616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4C4-6368-4B7D-9872-3A374AB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DE5-21BD-4BD7-BC5B-B307D9F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7C25-23C3-4F60-8251-C419A78269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7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audio" Target="../media/oiseau1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audio" Target="../media/fusil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audio" Target="../media/Bell2.wav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7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7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Bell2.wav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Bell2.wav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98840" y="836640"/>
            <a:ext cx="3943080" cy="518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652760"/>
            <a:ext cx="7632720" cy="354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iseau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0400" y="1892160"/>
            <a:ext cx="7963200" cy="3073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4210200" cy="619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usi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4289400" cy="504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1515960"/>
            <a:ext cx="73440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08360" y="617400"/>
            <a:ext cx="3524040" cy="561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32000" y="1054080"/>
            <a:ext cx="6476760" cy="4746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4895640" cy="4724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4448160" cy="504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692280"/>
            <a:ext cx="4775040" cy="569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4511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63640" y="906480"/>
            <a:ext cx="5616720" cy="5045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5240" y="28440"/>
            <a:ext cx="4672080" cy="680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0920" y="922320"/>
            <a:ext cx="5035680" cy="501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32000" y="1573200"/>
            <a:ext cx="6394320" cy="37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00000" y="1052640"/>
            <a:ext cx="4753080" cy="48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094440" cy="333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9242280" cy="215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5327640" cy="451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12-14T19:59:35Z</dcterms:modified>
  <cp:revision>27</cp:revision>
  <dc:subject/>
  <dc:title>Diapositive 1</dc:title>
</cp:coreProperties>
</file>