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14320" y="4138560"/>
            <a:ext cx="303048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612800" y="326880"/>
            <a:ext cx="2644920" cy="386424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00040" y="437832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4320" y="4138560"/>
            <a:ext cx="308304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7960" y="568440"/>
            <a:ext cx="4019400" cy="3219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400040" y="437832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492280" y="437832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dur="indefinite" fill="hold">
                      <p:stCondLst>
                        <p:cond delay="indefinite"/>
                      </p:stCondLst>
                      <p:childTnLst>
                        <p:par>
                          <p:cTn id="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14320" y="4138560"/>
            <a:ext cx="415620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860480" y="395280"/>
            <a:ext cx="3640320" cy="3813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92280" y="437832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dur="indefinite" fill="hold">
                      <p:stCondLst>
                        <p:cond delay="indefinite"/>
                      </p:stCondLst>
                      <p:childTnLst>
                        <p:par>
                          <p:cTn id="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14320" y="4138560"/>
            <a:ext cx="408780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08040" y="495360"/>
            <a:ext cx="3497400" cy="33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583080" y="4378320"/>
            <a:ext cx="79992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14320" y="4138560"/>
            <a:ext cx="516096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27320" y="333360"/>
            <a:ext cx="4457520" cy="319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8632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00040" y="437832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73520" y="437832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14320" y="4138560"/>
            <a:ext cx="310032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65200" y="307800"/>
            <a:ext cx="2638440" cy="3554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492280" y="437832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4320" y="4138560"/>
            <a:ext cx="401796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500120" y="568440"/>
            <a:ext cx="3841920" cy="3552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0040" y="437832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025720" y="289080"/>
            <a:ext cx="220176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14320" y="4138560"/>
            <a:ext cx="1992240" cy="2511360"/>
          </a:xfrm>
          <a:custGeom>
            <a:avLst/>
            <a:gdLst>
              <a:gd name="textAreaLeft" fmla="*/ 360 w 1992240"/>
              <a:gd name="textAreaRight" fmla="*/ 1991880 w 1992240"/>
              <a:gd name="textAreaTop" fmla="*/ 360 h 2511360"/>
              <a:gd name="textAreaBottom" fmla="*/ 2511000 h 2511360"/>
            </a:gdLst>
            <a:ahLst/>
            <a:rect l="textAreaLeft" t="textAreaTop" r="textAreaRight" b="textAreaBottom"/>
            <a:pathLst>
              <a:path w="21600" h="27227">
                <a:moveTo>
                  <a:pt x="17" y="0"/>
                </a:moveTo>
                <a:arcTo wR="17" hR="17" stAng="16200000" swAng="-5400000"/>
                <a:lnTo>
                  <a:pt x="0" y="27210"/>
                </a:lnTo>
                <a:arcTo wR="17" hR="17" stAng="10800000" swAng="-5400000"/>
                <a:lnTo>
                  <a:pt x="21583" y="27227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400040" y="437832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14320" y="4138560"/>
            <a:ext cx="408780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39760" y="387360"/>
            <a:ext cx="4540320" cy="337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492280" y="437832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14320" y="4138560"/>
            <a:ext cx="304812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5800" y="490680"/>
            <a:ext cx="4168800" cy="351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4320" y="4138560"/>
            <a:ext cx="415620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7120" y="469800"/>
            <a:ext cx="3224160" cy="334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83080" y="4378320"/>
            <a:ext cx="79992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dur="indefinite" fill="hold">
                      <p:stCondLst>
                        <p:cond delay="indefinite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cole</cp:lastModifiedBy>
  <dcterms:modified xsi:type="dcterms:W3CDTF">2008-10-10T05:55:50Z</dcterms:modified>
  <cp:revision>1</cp:revision>
  <dc:subject/>
  <dc:title>Diapositive 1</dc:title>
</cp:coreProperties>
</file>