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9.jpeg" ContentType="image/jpeg"/>
  <Override PartName="/ppt/media/image23.png" ContentType="image/png"/>
  <Override PartName="/ppt/media/image22.wmf" ContentType="image/x-wmf"/>
  <Override PartName="/ppt/media/image5.wmf" ContentType="image/x-wmf"/>
  <Override PartName="/ppt/media/image21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3.wmf" ContentType="image/x-wmf"/>
  <Override PartName="/ppt/media/image15.jpeg" ContentType="image/jpeg"/>
  <Override PartName="/ppt/media/image14.wmf" ContentType="image/x-wmf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1149480" y="322200"/>
            <a:ext cx="7543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770200" y="2144880"/>
            <a:ext cx="4583160" cy="3328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835280" y="108756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133720" y="958680"/>
            <a:ext cx="4680000" cy="5637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835280" y="108756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279520" y="523800"/>
            <a:ext cx="4633920" cy="6178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835280" y="108756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828800" y="1658880"/>
            <a:ext cx="6310440" cy="4160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835280" y="108756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87520" y="1917720"/>
            <a:ext cx="6721560" cy="3533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744560" y="95400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52800" y="1098720"/>
            <a:ext cx="4992480" cy="5462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835280" y="108756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81200" y="1620720"/>
            <a:ext cx="6379920" cy="4267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835280" y="108756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870200" y="1608120"/>
            <a:ext cx="6554520" cy="4530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835280" y="108756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27280" y="677880"/>
            <a:ext cx="4092480" cy="6180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744560" y="95400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00200" y="2451240"/>
            <a:ext cx="8783640" cy="2733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835280" y="108756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879560" y="1995480"/>
            <a:ext cx="6107040" cy="3543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381400" y="965160"/>
            <a:ext cx="5494320" cy="561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070000" y="762120"/>
            <a:ext cx="4572000" cy="6095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835280" y="108756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40040" y="1087560"/>
            <a:ext cx="3951360" cy="4919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816200" y="73512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14720" y="1954080"/>
            <a:ext cx="5205240" cy="4378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833480" y="108756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84720" y="806400"/>
            <a:ext cx="2877840" cy="6037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44560" y="95400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41600" y="1854360"/>
            <a:ext cx="6126120" cy="4143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744560" y="95400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51000" y="595440"/>
            <a:ext cx="3386160" cy="6491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835280" y="108756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433600" y="614520"/>
            <a:ext cx="4815000" cy="623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44560" y="95400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é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22520" y="460440"/>
            <a:ext cx="4462560" cy="6583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44560" y="95400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20:49:44Z</dcterms:created>
  <dc:creator/>
  <dc:description/>
  <dc:language>en-US</dc:language>
  <cp:lastModifiedBy>ecole</cp:lastModifiedBy>
  <dcterms:modified xsi:type="dcterms:W3CDTF">2009-10-27T09:36:20Z</dcterms:modified>
  <cp:revision>18</cp:revision>
  <dc:subject/>
  <dc:title>Diapositive 1</dc:title>
</cp:coreProperties>
</file>