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935-7C56-49CA-A7D6-C0813F3A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C2B-7D68-4BA1-96D4-0546AEEA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4B1-97B8-47FC-8A06-5931EE7B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558-7841-467B-9A61-2CA474DA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A8F-E303-4027-BA85-3D1E80F1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27B-BECD-4B56-AB48-78093B81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823-0142-41EC-844B-54B423DF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57D-2166-4089-B5A6-93827CC6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893-013C-4CE4-82F0-C5BE4ABF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04D-1DB0-4F24-94DE-1830288A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FC2-850E-44E0-A08D-48CACB0C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EEC-CC69-482A-B8D0-5F4B7933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FBB6-A2B5-493B-AF85-82D293E30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1554120"/>
            <a:ext cx="7272360" cy="4506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1122480"/>
            <a:ext cx="7345440" cy="5111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3880" y="404640"/>
            <a:ext cx="5491080" cy="5977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42920" y="1400040"/>
            <a:ext cx="5977080" cy="4950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1536840"/>
            <a:ext cx="6984720" cy="482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2700000">
            <a:off x="2640960" y="101520"/>
            <a:ext cx="1911600" cy="6692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32000" y="990720"/>
            <a:ext cx="5832360" cy="5486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4672080" cy="6684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1584360"/>
            <a:ext cx="6408720" cy="4687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4533840" cy="555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19280" y="631800"/>
            <a:ext cx="5761080" cy="5737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1803240"/>
            <a:ext cx="8424720" cy="333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3940200" cy="5904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674720" cy="630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25760" y="1484280"/>
            <a:ext cx="4957560" cy="4969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68360" y="476280"/>
            <a:ext cx="2932200" cy="6153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3762720" cy="590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47640" y="979560"/>
            <a:ext cx="5761080" cy="515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58920" y="1644480"/>
            <a:ext cx="7200720" cy="434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338560" y="404640"/>
            <a:ext cx="4414680" cy="612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cole</cp:lastModifiedBy>
  <dcterms:modified xsi:type="dcterms:W3CDTF">2009-09-11T07:15:59Z</dcterms:modified>
  <cp:revision>24</cp:revision>
  <dc:subject/>
  <dc:title>Diapositive 1</dc:title>
</cp:coreProperties>
</file>