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31A-7B8F-437A-B670-725723EA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168-DA62-427F-8D80-8886E328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53B-9540-498B-BD81-09E0CF7C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F2C-C235-4488-8935-8AA66FE2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709-84B8-4F64-BBB6-D95DA078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D6A-30CA-4F40-A1DA-1D5D4880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7A4-DB53-4B29-8A8F-3CD70496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437-FE1B-479E-B717-15056FDD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F86-04EC-4042-8604-54D35845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717-9C6C-48AB-AA4F-20FFDBD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F71-431E-4FA0-B84E-3B9A41C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EF5-87D5-46AB-8948-D71F947A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8B77-D60A-42C5-B6D5-EA7510F8B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7704000" cy="3049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5707080" cy="6121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6624720" cy="347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26920" y="62064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5311800" cy="578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16000" y="62064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6553440" cy="466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337080" cy="3620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58920" y="69228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050920" y="333360"/>
            <a:ext cx="3753000" cy="604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71640" y="47628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7705800" cy="474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08000" y="83664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040360" cy="3687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7280" y="76500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42920" y="1757520"/>
            <a:ext cx="5824440" cy="4241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58323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00000" y="76500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620640"/>
            <a:ext cx="3462480" cy="554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4608360" cy="4608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1280" y="69228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5960" y="907920"/>
            <a:ext cx="488628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5184720" cy="3902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2916360" cy="612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86000" y="1527120"/>
            <a:ext cx="4103640" cy="410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5505480" cy="5629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6480000" cy="4732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042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16000" y="1052640"/>
            <a:ext cx="4392720" cy="439236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4363920" cy="6048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02-07T20:51:25Z</dcterms:modified>
  <cp:revision>4</cp:revision>
  <dc:subject/>
  <dc:title>Diapositive 1</dc:title>
</cp:coreProperties>
</file>