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1.png" ContentType="image/png"/>
  <Override PartName="/ppt/media/image6.wmf" ContentType="image/x-wmf"/>
  <Override PartName="/ppt/media/image10.wmf" ContentType="image/x-wmf"/>
  <Override PartName="/ppt/media/image9.wmf" ContentType="image/x-wmf"/>
  <Override PartName="/ppt/media/image14.png" ContentType="image/png"/>
  <Override PartName="/ppt/media/image12.wmf" ContentType="image/x-wmf"/>
  <Override PartName="/ppt/media/image8.png" ContentType="image/png"/>
  <Override PartName="/ppt/media/image22.wmf" ContentType="image/x-wmf"/>
  <Override PartName="/ppt/media/image21.jpeg" ContentType="image/jpeg"/>
  <Override PartName="/ppt/media/image16.png" ContentType="image/png"/>
  <Override PartName="/ppt/media/image15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20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4466-A78D-4565-AD20-3FC66D8AD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E7CC-66AC-4225-81C4-0AFFC73E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4D4A-B491-4C9D-9017-E0CF9DB03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B22A-8687-4F49-BA26-D43B84072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7C9B-7972-4D51-87B2-1402E014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F4D0-488B-4FD8-B0BB-FA181C28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ABD2-E7E0-4534-A032-4AB42B72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6139-0D23-4A92-B36B-A652C806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B393-E436-46F0-B3F5-9802E195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C816-B154-4EF6-B28B-A9AACA93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B461-3260-4E4E-940D-4544E7D1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8012-F18D-4FE7-AA81-A8C81191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FC69-6418-48BF-A315-26DBC42DF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42920" y="291960"/>
            <a:ext cx="684216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d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0920" y="2070000"/>
            <a:ext cx="1727280" cy="1683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708360" y="1593720"/>
            <a:ext cx="1228680" cy="2637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372360" y="2060640"/>
            <a:ext cx="1800000" cy="1293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4581360"/>
            <a:ext cx="1944720" cy="1800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32000" y="4581360"/>
            <a:ext cx="1944720" cy="1800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27640" y="4581360"/>
            <a:ext cx="1944720" cy="1800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1944720" cy="1598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d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564000" y="1844640"/>
            <a:ext cx="1800000" cy="1793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948360" y="1557360"/>
            <a:ext cx="1995480" cy="2666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68360" y="4735440"/>
            <a:ext cx="2087640" cy="12049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468000" y="4869000"/>
            <a:ext cx="2087640" cy="93636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77080" y="4437000"/>
            <a:ext cx="1944720" cy="1800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08360" y="4735440"/>
            <a:ext cx="2087640" cy="12049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3708000" y="4869000"/>
            <a:ext cx="2087640" cy="93636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d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9280" y="1989000"/>
            <a:ext cx="2303640" cy="1397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132000" y="2205000"/>
            <a:ext cx="2376720" cy="110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6877080" y="1700280"/>
            <a:ext cx="1125360" cy="2087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11280" y="4221000"/>
            <a:ext cx="1944720" cy="1800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92360" y="4519440"/>
            <a:ext cx="2087640" cy="12049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492000" y="4653000"/>
            <a:ext cx="2087640" cy="9367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04000" y="4221000"/>
            <a:ext cx="1944720" cy="1800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d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1728720" cy="1332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276720" y="1916280"/>
            <a:ext cx="2303280" cy="1552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6588000" y="1916280"/>
            <a:ext cx="2016360" cy="1295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68360" y="4448160"/>
            <a:ext cx="2087640" cy="12049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468000" y="4581360"/>
            <a:ext cx="2087640" cy="9367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77080" y="4149720"/>
            <a:ext cx="1944720" cy="1800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08360" y="4448160"/>
            <a:ext cx="2087640" cy="12049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708000" y="4581360"/>
            <a:ext cx="2087640" cy="9367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d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2160720" cy="1438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780000" y="1844640"/>
            <a:ext cx="1800000" cy="1554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372360" y="1916280"/>
            <a:ext cx="2303280" cy="15350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708360" y="4149720"/>
            <a:ext cx="1944720" cy="1800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4446720"/>
            <a:ext cx="2087640" cy="12049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39280" y="4581360"/>
            <a:ext cx="2087640" cy="9367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59640" y="4148280"/>
            <a:ext cx="1944720" cy="180000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d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0920" y="1916280"/>
            <a:ext cx="1218960" cy="1584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419640" y="1341360"/>
            <a:ext cx="1508040" cy="2737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156360" y="1700280"/>
            <a:ext cx="2521080" cy="20635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68360" y="4448160"/>
            <a:ext cx="2087640" cy="12049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68000" y="4581360"/>
            <a:ext cx="2087640" cy="9367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77080" y="4149720"/>
            <a:ext cx="1944720" cy="1800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08360" y="4448160"/>
            <a:ext cx="2087640" cy="12049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708000" y="4581360"/>
            <a:ext cx="2087640" cy="9367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d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11280" y="2133720"/>
            <a:ext cx="1333440" cy="1800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419640" y="191628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372360" y="2060640"/>
            <a:ext cx="1942920" cy="1504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708360" y="4149720"/>
            <a:ext cx="1944720" cy="1800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4446720"/>
            <a:ext cx="2087640" cy="12049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9280" y="4581360"/>
            <a:ext cx="2087640" cy="9367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59640" y="4148280"/>
            <a:ext cx="1944720" cy="180000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20:32:02Z</dcterms:created>
  <dc:creator>ev</dc:creator>
  <dc:description/>
  <dc:language>en-US</dc:language>
  <cp:lastModifiedBy>ecole</cp:lastModifiedBy>
  <dcterms:modified xsi:type="dcterms:W3CDTF">2009-11-13T08:23:21Z</dcterms:modified>
  <cp:revision>29</cp:revision>
  <dc:subject/>
  <dc:title>Diapositive 1</dc:title>
</cp:coreProperties>
</file>