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354-E6FA-487B-A651-5F16B2C8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6DC-9A3F-4761-AB99-E1A48709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9D6-2C2D-4D77-A6DF-5B621F6B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069-45FF-4305-B2A1-E94DF08A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CFD-777D-4DA4-B925-B0A706E1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E9C-3771-43AE-B66B-7AAB1888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C40-E993-42E4-993D-E0AC1111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769-DA59-43A1-95EA-C6B1807B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082-7007-4B13-90ED-0455A81F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F3A-2403-40FE-9B34-3DF40D1C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98F-BE0C-4AFD-AF5D-549F43B0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0DC-32D3-4649-9374-B9F2587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985C-45E0-4700-AC14-365F7B9FB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7704000" cy="3049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5707080" cy="6121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6624720" cy="347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62064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5311800" cy="578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16000" y="62064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6553440" cy="466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337080" cy="3620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58920" y="6922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3753000" cy="604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7705800" cy="474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8000" y="83664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040360" cy="3687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42920" y="1757520"/>
            <a:ext cx="5824440" cy="4241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58323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00000" y="76500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620640"/>
            <a:ext cx="3462480" cy="554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538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4608360" cy="460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6922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5960" y="907920"/>
            <a:ext cx="488628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5184720" cy="390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291636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819440" y="614520"/>
            <a:ext cx="55051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86000" y="1527120"/>
            <a:ext cx="4103640" cy="410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5505480" cy="5629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6480000" cy="4732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042920" y="54936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6000" y="1052640"/>
            <a:ext cx="4392720" cy="439236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48360" y="18900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on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1160640" cy="103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4363920" cy="604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5381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32:02Z</dcterms:created>
  <dc:creator>ev</dc:creator>
  <dc:description/>
  <dc:language>en-US</dc:language>
  <cp:lastModifiedBy>ev</cp:lastModifiedBy>
  <dcterms:modified xsi:type="dcterms:W3CDTF">2007-02-07T20:51:01Z</dcterms:modified>
  <cp:revision>4</cp:revision>
  <dc:subject/>
  <dc:title>Diapositive 1</dc:title>
</cp:coreProperties>
</file>