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14.wmf" ContentType="image/x-wmf"/>
  <Override PartName="/ppt/media/image24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C18-13B2-43C7-BB8C-1AB2E340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02C-1C5E-46DA-B4D3-D2FF857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A8C-A911-4862-8D86-7540DE3C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942-E967-4646-A49B-59AEE73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FD4-F02F-4F56-B34E-62882A1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5EA-066C-47EC-A1F3-2741A76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5F6-CB3C-408A-A392-EDCCA8BF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7C3-1F75-4CFA-814C-BFF86C3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197-1914-45FF-8DD0-EFA9067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B56-63B4-4146-8CEA-61ABC02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230-39E2-427C-9BD1-FB125CA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6F0-3A2B-470B-B028-3F9D1B0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8C9-4297-4F03-BDFC-A7F81A5C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2952720" cy="5477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1319040"/>
            <a:ext cx="5473440" cy="4219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1536840"/>
            <a:ext cx="5613480" cy="378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7054920" cy="4530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096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3640" y="1003320"/>
            <a:ext cx="5616720" cy="4848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5902200" cy="39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3990960" cy="518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3333960" cy="604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5756400" cy="470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1041480"/>
            <a:ext cx="489600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394632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895640" cy="489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1644480"/>
            <a:ext cx="4604040" cy="3565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3006720" cy="645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77960" y="762120"/>
            <a:ext cx="3988080" cy="533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593424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844560"/>
            <a:ext cx="5184720" cy="516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6480000" cy="465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6769080" cy="410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d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1693800"/>
            <a:ext cx="7486920" cy="346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11-08T18:01:58Z</dcterms:modified>
  <cp:revision>27</cp:revision>
  <dc:subject/>
  <dc:title>Diapositive 1</dc:title>
</cp:coreProperties>
</file>