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cow.wav" ContentType="audio/x-wav"/>
  <Override PartName="/ppt/media/image6.wmf" ContentType="image/x-wmf"/>
  <Override PartName="/ppt/media/image5.wmf" ContentType="image/x-wmf"/>
  <Override PartName="/ppt/media/image10.png" ContentType="image/png"/>
  <Override PartName="/ppt/media/image7.wmf" ContentType="image/x-wmf"/>
  <Override PartName="/ppt/media/Bell2.wav" ContentType="audio/x-wav"/>
  <Override PartName="/ppt/media/image11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9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2.wmf" ContentType="image/x-wmf"/>
  <Override PartName="/ppt/media/debut.wav" ContentType="audio/x-wav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B17-DF5D-4603-999A-EA01BF81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216-676E-4CAF-B491-A0FA94B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3F5-97B8-413B-8F5F-C1250914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9A1-AC3A-4B8C-904C-0DF24680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264-189A-40C7-A222-DD1B928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54C-E0E7-4E76-B310-7C8FACC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B0C-357B-44DB-988C-18FC2B3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F60-5CE1-4657-A7C3-5154E7C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81A-4C15-46DB-9396-10E7259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208-D941-4F04-80AF-A328086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011-152F-4004-BD97-B0F437B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6B0-3D00-4548-9AAC-30199AB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F5CC-2DCA-41BA-8D2F-96046A9D8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audio" Target="../media/Bell2.wav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audio" Target="../media/cow.wav"/><Relationship Id="rId6" Type="http://schemas.openxmlformats.org/officeDocument/2006/relationships/audio" Target="../media/Bell2.wav"/><Relationship Id="rId7" Type="http://schemas.openxmlformats.org/officeDocument/2006/relationships/audio" Target="../media/Bell2.wav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audio" Target="../media/Bell2.wav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audio" Target="../media/Bell2.wav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audio" Target="../media/Bell2.wav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audio" Target="../media/Bell2.wav"/><Relationship Id="rId6" Type="http://schemas.openxmlformats.org/officeDocument/2006/relationships/audio" Target="../media/Bell2.wav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14776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1052640"/>
            <a:ext cx="2008080" cy="26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56360" y="2133720"/>
            <a:ext cx="2448000" cy="124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08360" y="4664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708000" y="4797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6623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43280" y="4797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944720" cy="122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708360" y="1268280"/>
            <a:ext cx="147960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300720" y="1844640"/>
            <a:ext cx="2232000" cy="1731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4508640"/>
            <a:ext cx="194436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7236000" y="1557360"/>
            <a:ext cx="650880" cy="3267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1533600" cy="245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2205000"/>
            <a:ext cx="2087280" cy="156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20000" y="4508640"/>
            <a:ext cx="129708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6641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708000" y="4797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466236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43280" y="4797360"/>
            <a:ext cx="2087640" cy="936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305080" cy="166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2521080" cy="1756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948360" y="1844640"/>
            <a:ext cx="1656000" cy="160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5128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473400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0364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0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1609560" cy="180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35280" y="2060640"/>
            <a:ext cx="1728720" cy="1003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659640" y="1484280"/>
            <a:ext cx="1800000" cy="158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1511280" cy="102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708360" y="1700280"/>
            <a:ext cx="1568520" cy="165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32720" y="1773360"/>
            <a:ext cx="1871640" cy="1444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77080" y="4437000"/>
            <a:ext cx="1944720" cy="1800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0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1655640" cy="106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2016360" cy="118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88000" y="1844640"/>
            <a:ext cx="1884600" cy="158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4735440"/>
            <a:ext cx="2087640" cy="1204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68000" y="4869000"/>
            <a:ext cx="2087640" cy="93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436572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508640"/>
            <a:ext cx="1944720" cy="1800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11-02T10:52:57Z</dcterms:modified>
  <cp:revision>27</cp:revision>
  <dc:subject/>
  <dc:title>Diapositive 1</dc:title>
</cp:coreProperties>
</file>