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cow.wav" ContentType="audio/x-wav"/>
  <Override PartName="/ppt/media/image6.wmf" ContentType="image/x-wmf"/>
  <Override PartName="/ppt/media/image11.png" ContentType="image/png"/>
  <Override PartName="/ppt/media/image5.png" ContentType="image/png"/>
  <Override PartName="/ppt/media/image13.wmf" ContentType="image/x-wmf"/>
  <Override PartName="/ppt/media/image4.wmf" ContentType="image/x-wmf"/>
  <Override PartName="/ppt/media/image7.wmf" ContentType="image/x-wmf"/>
  <Override PartName="/ppt/media/Bell2.wav" ContentType="audio/x-wav"/>
  <Override PartName="/ppt/media/image3.png" ContentType="image/png"/>
  <Override PartName="/ppt/media/image2.wmf" ContentType="image/x-wmf"/>
  <Override PartName="/ppt/media/image9.wmf" ContentType="image/x-wmf"/>
  <Override PartName="/ppt/media/image23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debut.wav" ContentType="audio/x-wav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F9A-78E3-4FD1-A56C-9F74D66A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036-0D60-470B-8CC1-F094E7A3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6CB-8211-45B2-A074-2D7BA0B9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E11-481F-4F36-87F4-D5148A73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6D3-0D15-4399-82B8-43485F7F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CCE-8A36-4393-9BF0-7EA1C1AF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338-B4DF-47AB-B2AA-CF0B3064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7DB-6A0A-450F-B7F6-FEB28EC2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DD7-7E5F-4994-AFDD-97CA21E2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A50-2F50-48C3-93FB-9A16CB79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A38-0511-472D-8470-42DF64E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A80-8522-47DA-B404-7AE42302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FD79-6EBE-4F5B-B2C6-1119A5DBA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ebut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b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1808280" y="333360"/>
            <a:ext cx="1520640" cy="763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03280" y="1146240"/>
            <a:ext cx="6334200" cy="4562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42920" y="969840"/>
            <a:ext cx="7054920" cy="491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95640" y="1123920"/>
            <a:ext cx="4752720" cy="461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90600" y="762120"/>
            <a:ext cx="4759560" cy="533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7280" y="1463760"/>
            <a:ext cx="6766200" cy="3927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63640" y="949320"/>
            <a:ext cx="5616720" cy="495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00000" y="933480"/>
            <a:ext cx="7340760" cy="4991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14480" y="617400"/>
            <a:ext cx="5315040" cy="561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816120"/>
            <a:ext cx="6769440" cy="5225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31840" y="631800"/>
            <a:ext cx="5080320" cy="559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16000" y="1195560"/>
            <a:ext cx="690876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71640" y="1309680"/>
            <a:ext cx="7197480" cy="4235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87280" y="765000"/>
            <a:ext cx="4127760" cy="547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210520" cy="4172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1033560"/>
            <a:ext cx="7629480" cy="478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790800" cy="5905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618804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70200" y="546120"/>
            <a:ext cx="3603600" cy="576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[ch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6191280" cy="46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11-27T20:46:20Z</dcterms:modified>
  <cp:revision>23</cp:revision>
  <dc:subject/>
  <dc:title>Diapositive 1</dc:title>
</cp:coreProperties>
</file>