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.png" ContentType="image/pn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DEA-FC30-48DA-943B-603D951C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4AA-A54D-4B56-9F55-29A8CDC6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0B6-B6BA-4707-89C8-7A2098D3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EEE-FF0B-4A1E-BD23-7A885975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F07-517B-4264-82FF-C6E7A27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F13-9F13-4FD2-B809-CE637C8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AD4-61AF-4D2A-A75C-4CAD7D9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73B-F56E-4D49-94C1-9F8ED53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A55-6D32-41AB-A303-CFD7DE82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C0A-684D-41FB-8166-D96EDEE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994-F5B3-4B10-A931-29D9F4C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D83-A9BE-4F72-A7E9-ECB949F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C3BD-AFDC-4C44-8CD4-C026C51C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8920" y="1517760"/>
            <a:ext cx="6049800" cy="42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896000" cy="4300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87280" y="1803240"/>
            <a:ext cx="5720040" cy="398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5302080" cy="399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1689120"/>
            <a:ext cx="7056360" cy="3962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2546280"/>
            <a:ext cx="7848360" cy="177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2986200" cy="468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2098800"/>
            <a:ext cx="6840720" cy="300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0400" y="1892160"/>
            <a:ext cx="7963200" cy="3073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26920" y="1338120"/>
            <a:ext cx="6409080" cy="4942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35240" y="650880"/>
            <a:ext cx="4672080" cy="555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779480"/>
            <a:ext cx="5543640" cy="373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00480" y="1693800"/>
            <a:ext cx="4341600" cy="346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28880" y="476280"/>
            <a:ext cx="4357440" cy="5551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4711680" cy="4813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35240" y="1514520"/>
            <a:ext cx="4672080" cy="382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3076560" cy="461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662280" cy="328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31840" y="631800"/>
            <a:ext cx="5080320" cy="559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30520" y="1700280"/>
            <a:ext cx="3665520" cy="367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16120" y="1409760"/>
            <a:ext cx="5710320" cy="403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11560" y="1693800"/>
            <a:ext cx="4519440" cy="34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6583320" cy="4363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4354560" cy="46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1963800"/>
            <a:ext cx="5400720" cy="432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3-22T19:48:52Z</dcterms:modified>
  <cp:revision>20</cp:revision>
  <dc:subject/>
  <dc:title>Diapositive 1</dc:title>
</cp:coreProperties>
</file>