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3.jpeg" ContentType="image/jpe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14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1149480" y="322200"/>
            <a:ext cx="7543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03280" y="2700360"/>
            <a:ext cx="1792080" cy="1039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06720" y="2050920"/>
            <a:ext cx="1525680" cy="1900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7704000" y="1547640"/>
            <a:ext cx="1073160" cy="225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9576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96040" y="473400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719568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0360" y="1908000"/>
            <a:ext cx="2592360" cy="2181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176720" y="2266920"/>
            <a:ext cx="2319480" cy="156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48720" y="1042920"/>
            <a:ext cx="1698480" cy="3256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32720" y="442764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4735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70800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16000" y="1692360"/>
            <a:ext cx="2109600" cy="273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241880" y="1619280"/>
            <a:ext cx="1811160" cy="267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40360" y="1835280"/>
            <a:ext cx="2918160" cy="2119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3280" y="4870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02920" y="500364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720" y="4572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03640" y="486900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03280" y="500364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6000" y="1619280"/>
            <a:ext cx="2103480" cy="2533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887640" y="1619280"/>
            <a:ext cx="1901880" cy="253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696000" y="1908000"/>
            <a:ext cx="3171960" cy="1629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40208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16360" y="4356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16720" y="4356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6000" y="1763640"/>
            <a:ext cx="3265560" cy="1716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527280" y="1547640"/>
            <a:ext cx="2121120" cy="2320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048360" y="1332000"/>
            <a:ext cx="3898800" cy="2608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4735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800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61440" y="4427640"/>
            <a:ext cx="194436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450864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16000" y="2050920"/>
            <a:ext cx="2809800" cy="1941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16360" y="1403280"/>
            <a:ext cx="1908000" cy="2881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119640" y="2124000"/>
            <a:ext cx="3764160" cy="1171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7708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4735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70800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6000" y="2124000"/>
            <a:ext cx="1560240" cy="2081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95640" y="1403280"/>
            <a:ext cx="2612880" cy="3468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840360" y="2050920"/>
            <a:ext cx="2487960" cy="2346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3280" y="500364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27280" y="500364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94560" y="50022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20:49:44Z</dcterms:created>
  <dc:creator/>
  <dc:description/>
  <dc:language>en-US</dc:language>
  <cp:lastModifiedBy>ecole</cp:lastModifiedBy>
  <dcterms:modified xsi:type="dcterms:W3CDTF">2009-10-27T09:46:14Z</dcterms:modified>
  <cp:revision>19</cp:revision>
  <dc:subject/>
  <dc:title>Diapositive 1</dc:title>
</cp:coreProperties>
</file>