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erreur.WAV" ContentType="audio/x-wav"/>
  <Override PartName="/ppt/media/image18.wmf" ContentType="image/x-wmf"/>
  <Override PartName="/ppt/media/image4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7880" y="2119320"/>
            <a:ext cx="4583160" cy="332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32240" y="826920"/>
            <a:ext cx="5013000" cy="5905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655640" y="882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44800" y="2044800"/>
            <a:ext cx="4189320" cy="346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960640" y="971640"/>
            <a:ext cx="4156200" cy="561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703600" y="2187720"/>
            <a:ext cx="4672080" cy="3182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55640" y="882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27280" y="3348000"/>
            <a:ext cx="316728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03640" y="2411280"/>
            <a:ext cx="302868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095640" y="2700360"/>
            <a:ext cx="2665440" cy="1717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81120" y="1849320"/>
            <a:ext cx="6915240" cy="3857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655640" y="882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52360" y="1619280"/>
            <a:ext cx="4583160" cy="13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745080" y="3492360"/>
            <a:ext cx="6095880" cy="37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7640" y="1042920"/>
            <a:ext cx="2876400" cy="504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0" y="2124000"/>
            <a:ext cx="3003480" cy="3245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27360" y="1820880"/>
            <a:ext cx="2826000" cy="3916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55640" y="882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16320" y="2208240"/>
            <a:ext cx="5248080" cy="3143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13120" y="1160640"/>
            <a:ext cx="6051240" cy="523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55640" y="882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4880" y="1116000"/>
            <a:ext cx="3987720" cy="532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76360" y="1432080"/>
            <a:ext cx="5327640" cy="4692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24400" y="2044800"/>
            <a:ext cx="303192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655640" y="882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67200" y="2044800"/>
            <a:ext cx="3944880" cy="346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47880" y="2311560"/>
            <a:ext cx="4583160" cy="2936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55640" y="882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</cp:lastModifiedBy>
  <dcterms:modified xsi:type="dcterms:W3CDTF">2008-12-22T21:13:03Z</dcterms:modified>
  <cp:revision>4</cp:revision>
  <dc:subject/>
  <dc:title>Diapositive 1</dc:title>
</cp:coreProperties>
</file>