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1.jpeg" ContentType="image/jpeg"/>
  <Override PartName="/ppt/media/image7.wmf" ContentType="image/x-wmf"/>
  <Override PartName="/ppt/media/image1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1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2.wmf" ContentType="image/x-wmf"/>
  <Override PartName="/ppt/media/debut.wav" ContentType="audio/x-wav"/>
  <Override PartName="/ppt/media/image9.wmf" ContentType="image/x-wmf"/>
  <Override PartName="/ppt/media/image23.jpeg" ContentType="image/jpeg"/>
  <Override PartName="/ppt/media/image2.wmf" ContentType="image/x-wmf"/>
  <Override PartName="/ppt/media/image3.png" ContentType="image/png"/>
  <Override PartName="/ppt/media/erreur.WAV" ContentType="audio/x-wav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A1B-DBB4-4904-9C63-D6635B77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CA7-20C1-4623-B242-CE637EF3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68B-27C7-4B30-8F29-E1FD4257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2C9-A294-4867-8457-4FCC187E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E3C-322F-4D9F-9F4A-973F4FBB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057-245F-44E1-9CF0-E136F94A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AA0-EF85-422E-B2B2-9ED5CCBE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1E1-5D5A-45AA-8528-5F16E226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F82-8C4F-4F55-B6C1-61CF5961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06B-D8F9-4944-B43F-C078F78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D66-934D-474D-A713-99AD16A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9A2-9001-42A1-925E-B50E90BA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094F-4C70-4FBF-8905-24475304C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352908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6720" y="1628640"/>
            <a:ext cx="16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4259160" cy="568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01680" y="1663560"/>
            <a:ext cx="4102200" cy="4429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76440" y="1693800"/>
            <a:ext cx="4189320" cy="346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90600" y="762120"/>
            <a:ext cx="475956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5120" y="1138320"/>
            <a:ext cx="8210520" cy="457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2760" y="1722600"/>
            <a:ext cx="6915240" cy="3409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24040" y="1712880"/>
            <a:ext cx="3892680" cy="343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4175280" cy="417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6040" y="1459080"/>
            <a:ext cx="5908680" cy="3939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76360" y="966960"/>
            <a:ext cx="6191280" cy="492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59000" y="1469880"/>
            <a:ext cx="2826000" cy="3916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4464000" cy="446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2746440" cy="575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2085840"/>
            <a:ext cx="8105760" cy="196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714240"/>
            <a:ext cx="7058160" cy="542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84440" y="1693800"/>
            <a:ext cx="3975120" cy="34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287676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79520" y="1720800"/>
            <a:ext cx="4583160" cy="341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79520" y="2006640"/>
            <a:ext cx="4583160" cy="28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6337440" cy="414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8-06-03T19:33:58Z</dcterms:modified>
  <cp:revision>31</cp:revision>
  <dc:subject/>
  <dc:title>Diapositive 1</dc:title>
</cp:coreProperties>
</file>