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05C-42E5-480F-9B11-DF3696F6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807-0CB9-47C1-8E53-D88A38CA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42D-DF28-41C5-B950-05E4F309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4A8-BAD1-42DA-81BF-67317D7D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BCC-7EE0-47BC-AF97-B7AC2268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5F8-EADD-4BC6-B611-D3F7B0C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55A-F400-4FFB-8967-954EA1B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2DD-14AC-4119-8A56-5CDD1A99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F1F-A79C-4AD5-8C69-95D96899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861-2BA3-4EEA-B4D2-F47B54C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ED6-2C5C-4C1C-A7AC-8C8DBA25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6C4-6ED7-4D74-9258-3A240FE5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8D5F-15BE-477C-8B03-D9DC0416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73120" y="357120"/>
            <a:ext cx="6194520" cy="6140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68400" y="793800"/>
            <a:ext cx="7203960" cy="5267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1133640"/>
            <a:ext cx="6985080" cy="506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2200" y="1515960"/>
            <a:ext cx="6626160" cy="480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0040" y="1384200"/>
            <a:ext cx="6340680" cy="408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7680" y="1866960"/>
            <a:ext cx="8645400" cy="312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8000" y="1063800"/>
            <a:ext cx="8280360" cy="513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5045040" cy="504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4000320" cy="5477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5575320" cy="5619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228760" cy="641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180120" cy="482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5472000" cy="481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27280" y="115920"/>
            <a:ext cx="2478240" cy="655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618160" cy="541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2400" y="1116000"/>
            <a:ext cx="7635960" cy="462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73080" y="476280"/>
            <a:ext cx="5462640" cy="597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5585040" cy="561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4003560" cy="605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828800"/>
            <a:ext cx="8496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9-21T20:09:11Z</dcterms:modified>
  <cp:revision>22</cp:revision>
  <dc:subject/>
  <dc:title>Diapositive 1</dc:title>
</cp:coreProperties>
</file>