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0.wmf" ContentType="image/x-wmf"/>
  <Override PartName="/ppt/media/image5.jpeg" ContentType="image/jpeg"/>
  <Override PartName="/ppt/media/image18.wmf" ContentType="image/x-wmf"/>
  <Override PartName="/ppt/media/image23.jpeg" ContentType="image/jpeg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1F1-40FB-454E-BCC1-B903690C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64F-8698-4CF3-8AC3-145C71E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6EA-A5C4-4147-933E-D477678F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E82-33B1-4CA9-AB18-12164B1E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437-7C61-42B5-95AA-1EF4D122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2CC-58BE-4203-8DB8-2242526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6F7-5A8B-4FC9-85EA-EDFA8F6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B94-1C78-46B0-B6AD-1A327B0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7EF-B1DD-4227-9F37-979126E5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76B-1703-420C-BD70-C4EFD91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85F-DEB7-4804-A670-413CD0E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40E-EE30-4270-84FC-BD21E63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7E57-F3A7-42F8-A9C3-40CF4BC1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1984320"/>
            <a:ext cx="8782200" cy="2886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4159440" cy="561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783400" cy="539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200" y="1508040"/>
            <a:ext cx="5473440" cy="434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871560"/>
            <a:ext cx="5184720" cy="5114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703440"/>
            <a:ext cx="7010640" cy="545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009880" y="476280"/>
            <a:ext cx="5121000" cy="590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735120"/>
            <a:ext cx="7197480" cy="538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334200" cy="628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064360" cy="475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3700440" cy="554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083120" cy="640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464680" cy="2976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123920"/>
            <a:ext cx="5400360" cy="540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4984560" cy="561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620640"/>
            <a:ext cx="4663800" cy="5619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5200920" cy="648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43120" y="806400"/>
            <a:ext cx="7456320" cy="524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00040"/>
            <a:ext cx="6766200" cy="585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7-09-25T15:44:33Z</dcterms:modified>
  <cp:revision>24</cp:revision>
  <dc:subject/>
  <dc:title>Diapositive 1</dc:title>
</cp:coreProperties>
</file>