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0.wmf" ContentType="image/x-wmf"/>
  <Override PartName="/ppt/media/image21.wmf" ContentType="image/x-wmf"/>
  <Override PartName="/ppt/media/image18.jpeg" ContentType="image/jpeg"/>
  <Override PartName="/ppt/media/image19.jpeg" ContentType="image/jpeg"/>
  <Override PartName="/ppt/media/image6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52DC-4455-4944-ADAB-F2E203E7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98E3-3E20-457B-A2F9-A5E32278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EA6E-F773-45FB-BA9F-F3261502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94CC-7C5E-4401-A121-2B9B2AE1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160E-4EBF-4D1F-9E99-7420B232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A76D-90D7-4E9F-ADB3-F9169CAC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1C1A-6836-4629-9690-26FCFEAA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2795-F27D-4B73-9E3C-656A626B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C525-57F2-497E-B6AE-31624E3A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C373-9057-4672-8DEB-46C481BF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BF4C-992B-46AC-8E06-8E872D72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F5E0-5B8B-4F76-8B3A-12067A10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3B74-6147-4564-B86C-C3D058436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291960"/>
            <a:ext cx="684216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g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892600" y="1123920"/>
            <a:ext cx="3355920" cy="4610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4753080" cy="4753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g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042920" y="62064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316720" cy="5399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g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58920" y="105264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g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947960" y="1857240"/>
            <a:ext cx="5248080" cy="3143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g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47640" y="1125360"/>
            <a:ext cx="3794400" cy="4753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755640" y="69228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g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332000" y="1125360"/>
            <a:ext cx="3571920" cy="4762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55640" y="69228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912000" cy="4607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g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g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87280" y="836640"/>
            <a:ext cx="4337280" cy="532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g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74840" y="1949400"/>
            <a:ext cx="4594320" cy="2957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g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63640" y="1549440"/>
            <a:ext cx="5616720" cy="3759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g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16360" y="1693800"/>
            <a:ext cx="3309840" cy="3468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7029720" cy="4816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g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305400" cy="6305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g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g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76360" y="1697040"/>
            <a:ext cx="6191280" cy="3463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g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00200" y="1693800"/>
            <a:ext cx="4143600" cy="3468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g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4000" y="2577960"/>
            <a:ext cx="8496000" cy="1698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g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624040" y="1544760"/>
            <a:ext cx="3892680" cy="3768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g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63680" y="1765440"/>
            <a:ext cx="4613400" cy="3327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g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940120" y="1693800"/>
            <a:ext cx="3262320" cy="3468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g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760400" y="1778040"/>
            <a:ext cx="5619960" cy="3298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32:02Z</dcterms:created>
  <dc:creator>ev</dc:creator>
  <dc:description/>
  <dc:language>en-US</dc:language>
  <cp:lastModifiedBy>ev</cp:lastModifiedBy>
  <dcterms:modified xsi:type="dcterms:W3CDTF">2008-05-20T18:19:14Z</dcterms:modified>
  <cp:revision>26</cp:revision>
  <dc:subject/>
  <dc:title>Diapositive 1</dc:title>
</cp:coreProperties>
</file>