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3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5.wmf" ContentType="image/x-wmf"/>
  <Override PartName="/ppt/media/image14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B76-0A8F-4711-8032-D70ABDBF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1A0-D348-4DFB-82C9-7007562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6FF-E8FB-4748-BA7B-B6468737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124-2E79-4DA5-A393-3006BCE3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9A7-A5A2-488A-9E9A-F7F715C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F52-BEFD-40E7-8299-834D45C7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9C0-68D6-481E-9F07-4C09A59E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A05-727C-4073-A6A0-D907C332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5AC-B236-4834-8343-68B3626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42D-0583-4B39-8CA8-2F0D819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A6F-6CB9-49D3-A141-1821869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BBF-35E8-43AB-A04C-E521BA90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E363-78E6-4934-9716-5751105D361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946080"/>
            <a:ext cx="6192720" cy="520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80360" cy="327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6335640" cy="5443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3814560" cy="640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5381640" cy="5619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6624720" cy="5065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5381640" cy="5619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85080" cy="468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2220840" cy="619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1230480"/>
            <a:ext cx="5761080" cy="502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5381640" cy="5619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120680"/>
            <a:ext cx="5184720" cy="4889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6696000" cy="4846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792000"/>
            <a:ext cx="7559640" cy="542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58920" y="98100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1090440"/>
            <a:ext cx="7416720" cy="512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289160"/>
            <a:ext cx="5329080" cy="439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351080"/>
            <a:ext cx="7345440" cy="46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466560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663560"/>
            <a:ext cx="6481800" cy="417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976720" cy="434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4532400" cy="518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538164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8920" y="1944720"/>
            <a:ext cx="6265800" cy="3397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5381640" cy="5619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568520"/>
            <a:ext cx="6913440" cy="3881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v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02-19T20:40:37Z</dcterms:modified>
  <cp:revision>12</cp:revision>
  <dc:subject/>
  <dc:title>Diapositive 1</dc:title>
</cp:coreProperties>
</file>