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jpeg" ContentType="image/jpeg"/>
  <Override PartName="/ppt/media/image13.wmf" ContentType="image/x-wmf"/>
  <Override PartName="/ppt/media/image2.jpeg" ContentType="image/jpeg"/>
  <Override PartName="/ppt/media/curv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6BA-0AD8-4E3E-AD0D-6CD17682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B09-6FCF-442A-B184-DA603368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2DD7-D394-4F2D-A54C-E05DDA3E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7EF-FD74-48B6-8A29-DCFCBFC5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347-CA69-4F38-BA45-19FE97F5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A2A-D340-4FA0-B2EE-69648537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EE8-6A35-4548-9C57-78454B4A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328-C68C-4B7F-AF6C-3372E496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D54-6070-442C-AC6C-315D63F4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8BA-A9C6-4C8A-82BF-0B620452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EA7-40EB-43BE-903F-06872397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6A78-C036-40A8-96BF-F8A5E627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352C-0954-40BD-8FCD-A5C779CDA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7.png"/><Relationship Id="rId4" Type="http://schemas.openxmlformats.org/officeDocument/2006/relationships/audio" Target="../media/curve.wav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audio" Target="../media/curve.wav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audio" Target="../media/curve.wav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7.png"/><Relationship Id="rId4" Type="http://schemas.openxmlformats.org/officeDocument/2006/relationships/audio" Target="../media/curve.wav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7.png"/><Relationship Id="rId4" Type="http://schemas.openxmlformats.org/officeDocument/2006/relationships/audio" Target="../media/curve.wav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7.png"/><Relationship Id="rId4" Type="http://schemas.openxmlformats.org/officeDocument/2006/relationships/audio" Target="../media/curve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audio" Target="../media/curve.wav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audio" Target="../media/curve.wav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audio" Target="../media/curve.wav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6920" y="1928880"/>
            <a:ext cx="6697800" cy="340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79520" y="1768320"/>
            <a:ext cx="4583160" cy="3321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ur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24120" y="1484280"/>
            <a:ext cx="3695760" cy="388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ur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74600" y="1789200"/>
            <a:ext cx="6993000" cy="3279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646200"/>
            <a:ext cx="8353440" cy="5565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ur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03160" y="630360"/>
            <a:ext cx="5569200" cy="5222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47640" y="1500120"/>
            <a:ext cx="6045480" cy="3857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ur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42920" y="849240"/>
            <a:ext cx="7058160" cy="5156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ur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19280" y="727200"/>
            <a:ext cx="5905440" cy="540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79520" y="1971720"/>
            <a:ext cx="4583160" cy="2914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9640" y="898560"/>
            <a:ext cx="8061480" cy="505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ur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56000" y="476280"/>
            <a:ext cx="3200400" cy="5908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443320" y="689040"/>
            <a:ext cx="4254480" cy="5476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706840" y="692280"/>
            <a:ext cx="3727440" cy="5473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068560" y="833400"/>
            <a:ext cx="5003640" cy="5187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ur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20840" y="119160"/>
            <a:ext cx="4700520" cy="6618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ur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54080" y="689040"/>
            <a:ext cx="5232600" cy="5476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1652760"/>
            <a:ext cx="7918200" cy="3552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ur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16000" y="1349280"/>
            <a:ext cx="6908760" cy="4159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o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311560" y="1693800"/>
            <a:ext cx="4519440" cy="3468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cole</cp:lastModifiedBy>
  <dcterms:modified xsi:type="dcterms:W3CDTF">2008-05-26T07:41:14Z</dcterms:modified>
  <cp:revision>6</cp:revision>
  <dc:subject/>
  <dc:title>Diapositive 1</dc:title>
</cp:coreProperties>
</file>