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14320" y="4138560"/>
            <a:ext cx="303048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19280" y="179280"/>
            <a:ext cx="2500200" cy="374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19280" y="4356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47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68360" y="44276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92000" y="539640"/>
            <a:ext cx="459108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4320" y="4138560"/>
            <a:ext cx="516096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63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6360" y="250920"/>
            <a:ext cx="3671640" cy="36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1928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92000" y="4140360"/>
            <a:ext cx="310068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3640" y="179280"/>
            <a:ext cx="46720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92000" y="4140360"/>
            <a:ext cx="302436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36720" y="324000"/>
            <a:ext cx="25747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948200" cy="371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847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68360" y="44276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19280" y="4427640"/>
            <a:ext cx="8002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eur</cp:lastModifiedBy>
  <dcterms:modified xsi:type="dcterms:W3CDTF">2009-09-23T13:26:21Z</dcterms:modified>
  <cp:revision>5</cp:revision>
  <dc:subject/>
  <dc:title>Diapositive 1</dc:title>
</cp:coreProperties>
</file>