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1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15.wmf" ContentType="image/x-wmf"/>
  <Override PartName="/ppt/media/image14.jpeg" ContentType="image/jpeg"/>
  <Override PartName="/ppt/media/image16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7.jpeg" ContentType="image/jpeg"/>
  <Override PartName="/ppt/media/image4.jpeg" ContentType="image/jpeg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F36F-7B75-4490-837F-79D176651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A04D-BEA0-4CBE-94C3-7B693C8E1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1D56-4446-442F-9FEA-67F2F5503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561C-178D-43C4-98D0-372602DB0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C1FA-65BC-4C16-86DB-00C4F8E38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81EF-9568-4B2C-8403-D53D2A6C9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1D22-0AAD-4511-A587-40B7E2D09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2CB3-703F-4E56-B685-44232FAC3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DE5D-7D04-4419-9130-F00629171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6359-1D1B-4A88-895A-D2D6B5D4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ABFD-254E-4256-8009-A6DB7D300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7DA7-881B-45C7-9ABF-3EA9E8CC6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19735-76B4-418B-95E2-E5E14EA659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42920" y="291960"/>
            <a:ext cx="6842160" cy="60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r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95280" y="2205000"/>
            <a:ext cx="2376360" cy="14270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348000" y="1989000"/>
            <a:ext cx="2160720" cy="1783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443640" y="1773360"/>
            <a:ext cx="2016000" cy="19335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11280" y="4221000"/>
            <a:ext cx="1944720" cy="180036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2360" y="4519440"/>
            <a:ext cx="2087640" cy="120492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3492000" y="4653000"/>
            <a:ext cx="2087640" cy="93672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04000" y="4221000"/>
            <a:ext cx="1944720" cy="180036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r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50920" y="1916280"/>
            <a:ext cx="2089080" cy="1554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3276720" y="1989000"/>
            <a:ext cx="2305080" cy="14241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6443640" y="1628640"/>
            <a:ext cx="2087640" cy="20210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11280" y="4221000"/>
            <a:ext cx="1944720" cy="180036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92360" y="4519440"/>
            <a:ext cx="2087640" cy="120492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3492000" y="4653000"/>
            <a:ext cx="2087640" cy="93672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04000" y="4221000"/>
            <a:ext cx="1944720" cy="180036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r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711360" y="1700280"/>
            <a:ext cx="1598400" cy="2232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4065480" y="1989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6892920" y="1557360"/>
            <a:ext cx="1944720" cy="2016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68360" y="4448160"/>
            <a:ext cx="2087640" cy="120492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468000" y="4581360"/>
            <a:ext cx="2087640" cy="93672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77080" y="4149720"/>
            <a:ext cx="1944720" cy="180036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08360" y="4448160"/>
            <a:ext cx="2087640" cy="120492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3708000" y="4581360"/>
            <a:ext cx="2087640" cy="93672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r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50920" y="2060640"/>
            <a:ext cx="2160360" cy="17319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3059280" y="1484280"/>
            <a:ext cx="3095280" cy="22161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6877080" y="1413000"/>
            <a:ext cx="1708200" cy="2303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95280" y="4257720"/>
            <a:ext cx="1944720" cy="180036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51280" y="4257720"/>
            <a:ext cx="1944720" cy="180036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7080" y="4257720"/>
            <a:ext cx="1944720" cy="180036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r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395280" y="2125800"/>
            <a:ext cx="1785960" cy="11649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3780000" y="1844640"/>
            <a:ext cx="1647720" cy="1728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020000" y="1700280"/>
            <a:ext cx="1539720" cy="2016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637080" y="4354560"/>
            <a:ext cx="1944720" cy="180000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4510080"/>
            <a:ext cx="2087640" cy="120492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68000" y="4643280"/>
            <a:ext cx="2087640" cy="93672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32720" y="4508640"/>
            <a:ext cx="2087280" cy="120492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32720" y="4643280"/>
            <a:ext cx="2087280" cy="93672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8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r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95280" y="1820880"/>
            <a:ext cx="1728720" cy="14112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348000" y="1700280"/>
            <a:ext cx="1800360" cy="16524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6372360" y="1779480"/>
            <a:ext cx="2484360" cy="1494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11280" y="4221000"/>
            <a:ext cx="1944720" cy="180036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4519440"/>
            <a:ext cx="2087640" cy="120492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3492000" y="4653000"/>
            <a:ext cx="2087640" cy="93672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04000" y="4221000"/>
            <a:ext cx="1944720" cy="180036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2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3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7T20:32:02Z</dcterms:created>
  <dc:creator>ev</dc:creator>
  <dc:description/>
  <dc:language>en-US</dc:language>
  <cp:lastModifiedBy>ecole</cp:lastModifiedBy>
  <dcterms:modified xsi:type="dcterms:W3CDTF">2009-11-06T08:21:49Z</dcterms:modified>
  <cp:revision>29</cp:revision>
  <dc:subject/>
  <dc:title>Diapositive 1</dc:title>
</cp:coreProperties>
</file>