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A1D-7A9F-49E1-AE46-596BD27E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39E-126A-4138-9EB2-AE7B8D01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E9E-C498-4515-91A4-32EACEA2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8F5-936A-4EB0-8983-3BF88540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2EC-52C4-4904-BF17-215E64A6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34A-D1C4-499F-9209-C8BCF979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3A9-3765-4008-8429-B69EC94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910-1B33-4A07-8514-AC174EF9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F8A-DFF7-4C35-93A7-B97D3529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5DE-01BE-41CB-8E4A-0994682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37F-062D-4B89-9B04-E775493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763-3BAE-4301-BE21-640F5BB6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5FFC-2404-4728-80E1-B603A5CCC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6408720" cy="4503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1379520"/>
            <a:ext cx="7775640" cy="4336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5472000" cy="547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84360" y="476280"/>
            <a:ext cx="456084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90400" y="1892160"/>
            <a:ext cx="7963200" cy="307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4815000" cy="482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1701720"/>
            <a:ext cx="6107040" cy="460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554120"/>
            <a:ext cx="7632720" cy="413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904000" cy="5904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30120" y="549360"/>
            <a:ext cx="5432400" cy="597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930240"/>
            <a:ext cx="7273800" cy="5608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6048360" cy="394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826920" y="1052640"/>
            <a:ext cx="547380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7777080" cy="2813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307040" cy="431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3718080" cy="489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3898800" cy="612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55640" y="1957320"/>
            <a:ext cx="6985080" cy="324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6920" y="1839960"/>
            <a:ext cx="799308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1280" y="1022400"/>
            <a:ext cx="5976720" cy="525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09-07T19:43:20Z</dcterms:modified>
  <cp:revision>22</cp:revision>
  <dc:subject/>
  <dc:title>Diapositive 1</dc:title>
</cp:coreProperties>
</file>